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01E-BCA6-40DA-A0DE-3ABCA558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F74-D958-4454-95E4-3F72340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4C835-DFCC-4FAD-AC0E-5B5FCBDD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B3CF-34EA-4E7D-88C6-6AAEA22F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2BF2-0B1D-464A-8C35-EA1FC4F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00A8F-2AD4-4AF5-878B-3DD16F5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28420-C548-4876-A36D-02E3403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D4495-28DD-46D3-ACCB-BDE9216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841B-D362-4DA9-B675-73075E72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72C09-97DB-42E7-A420-608FC42F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6C35-D807-4EB1-8FB2-560B5C87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B6DB0-B9A8-489D-ADF8-38660CFE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51B-0A54-4608-B727-FC0DC9BD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9A8AF-CE4A-46B7-892E-0A8DD9A8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EF0DC-DB2F-42B1-B04E-99A851C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46359-B1CE-4160-A317-CA42EE1F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5B9B-F93B-4570-B77D-95A6AE7E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0216-D98A-480E-AF81-79C2FFA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B40D7-30EE-4C87-878E-F395CF1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7F7A3-705B-4837-A88A-0666C5E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F27B8-1350-445F-897C-E274F9C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7CB52-D225-4FB9-AC5F-1EAB070B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A6281-FC97-4306-9F99-B9BE3FB8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A40-0B1B-485B-B134-C2E77B0B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142CA-3D42-4EED-9CC5-B848D5AD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B8C47-8B51-4354-B3D4-710F6DD5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C3E74-1EC7-4F0F-B792-B2D9970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626AB-2EB5-4E1C-AF8A-E1080B43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257D7-8500-4767-B30B-F3D72D92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3BF3-5F0F-4A83-993E-61E7C0F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CB2F5-334E-4933-BCE6-DA1827B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FBE47-9002-4DEC-9204-050BF84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2C4E1-0BC9-42E6-95D7-E663EA6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405E3-C4DC-4BFC-914A-D1E9A56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3A3-A92E-4380-8D36-F2E306A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AC24C-1814-4BA8-A5E7-DD53EC2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72144-9249-495D-A54D-4A9EE7E7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6109F-0B70-4389-8CED-BA20D10F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BC4E-0106-4E31-BB11-F79C77FF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6D88A-DC5D-40B9-A745-F2C8F6C3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C4A6B-4E43-42D5-B71F-37A0111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07873-0492-410D-875A-18621AE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F1C1C-03F7-4A05-BC21-25E39C74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5A1A3-E5C6-4899-8545-22A5983C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F5925-0EC3-4B8C-AB2C-8C795D4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669-EC4F-4393-9C8F-CB31DB2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264C-DB65-40B1-8070-4920D84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0969C-18B5-408E-8F42-C224925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CE109-266A-4E52-AADA-742E374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47EA4-DBA2-4027-9BC8-B80539E3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5D861-C76E-404F-942F-919480D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9DFC3-54D7-4383-B4E3-F9FC8764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57A9B-9947-488A-8D44-2792942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FA377-F8BE-4034-9865-99EE7145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2F8E7-3C84-4456-BEFF-1042593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C7681-8CA2-4028-9E29-F24EF95E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1054-16B8-4D66-B6C7-F10BB15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79D3E-765B-4BCA-969B-2A0F3F5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75C05-33A3-435B-B616-68830C2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1271E-AB35-4C14-BE4E-C7D97BAD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FFABF-A486-47D1-9730-FD935A7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99A42-9CA0-4EA8-9BB5-9B7B41C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30F97-E4F8-4C23-8BDA-B23CB069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DFB27-6894-4F5C-9664-92341378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D90-F72F-4C88-A91D-F82552C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0A18-4F92-40B5-8534-24C7162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79E5-16E7-47A3-9229-3F0167C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0D0A-FDD1-49D5-A372-9BB4CF9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585-C32D-4839-B541-D4BFCD31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375-74A3-4416-8F89-F86FD99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5309-DEBF-4C78-ADF9-6E2403E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795-1E95-4DD0-96B3-ECAFACE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706-02D8-45F4-9EBC-0079EDEF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421-9814-4014-AF47-A54CB05C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5FD2-D3A1-4CCF-91E9-F8B7AC32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DF10-05CE-4621-8D3B-919658EE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E715-4168-4A99-A4F0-A167AED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5497-0E81-438A-B7F0-962F71A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D993-BB0D-4219-BBB4-931F79EB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68A-3F46-4461-875A-21887AB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2705-4194-4F9F-8E6A-204AF486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C96E-E53D-4C3F-97D3-3B729651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AFF0-4659-4512-BD23-B3DEEAB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182C-CD35-442F-9F74-D045438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78AA-E1E7-41A5-97C1-F3F5287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BFAF-CADA-4BC0-A750-D1E382E2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E86F-8EF0-42D2-B3DE-A66BBBAD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47DD-4BC0-4DB1-A671-055727E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98BA-FE26-44BB-8ECF-CC77C80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CD5C-BBF2-4CA1-8CB2-C3719C53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2FE-EC74-478B-A677-3E486DF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A535-3DD4-4A50-A4B8-9A713C1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6508-1333-4549-B3BD-669B6DE9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E226-C2D2-4EBD-87FD-C7B92F9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362E-5A4C-466F-A067-D604DCA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8925-058A-498D-9E1C-7266373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5443-6646-4273-B054-D546829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CC8B-5362-4F89-B9F3-DD2741AE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2DE1-819A-40B0-AA0D-07B6BA6B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8E93-924B-423F-AA9C-4B62B59A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63DBB-5B84-4FF8-8FD2-367A9249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8AA-E443-4785-AA6D-AB58512F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CFC5-4B5A-4A10-83C8-B2337A3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1535-6080-41FE-BD3A-9109F7BB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3DA1-3173-4538-980C-AE21542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F7F53-2839-4CFA-8CFB-75FC08F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0157-DF18-463E-9AE7-697778F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1000-E9C9-4F2D-B5FD-9BB60DA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6AB1-97D2-4CF9-8908-53C92E2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A054-08E0-4914-B983-F2211E4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B0A9-07D5-4B01-B377-61D568A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7C5B0-C254-4BE8-B3FA-B33B4E0E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4FC-F76D-498E-B646-51A5F3A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D032-8BEE-4BE4-A4B8-12FD94E4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DA3A-293E-4B75-B5A2-15DDBE35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4037B-23AF-45C6-8932-218BEFE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E1EF-E6AA-4494-9EF7-C1E37D2D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7F98E-1A3B-47CC-96A8-B33027D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AABA-0871-4433-98C6-E13118E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F302-7239-419E-B1E9-696852C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8D3D-C4A4-4F56-83D3-44CB955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5225-905A-46D4-8CD4-FA989ED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7917F-FD77-494B-A103-C0B12FB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301-9C9C-47F6-ACC5-2A7D430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39D6-0413-4504-A18D-DD2ED5B5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4E70-DC23-48B1-B7F8-08CCA8AD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E415-5468-4018-B176-F27F3B9B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F5B4-1EFE-4F85-869A-533D87D0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BD44-0B17-4705-8784-1256E8D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7B6D-4941-4A94-99CD-D0A88D4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A548-B6F5-4742-9E0F-737DF554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D1B0-6E73-47E6-8879-B8069A9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E122C-A854-41C3-A6FC-EA9F1CE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1EC5-3225-4187-A8D3-BEFDD5C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CD3-50B0-4D16-B1F5-7D07271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3AA3-6EB2-4197-AA89-253B81C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5F71-8A54-4563-ACC0-24A40AD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9A80-5A17-4B98-9903-0320CBA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7683-FD41-4B5F-A9C6-61A12C21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929D-BC39-4A47-8FBF-6FA8C91F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974A-8451-4001-8810-4B4F4EA1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4666-E4ED-45F3-948C-316AAF3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0504A-211B-4E99-8A2E-F13CAE8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413C-ACA6-4917-8CD9-247825CB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449C-E972-404B-9EA9-4CA3291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84E-2B1B-4AC1-91E3-21F6C727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BC5E-DEDE-46A7-800A-F1BF5EB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C3B0-7EC6-4D8C-B2D1-542C38A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DD13-BC28-4B4C-8257-BCB87EE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B0DBE-D013-4831-A517-2B782DD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B23D-FE39-4854-839E-21081AF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F8282-19A6-493B-A7CC-F594CA77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B027-CAE9-44AE-9CFD-023D7D3B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7D20E-E473-404D-BEA0-DD998018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06D1C-367D-493B-B021-87C22266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22A5-9F04-492B-97C2-5A4897B1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D3E-6A4A-4BC7-8F07-C0F6E39F64C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463-DA2B-4450-B762-C1E3E8293DD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008-C0C2-4BDA-97A5-D0CCC661296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2A1-AE9C-4083-8596-21CB91724FB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580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3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84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7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588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13EE-549A-4CB7-9042-29D677F3C4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2BF-51AB-45B8-83D4-17D92BE3845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DAB5-6D44-456B-9ED9-2B642EF636D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3D0E-7599-4714-B2F2-D141B5BDC32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000-8708-4DCF-8077-5A77CA3A46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646E-9A6C-401E-BD24-0D734652B05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4A17-3DC2-4512-A808-2538978BB56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18D2-12BD-48E9-A311-FC2AB37AC65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D515-07CD-49D6-B0F2-5E8888273BA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lub.itdrom.com/files/gallery/gal_photo/portrait/6347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newsamara.ru/images/news/image_6825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глицизм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English word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Прямоугольник 2" descr=""/>
          <p:cNvPicPr/>
          <p:nvPr/>
        </p:nvPicPr>
        <p:blipFill>
          <a:blip r:embed="rId1"/>
          <a:stretch/>
        </p:blipFill>
        <p:spPr>
          <a:xfrm>
            <a:off x="768240" y="542880"/>
            <a:ext cx="8186760" cy="2024280"/>
          </a:xfrm>
          <a:prstGeom prst="rect">
            <a:avLst/>
          </a:prstGeom>
          <a:ln w="0">
            <a:noFill/>
          </a:ln>
        </p:spPr>
      </p:pic>
      <p:sp>
        <p:nvSpPr>
          <p:cNvPr id="635" name="Подзаголовок 2"/>
          <p:cNvSpPr/>
          <p:nvPr/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alakchov  Arseni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 of appearan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44720" y="1523520"/>
            <a:ext cx="4041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7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a157a"/>
                </a:solidFill>
                <a:latin typeface="Corbel"/>
              </a:rPr>
              <a:t>В эпоху Петра I  эти отношения укрепились. Большое значение придается изучению иностранных языков, учащаются поездки русских за границу. Петр I, побывав в Лондоне в 1698 году, привез в Россию математиков, инженеров, мастеров. В этот период в русский язык проникло 3000 иностранных слов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a157a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3520" y="1371600"/>
            <a:ext cx="4039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Началом сближения англичан и русских принято считать 24 августа 1505 года, когда впервые корабль английского флота стал на якорь в гавани св. Николая в устье Северной Двины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Капитан корабля Ричард Спенсер, был принят Иваном IV, царем Московии. С этого времени у России с Англией завязываются регулярные и довольно прочные связи, политические и дипломатические отношения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9" name="Содержимое 13" descr="ivan_the_terrible5[1].jpg"/>
          <p:cNvPicPr/>
          <p:nvPr/>
        </p:nvPicPr>
        <p:blipFill>
          <a:blip r:embed="rId1"/>
          <a:stretch/>
        </p:blipFill>
        <p:spPr>
          <a:xfrm>
            <a:off x="1447920" y="4470480"/>
            <a:ext cx="1798560" cy="238752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48"/>
          <p:cNvGrpSpPr/>
          <p:nvPr/>
        </p:nvGrpSpPr>
        <p:grpSpPr>
          <a:xfrm>
            <a:off x="1246320" y="0"/>
            <a:ext cx="6941880" cy="5043600"/>
            <a:chOff x="1246320" y="0"/>
            <a:chExt cx="6941880" cy="5043600"/>
          </a:xfrm>
        </p:grpSpPr>
        <p:sp>
          <p:nvSpPr>
            <p:cNvPr id="641" name="Text Box 43"/>
            <p:cNvSpPr/>
            <p:nvPr/>
          </p:nvSpPr>
          <p:spPr>
            <a:xfrm>
              <a:off x="1246320" y="4581360"/>
              <a:ext cx="1839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42" name="Picture 47" descr="ag00317_"/>
            <p:cNvPicPr/>
            <p:nvPr/>
          </p:nvPicPr>
          <p:blipFill>
            <a:blip r:embed="rId2"/>
            <a:stretch/>
          </p:blipFill>
          <p:spPr>
            <a:xfrm>
              <a:off x="7238880" y="0"/>
              <a:ext cx="949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3" name="Содержимое 8" descr="petr[1].jpg"/>
          <p:cNvPicPr/>
          <p:nvPr/>
        </p:nvPicPr>
        <p:blipFill>
          <a:blip r:embed="rId3"/>
          <a:stretch/>
        </p:blipFill>
        <p:spPr>
          <a:xfrm>
            <a:off x="5181480" y="3581280"/>
            <a:ext cx="259092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Corbel"/>
              </a:rPr>
              <a:t>Транспорт</a:t>
            </a:r>
            <a:r>
              <a:rPr b="0" lang="en-US" sz="3100" spc="-1" strike="noStrike">
                <a:solidFill>
                  <a:srgbClr val="ff0000"/>
                </a:solidFill>
                <a:latin typeface="Corbel"/>
              </a:rPr>
              <a:t>-transport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English words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         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6" name="Picture 2" descr="Картинка 1 из 150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95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Картинка 6 из 1500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429000"/>
            <a:ext cx="2486160" cy="1905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http://andre.start-info.ru/pub/mypersonalphotos/200801_samara/transport/dscf3239.jpg"/>
          <p:cNvPicPr/>
          <p:nvPr/>
        </p:nvPicPr>
        <p:blipFill>
          <a:blip r:embed="rId5"/>
          <a:stretch/>
        </p:blipFill>
        <p:spPr>
          <a:xfrm>
            <a:off x="6248520" y="1676520"/>
            <a:ext cx="2679480" cy="213336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"/>
          <p:cNvSpPr/>
          <p:nvPr/>
        </p:nvSpPr>
        <p:spPr>
          <a:xfrm>
            <a:off x="4201200" y="90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бу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orbel"/>
              </a:rPr>
              <a:t>Спорт</a:t>
            </a:r>
            <a:r>
              <a:rPr b="0" lang="en-US" sz="5000" spc="-1" strike="noStrike">
                <a:solidFill>
                  <a:srgbClr val="ff0000"/>
                </a:solidFill>
                <a:latin typeface="Corbel"/>
              </a:rPr>
              <a:t>-sport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1" name="Picture 2" descr="Картинка 63 из 790583"/>
          <p:cNvPicPr/>
          <p:nvPr/>
        </p:nvPicPr>
        <p:blipFill>
          <a:blip r:embed="rId1"/>
          <a:stretch/>
        </p:blipFill>
        <p:spPr>
          <a:xfrm>
            <a:off x="609480" y="4876920"/>
            <a:ext cx="2667240" cy="17240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Картинка 102 из 790583"/>
          <p:cNvPicPr/>
          <p:nvPr/>
        </p:nvPicPr>
        <p:blipFill>
          <a:blip r:embed="rId2"/>
          <a:stretch/>
        </p:blipFill>
        <p:spPr>
          <a:xfrm>
            <a:off x="3352680" y="335268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Картинка 8 из 208774"/>
          <p:cNvPicPr/>
          <p:nvPr/>
        </p:nvPicPr>
        <p:blipFill>
          <a:blip r:embed="rId3"/>
          <a:stretch/>
        </p:blipFill>
        <p:spPr>
          <a:xfrm>
            <a:off x="6095880" y="1371600"/>
            <a:ext cx="2895840" cy="18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88000"/>
          </a:bodyPr>
          <a:p>
            <a:pPr marL="47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Экономика</a:t>
            </a: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-economics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5" name="Picture 2" descr="Картинка 2 из 47787"/>
          <p:cNvPicPr/>
          <p:nvPr/>
        </p:nvPicPr>
        <p:blipFill>
          <a:blip r:embed="rId1"/>
          <a:stretch/>
        </p:blipFill>
        <p:spPr>
          <a:xfrm>
            <a:off x="533520" y="4572000"/>
            <a:ext cx="2590560" cy="2286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Картинка 22 из 2348"/>
          <p:cNvPicPr/>
          <p:nvPr/>
        </p:nvPicPr>
        <p:blipFill>
          <a:blip r:embed="rId2"/>
          <a:stretch/>
        </p:blipFill>
        <p:spPr>
          <a:xfrm>
            <a:off x="3429000" y="35812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Картинка 21 из 284337"/>
          <p:cNvPicPr/>
          <p:nvPr/>
        </p:nvPicPr>
        <p:blipFill>
          <a:blip r:embed="rId3"/>
          <a:stretch/>
        </p:blipFill>
        <p:spPr>
          <a:xfrm>
            <a:off x="6400800" y="1447920"/>
            <a:ext cx="2438280" cy="213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итель</cp:lastModifiedBy>
  <dcterms:modified xsi:type="dcterms:W3CDTF">2012-01-22T20:09:51Z</dcterms:modified>
  <cp:revision>30</cp:revision>
  <dc:subject/>
  <dc:title>PowerPoint Presentation</dc:title>
</cp:coreProperties>
</file>