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818-2871-4249-896E-E844B1B7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411-9DD6-4A58-B6A6-B0642CFF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E238D-635E-4E97-AAF5-A783A178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5DB1F-21F9-44DC-A251-4DC8CF86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47E37-3D5A-4285-83CA-9E92A8A5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5DB41-1FFE-48E4-9B16-609F97CE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27DD1-D235-4BED-9540-23018FA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BF677-462F-40D1-A307-56F68FF4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FB070-2462-4738-8750-AD00B48E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DBC1A-85C9-4BB8-993A-4FFC328A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1862B-7DC9-4ECE-BB9A-8959918A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794D7-9629-4603-911E-CEC76467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494-AF97-40F8-B2A4-B1D55298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22807-EBD0-492B-9A07-948D5CE1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246C5-A852-4629-8892-9D58A6C9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300A9-FC79-41E1-829A-460F453F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8B821-D618-40B0-A510-C15A249A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8A4AE-D307-4AAB-B943-A4FAD9C9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2F19E-0395-4F03-935B-822EABB2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D678C-2654-4C52-84F4-D7F9BBB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120C6-0BDD-4EE4-86F1-757ACCA5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22774-C441-427C-92B2-0E9E9ED6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9223F-EB29-4672-9F5A-2351E7A8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678-44CD-4B57-8B4B-6C82264B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C315B-E0B5-4C79-AB96-47D160E7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96875-2269-4B8F-AC9C-3219DF8F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8F768-0CC5-4D39-BE84-59B721FB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D9FA0-78F6-4A3A-8255-DCF92D08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F319-ECF8-4430-A4D2-D5E8AE7A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A189E-B820-42ED-952D-7F4E5DF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368D3-BEF0-4A1A-8A76-206CBE71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B8AC9-ABB2-4A2C-BCCA-D0CF7FBA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48667-20BB-48AE-A47E-1D09E438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8302-293C-4919-B6BB-740395EA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C85E-7EB5-46A0-9892-2BC5E49B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66C2B-5814-4544-BF24-0C61818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FEAEF-CAD5-4282-AA11-A9D7F84C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49CC6-246B-473D-8D94-0ABE02F9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A6D50-95F7-4E77-A707-4C2B9C28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9EADA-EC77-42E9-9033-7A95942B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5CB5A-073E-44B4-A4C6-C1787879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EB777-2F33-42A2-A246-17821037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A5091-E5F9-4842-B3F6-0F9A75E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878D5-ECE6-4CB1-9C8E-DE08299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337C0-B119-4814-AA85-425802F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25D0-F0FE-4274-9549-C8BE4BEB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12CAE-C257-428D-99A8-6495C1DE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53BED-96D7-4A5A-918B-1CB0AE0A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BB369-6118-44E8-9D52-8CA7F6DA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D39EB-5347-4DB0-BC2D-DE3C3905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99020-F699-4719-90B1-989DC16A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CB7D2-860E-47DD-AC61-9B9D50EC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565BE-C7D9-47FF-8038-C49D471A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E805D-3AC1-4DEF-9EE2-1140ED24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2C9F1-B0ED-48A3-B3CE-533D06DC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6CBE3-431F-4EF1-A43D-C73A5D56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A3CF-456E-4ED2-A8B0-7EE14384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9A946-6ECD-4322-A500-A3089512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CE64A-C033-4C6D-AD79-7EE19B41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9C2B6-2866-442A-A21F-66517CFD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0F719-FF07-4313-A0A0-212D22AE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F5CAA-B323-4E26-8527-39C57707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B9317-3298-49C5-AF54-F8F13FD6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77BDD-6F0C-4587-AE6A-6E09E04E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64471-14CD-4C5B-80AD-727C5300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3D6AA-9714-4081-8F30-8A2CB460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5431F-103D-4EA2-BF09-5E04BB47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A489-701D-4A32-A311-941A188F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66C8D-6034-43E8-9755-C02BE32D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DF5C9-B31C-4599-BC94-BA65672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DE09D-8E38-45A9-898C-C4F3FD76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D8FCB-C44D-477B-8928-5C39B65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917C2-D16D-46E4-9B26-402FFD2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3B75F-6CE3-4EC1-B355-11FCC149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15B4D-F02A-461E-94C9-6564C5A2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AFE84-1568-4465-B0FF-99CF90B3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9D3C3-FD42-4989-AFA5-2C223695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C0C79-70D2-4472-9516-885BB33E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7FF5-D574-414A-9292-D7432D7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8A59F-DC8F-43E6-BAEB-97CE0D1B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DA7660-444F-4C03-A9EA-67693C34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BE9D3-2B73-413E-BD7D-1323D924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3ED29-B277-405D-A735-58C6644E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AA4DA-6BAB-4AD2-9D5D-F93FF7DA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28411-616C-4A39-BBAA-B0150CE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5B457-B9E7-4DBB-8A3E-31E60BB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CFD61-87D6-4AFF-9EF7-49E19D6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4DA95-5431-4949-BDFB-DFBDB106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83D12-A5A4-4A1E-BDA3-C1262B9B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33B9-2CE0-4F1A-A2F8-81820C7F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E3D9E-7CFB-4113-9F38-7083BD0A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EF5E0-EFDC-4598-BE91-1D95EAFA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0855A-31A4-40A9-BDD2-0CDE617C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F7903-44A1-4732-AEAB-86C3798C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23D8F-00A8-42FF-A3FB-7975FBD6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D6F2E-427A-428A-A930-EE9E85ED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4A828-0B29-49E4-9E28-5116549F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337C5-FD7A-4BA3-A1B1-A77ABCF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408AE-43BB-4B9C-AFC2-BA83469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2670B-B709-4D85-9572-711F607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DD98-ADAE-4F49-99A9-B1494337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2EE37-97E9-4CEE-B2DD-3172ABAF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00806-BC20-4CF4-83CC-819B9A88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DE066-48B1-4D93-AEF9-B4DD9828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990C0-9C5E-4AAE-A111-601CB742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40ED51-A6D1-4DE7-B2CD-D88B0C53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FEF8E-DAC2-4B2E-B0C6-396C7E46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2CE92F-A443-4772-8D9B-8E17ECC1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51975-E32C-4891-A1F4-DA0B3E6C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E56D4-3C9A-460B-8B5F-3532F388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3AC85-71D0-4312-839F-6C3B9A68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AA8-D50C-44C6-A057-1FEF0654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CE43-C104-486C-B48A-ED271B51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98874-26B8-47BB-99AE-F49394E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2E3E1-1ADD-4385-8E80-34325A1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F25C8-9B52-4D24-9F24-EF92EA38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B0BE2-B3E2-4295-93A8-AB4C2C98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249FD-6CF6-4DF1-9074-B0D02F6F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80215-8E82-439C-A456-D7106721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4970C-FC82-4558-83E3-8AEE5FCE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860F7-A25E-4AC0-BD62-A009FB25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E8FEAB-E7B4-460C-A75C-663F0452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F624C-62D4-4081-B6DF-81030C99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7397-CD20-49D9-A13C-0B1F0BF3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5D772-58C7-45FA-91F3-1DAB7E29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C7CFC-7FFA-48B3-979C-C922660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78C9D-3709-43DC-9466-E98157A5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9899C-9927-48EA-BA93-DF0CCB3A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C13FA-8483-4B3B-BEC2-231D6E41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1320E-F74B-4DB6-B94A-7E54A2BA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8B855-C313-4747-8F13-15918BC8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25C3D-45A8-4B11-B71D-C02D5607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B8CFB-E418-48E5-97AE-F2EFE812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D9DC58-8DBB-4262-8D96-23F3FA80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5196-571B-418E-9248-BC7332C6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7F995-D101-48CB-9EA8-1A60F9C2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AE8FB-C474-4271-BFA5-95070AB2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0EFF0B-ED81-474E-944E-B8D5E275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387280-45FB-4928-8A2A-5F54275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5AC181-59F6-4DD7-9C14-F625B860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7076A-A3C1-4E72-88D2-E9B431AE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2E9EC5-8D3C-47D9-9DCE-0B8F16BE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941AB3-D037-4AC7-A8A0-4F76DE7B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A856C-AC5E-4B74-A29D-B3A6501A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90AEE-6555-49E9-95AC-FC97DFFF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0B47-F5AD-4578-A879-373F2A64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FEADD-B87C-47A5-8FBC-7E6D3AE7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E4320-3639-4970-9B2F-55565FBB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870E6B-CC3B-4343-B8FC-EBA60DE1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ED103E-9B0A-4FB5-A56C-E2248E36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4A8F0-253B-44CA-A918-99875AC4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13331-2FC5-4965-AF4B-51B880EA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94B64-95EF-452E-B1A1-D0331FA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DA083-4C1A-41C5-8CD3-95FFAF11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3C41B7-E718-49FA-AB13-6C56CE0A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214929-EB75-4024-9463-8654A763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62CD-633D-472C-88CC-45E6CF49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6FF24-47EA-4845-AE1F-661DB66B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A9F7-B534-4561-B5A3-A34AB700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7C55-BAD2-49B0-A35B-6454B1CA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C33E-FE38-493C-BAB5-86328071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1073-1C29-4B0C-9DF1-B703ADFB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983A-84F3-445A-B05E-E8D47DDE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9B8-E792-41CD-BA0F-84FA6665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B2A1-06EF-4EDF-9349-7681A66F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25A7-43C1-45A8-819E-A4F1A196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F700-7735-4E97-B944-84A563F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F22E-510E-4C89-B4FF-8505731F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E389-1C53-4477-9A61-4D982E76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14C2-D928-4D5A-B655-880549EA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020E-B2BE-40EC-B9B5-7723791C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72BA-6FB7-47AC-96F4-76ED293E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A1A8-5B8B-4177-963D-C504DCDD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033D-6225-47FF-B057-BB14C9BC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61E-4FF3-46E9-AE61-67FED7F1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D97B1-2BAE-4FFC-835D-8B712C24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8BC71-85CA-48FB-A82A-66053B3C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2658-6CE8-4CA8-B088-57BDCB37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36BF-0D1E-45B5-B405-A72A8AB5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85F9-F25E-4BEF-8B9F-D265DF0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A352-CBC1-42A0-8BAD-89C9F6B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BA09-C82E-47F0-B8F0-3C0FD9E6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0E13D-30F3-469D-964B-7D3E319B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DC874-21FC-4D1D-9C36-92EEC057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8A351-2D13-4041-933E-1D1E1164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2DA-5B7B-446A-90E2-3098EF5B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0A913-253C-483B-AF0D-712E7FE4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FBD0-F4E1-4F52-937F-1F0556AB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C12EC-4B14-494B-B492-675EC7FF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6C41-A0C2-41CB-95AD-EB9DBE4F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11A8-86A0-436C-B50C-BC1E0B6E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FFA84-40D7-460A-9FD3-E34373E1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35A0-2F1C-4054-82EA-D865D31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1DAF-0D3B-4434-9221-520EFAE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871F-E673-4297-B553-F43F21CF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DCC2D-6D21-4B9E-8DEC-57D76261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659-3CC2-423D-AA4F-03FCA5DB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AF0EE-B9AF-4493-8D6B-76CC90B6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8EF9-A11E-4B4C-8C79-26B9B632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6E53-AF30-48BA-90F7-98632981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24A53-92F6-491C-A56E-0ABB47B8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63C61-94E7-4776-9EE4-1A5AE28C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3E81D-67B6-40BE-9F2C-F40DF47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F878E-342D-48E3-B334-E857D50D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D2D21-E89A-4BDC-BFF5-C6B2EE81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E83A8-9D66-4257-9876-DB47B2C2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228F-2D97-4AA0-9E54-296D68E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663-C136-442A-850E-1D530A5C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93C9A-E63A-42EF-9D55-EA08542D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68B77-FBEB-421E-A9B6-4EB6F32D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118F-56E3-4A63-A619-9FB9E519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5BD2A-1218-44AB-A840-184A01EE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18286-41AE-4180-86EE-77434F38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E4F06-1FD8-4DCC-BD41-56B08A9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97C0-F71F-464A-A1C0-468E94A2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78773-CD9D-4533-8532-3E7D4B7D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3D99C-8720-43F2-98EB-ADF3C9EE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69277-2F8C-4274-8865-4EF1E5B9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BD9-18FD-46B6-9519-8F585376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0E88C-48B6-4F6B-AF0A-E3E3269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9903A-22BF-4691-9EF0-82C6EFB9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E794-BB51-41DC-97F7-FAFF1B4F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B26C7-57A2-40DE-BFFB-1EB5E105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5993D-86FE-4171-983B-5F04540B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10766-CD45-4384-8C99-B1BAFD0C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8D3B9-E972-4011-83B1-A4490075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C0A8C-4D92-445A-93FF-5DF4F48E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F6F62-D1A3-4739-9F00-8E26D676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1D164-1C88-4A51-8C39-846A8BAC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11D-7CA8-4149-B813-C64371EC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58CA-1D53-4A03-A5F3-FE1D2188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F4ABA-C2F4-403D-9B82-59936F5F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FE76D-3ED4-46C3-A5E6-DD9F249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45C52-1D42-4242-BC19-AEC406C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023C7-F94C-45CD-8765-6AC51BCE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8CE8-1CE6-482D-82B7-C6866798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298CC-68CF-4340-B797-F1899348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9E2D9-C6B0-449E-B1A8-EF7CB9BC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FD47C-41E9-4BF9-95C1-2530A061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1F363-02C6-4560-A284-6EC8EA98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F721-AAF8-4648-BB05-43C14D09E016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AF9E-8006-4B2E-B09C-FE54754CCD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0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0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AB90-478E-4FE4-B7B8-ACF478FE1C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4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4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FCDF-6568-468D-84DB-00F1D33316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9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9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CA1C-59CD-4C4B-8D12-4E1735CAD4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3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63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7EFE-DC67-4C14-B06A-B071925F75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7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67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0FF8-DD5C-4ECE-818B-23127AA953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2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72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09EA-9953-4A60-BEE6-684631E146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6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76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F468-BF94-4B8F-898C-29043ED0A7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1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1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2CF8-66CA-4205-8B9C-63F741CB80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5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5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0897-FFA6-4F80-BF74-C08BC7D5A1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F6B-D733-41A3-B8E3-8459FB0C698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9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A3ED-5524-4364-8A63-69461F4BEC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D6C8-FF60-43EB-85D3-5D99A408A9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8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5B03-1353-418D-8EE9-865BFA018968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4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2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CF6B-22F9-4175-9CA3-51470057649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6BE9-9D07-40B1-9EE8-41C85D99B55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2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8C23-41A7-4C22-A2CA-854E9120AEB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FD7F-6504-42F8-99F7-FDD2286EB8A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1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7AFF-ADE6-4C9B-823F-9E5D17FCFCE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Заголовок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аимствованная префиксац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orrowed prefix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ndyapin  Ar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Borrowed suffixes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Suffix –er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e usu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ord with the suffix   -er and we don't think from wh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language 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This suffi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into th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Russi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rom the Engl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nguage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There are many words with the suffix -er in  English (poster - постер, mixer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сер, toaster - тостер). Suffix -er can convert play into the player (football - footballer, bike - bik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Suffix -ing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uffix –ing  is similar to the suffix -er. -Ing als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from the Engl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ngu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n’t man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ords (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ing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bouling - боулинг, diving - дайвинг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Suffix - ist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uffix -ist, probably from French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in  English there is no suffix -ist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uall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in  Russian) use suffix -ist, when we speak about the player (футболист, баскетболист), and in Engl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is used suffix -er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l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Suffix -age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uffix –ag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d fr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French. There are very many words with suffi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раж, тираж, багаж, витраж). Some words with the suffix -age are formed from the verb (дублировать - дубляж, блокировать - блокаж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We worked togethe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Comic Sans MS"/>
              </a:rPr>
              <a:t>Tovstiko</a:t>
            </a:r>
            <a:r>
              <a:rPr b="0" i="1" lang="ru-RU" sz="1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c00000"/>
                </a:solidFill>
                <a:latin typeface="Comic Sans MS"/>
              </a:rPr>
              <a:t>Dasha,</a:t>
            </a:r>
            <a:r>
              <a:rPr b="0" i="1" lang="ru-RU" sz="1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c00000"/>
                </a:solidFill>
                <a:latin typeface="Comic Sans MS"/>
              </a:rPr>
              <a:t>Azimova Milana</a:t>
            </a:r>
            <a:r>
              <a:rPr b="0" i="1" lang="ru-RU" sz="1400" spc="-1" strike="noStrike">
                <a:solidFill>
                  <a:srgbClr val="c00000"/>
                </a:solidFill>
                <a:latin typeface="Comic Sans MS"/>
              </a:rPr>
              <a:t>,</a:t>
            </a:r>
            <a:r>
              <a:rPr b="0" i="1" lang="en-US" sz="1400" spc="-1" strike="noStrike">
                <a:solidFill>
                  <a:srgbClr val="c00000"/>
                </a:solidFill>
                <a:latin typeface="Comic Sans MS"/>
              </a:rPr>
              <a:t>  Shibaeva Marina;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Comic Sans MS"/>
              </a:rPr>
              <a:t>Trofimenko Lisa, Ignatchenko Ksenia;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Comic Sans MS"/>
              </a:rPr>
              <a:t>Sorokina Masha, Novoselova Nastya, Stegoresko Vika;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Comic Sans MS"/>
              </a:rPr>
              <a:t>Salakchov  Arseniy;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Comic Sans MS"/>
              </a:rPr>
              <a:t>Shendyapin  Artem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5" name="Picture 4" descr="E:\фото проект\DSCF114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итель</cp:lastModifiedBy>
  <dcterms:modified xsi:type="dcterms:W3CDTF">2012-01-22T20:14:23Z</dcterms:modified>
  <cp:revision>30</cp:revision>
  <dc:subject/>
  <dc:title>PowerPoint Presentation</dc:title>
</cp:coreProperties>
</file>