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006E-D763-490E-AC4C-478AAD2FEF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BBA9-9E27-4B09-8891-59AC90006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D11-4B37-4842-ABE8-52B9CD66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52D-F0F9-4AC2-88E6-F3E8B17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B66-D0E6-45D2-BFD5-9700073D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ACF-6FA3-40E3-BA47-59301A1F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373E2-FA78-499A-9111-73A658B7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F9B42-7C22-4CD2-9165-EAA9A69D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90F0-BAE1-4FA6-B84E-0E1407A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AE618-3C4F-4ECF-9399-87BCF14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AA5B7-43F8-4916-9802-A9DB501E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47317-33B0-4FB2-BA4B-E380813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5CC4A-35DD-45B6-8281-C39CB09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340-9169-456A-B47D-95940C0B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34F2B-9496-49D7-9105-B147212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B667E-5901-4A37-8D23-F610A8A8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ED15-25AB-4A80-8069-5217935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2FDDA-F41F-436F-B24B-25E85BBB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D6DAE-9917-497F-9E94-21B004EA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1EC-1682-4F9A-86D7-80293813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AFE-D289-42F5-918D-CED87AA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929-B6F5-434A-8ABD-8D5C5A7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CA6-3CFE-4B79-B047-A294DD7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485-C3D0-4B76-BF66-D6E1B95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524-7D4D-4A65-BBD9-8CBD01B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143-AAD6-42D8-9ABD-106F0A4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EDBD-C5A8-46A3-91AF-4D3024633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5727-7C5B-4B16-8842-EA727B51FA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ОРМИРОВАНИЕ ПОЛОЖИТЕЛЬНОЙ МОТИВАЦИИ ШКОЛЬНИКОВ НА УРОКАХ РУССКОГО ЯЗЫКА и ЛИТЕРАТУРЫ ЧЕРЕЗ ИСПОЛЬЗОВАНИЕ МЕТОДОВ И ПРИЕМОВ ПЕДАГОГИЧЕСКИХ ТЕХНОЛОГИЙ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8e0039"/>
                </a:solidFill>
                <a:latin typeface="Arial"/>
              </a:rPr>
              <a:t>Все наши замыслы, все поиски и построения превращаются в прах, </a:t>
            </a:r>
            <a:br>
              <a:rPr sz="2400"/>
            </a:br>
            <a:r>
              <a:rPr b="1" lang="ru-RU" sz="2400" spc="-1" strike="noStrike">
                <a:solidFill>
                  <a:srgbClr val="8e0039"/>
                </a:solidFill>
                <a:latin typeface="Arial"/>
              </a:rPr>
              <a:t>если у ученика нет желания учиться.</a:t>
            </a:r>
            <a:br>
              <a:rPr sz="2400"/>
            </a:br>
            <a:r>
              <a:rPr b="1" lang="ru-RU" sz="2400" spc="-1" strike="noStrike">
                <a:solidFill>
                  <a:srgbClr val="8e0039"/>
                </a:solidFill>
                <a:latin typeface="Arial"/>
              </a:rPr>
              <a:t>В.А. Сухомлин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00200" y="44953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итель русского языка и литературы МОУ «Востонинская ООШ»: Романенко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7520" y="609480"/>
            <a:ext cx="7026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емы педагогической техники на уроках русского языка и литературы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влекательная 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Фантастическая доба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есс – конферен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воя опо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вторяем с контрол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сечение т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заимооп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28440" y="12952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Лови ошиб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озговой штур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Театрализац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Резю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здание ситуации успе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свобождение от домашнего задания, зачёта и других форм контро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здание ситуации успе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ценка – не отмет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редит дове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спользование жизненного опыта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IMGP0275"/>
          <p:cNvPicPr/>
          <p:nvPr/>
        </p:nvPicPr>
        <p:blipFill>
          <a:blip r:embed="rId1"/>
          <a:stretch/>
        </p:blipFill>
        <p:spPr>
          <a:xfrm>
            <a:off x="5715000" y="1066680"/>
            <a:ext cx="2781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368080" y="1927080"/>
            <a:ext cx="62420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ывод: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учение только тогда станет для детей радостным и привлекательным, когда они сами будут учиться проектировать, конструировать, исследовать, открывать, т.е. познавать мир в подлинном смысле этого слов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7351560" cy="35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БОЖОВИЧ Л.И. ИЗУЧЕНИЕ МОТИВАЦИИ ПОВЕДЕНИЯ ДЕТЕЙ И ПОДРОСТКОВ / ПОД РЕД. Л.И.БОЖОВИЧ И Л.В.БЛАГОНАДЕЖНОЙ. М., 1972. 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БОЖОВИЧ Л.И. ИЗУЧЕНИЕ МОТИВАЦИИ ПОВЕДЕНИЯ ДЕТЕЙ И ПОДРОСТКОВ / ПОД РЕД. Л.И.БОЖОВИЧ И Л.В.БЛАГОНАДЕЖНОЙ. – М., 1972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КАМЕНСКАЯ Е.Н. ОСНОВЫ ПСИХОЛОГИИ, РОСТОВ Н/Д, ФЕНИКС, 2003, 155 С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ЛАВРИНЕНКО В. Н. ПСИХОЛОГИЯ И ЭТИКА ДЕЛОВОГО ОБЩЕНИЯ, МОСКВА, 2005, 215 С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СЕЕВ В.Г. МОТИВАЦИЯ ПОВЕДЕНИЯ И ФОРМИРОВАНИЯ ЛИЧНОСТИ. – М., 1976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АРКОВА А.К. ФОРМИРОВАНИЕ ИНТЕРЕСА К УЧЕНИЮ У УЧАЩИХСЯ. , 2000, 175 С.</a:t>
            </a:r>
            <a:br>
              <a:rPr sz="40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СТОЛБУНОВА, С.В. ТЕХНОЛОГИЯ РАЗВИТИЯ КРИТИЧЕСКОГО МЫШЛЕНИЯ ЧЕРЕЗ ЧТЕНИЕ И ПИСЬМО // РУССКИЙ ЯЗЫК. – 2005. - № 18. – С. 5 – 11; № 19. – С. 10 – 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Используемая 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649296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Мотивац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Мотивация – это самая сложная проблема, с которой приходится работать всем педагог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Высшей учебной мотивацией ученика является интерес к предмет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pic3301[1]"/>
          <p:cNvPicPr/>
          <p:nvPr/>
        </p:nvPicPr>
        <p:blipFill>
          <a:blip r:embed="rId1"/>
          <a:stretch/>
        </p:blipFill>
        <p:spPr>
          <a:xfrm>
            <a:off x="6934320" y="4038480"/>
            <a:ext cx="12189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нижение положительной мотивации школьников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- проблема, которая остается актуальной до сих пор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2438280"/>
            <a:ext cx="6172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ажнейшая задача учителя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состоит в том, чтобы обучить детей способам овладения разными видами деятельности, не дать угаснуть интересу к н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book32"/>
          <p:cNvPicPr/>
          <p:nvPr/>
        </p:nvPicPr>
        <p:blipFill>
          <a:blip r:embed="rId1"/>
          <a:stretch/>
        </p:blipFill>
        <p:spPr>
          <a:xfrm>
            <a:off x="5410080" y="495288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8673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Задачи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Формирование положительной мотивации к учебно-познавательной деятельности при изучении предметов гуманитарного цик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Формирование толерантности в учебных взаимодейств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звитие коммуникативной компетенции у об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оздание благоприятного психологического климата в учебном коллекти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стема повышения учебной мотив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Содержимое 3" descr=""/>
          <p:cNvPicPr/>
          <p:nvPr/>
        </p:nvPicPr>
        <p:blipFill>
          <a:blip r:embed="rId1"/>
          <a:stretch/>
        </p:blipFill>
        <p:spPr>
          <a:xfrm>
            <a:off x="2193840" y="2114640"/>
            <a:ext cx="63039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6410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нформационные технологии, рассматриваемые как один из компонентов целостной системы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5" descr="SDC10461"/>
          <p:cNvPicPr/>
          <p:nvPr/>
        </p:nvPicPr>
        <p:blipFill>
          <a:blip r:embed="rId1"/>
          <a:stretch/>
        </p:blipFill>
        <p:spPr>
          <a:xfrm>
            <a:off x="1828800" y="1905120"/>
            <a:ext cx="3276720" cy="2646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C:\Documents and Settings\Admin\Рабочий стол\Цифровое фото\Фото-Ольга\IMGP3206.JPG"/>
          <p:cNvPicPr/>
          <p:nvPr/>
        </p:nvPicPr>
        <p:blipFill>
          <a:blip r:embed="rId2"/>
          <a:stretch/>
        </p:blipFill>
        <p:spPr>
          <a:xfrm>
            <a:off x="5257800" y="365760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komp11"/>
          <p:cNvPicPr/>
          <p:nvPr/>
        </p:nvPicPr>
        <p:blipFill>
          <a:blip r:embed="rId3"/>
          <a:stretch/>
        </p:blipFill>
        <p:spPr>
          <a:xfrm>
            <a:off x="6400800" y="1371600"/>
            <a:ext cx="1755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спользование кроссвордов, иллюстраций, рисунков, различных занимательных заданий, тестов, воспитывают интерес к уроку; делают урок более интересным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C:\Documents and Settings\Admin\Рабочий стол\Цифровое фото\Фото-Ольга\IMGP3207.JPG"/>
          <p:cNvPicPr/>
          <p:nvPr/>
        </p:nvPicPr>
        <p:blipFill>
          <a:blip r:embed="rId1"/>
          <a:stretch/>
        </p:blipFill>
        <p:spPr>
          <a:xfrm>
            <a:off x="1676520" y="350532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C:\Documents and Settings\Admin\Рабочий стол\Цифровое фото\Фото-Ольга\IMGP3210.JPG"/>
          <p:cNvPicPr/>
          <p:nvPr/>
        </p:nvPicPr>
        <p:blipFill>
          <a:blip r:embed="rId2"/>
          <a:stretch/>
        </p:blipFill>
        <p:spPr>
          <a:xfrm>
            <a:off x="5181480" y="3505320"/>
            <a:ext cx="2695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762120"/>
            <a:ext cx="6867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роки литературы – это разговор особый. Они должны быть яркими, эмоциональными, с привлечением большого иллюстрированного материала, с использованием  аудио- и видео- сопровождени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Scan0007"/>
          <p:cNvPicPr/>
          <p:nvPr/>
        </p:nvPicPr>
        <p:blipFill>
          <a:blip r:embed="rId1"/>
          <a:srcRect l="3267" t="9904" r="1960" b="0"/>
          <a:stretch/>
        </p:blipFill>
        <p:spPr>
          <a:xfrm>
            <a:off x="1600200" y="2514600"/>
            <a:ext cx="3505320" cy="2313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3" name="Picture 6" descr="сканирование0003"/>
          <p:cNvPicPr/>
          <p:nvPr/>
        </p:nvPicPr>
        <p:blipFill>
          <a:blip r:embed="rId2"/>
          <a:stretch/>
        </p:blipFill>
        <p:spPr>
          <a:xfrm>
            <a:off x="4648320" y="4343400"/>
            <a:ext cx="4233600" cy="217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4" name="Picture 14" descr="book20"/>
          <p:cNvPicPr/>
          <p:nvPr/>
        </p:nvPicPr>
        <p:blipFill>
          <a:blip r:embed="rId3"/>
          <a:stretch/>
        </p:blipFill>
        <p:spPr>
          <a:xfrm>
            <a:off x="6095880" y="2514600"/>
            <a:ext cx="2365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304560"/>
            <a:ext cx="6416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гровая учебная деятельност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Игра «Классификация»</a:t>
            </a:r>
            <a:r>
              <a:rPr b="0" i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Игра «Продолжить ряд»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Игра « Четвертый лишний».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гра «Знаете ли вы, что…?»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ием «Закончи предложени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гры-тренинг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гры в случайность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-нет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Автор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нтазёр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«Игра с мячом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2" descr="Копия ан77"/>
          <p:cNvPicPr/>
          <p:nvPr/>
        </p:nvPicPr>
        <p:blipFill>
          <a:blip r:embed="rId1"/>
          <a:stretch/>
        </p:blipFill>
        <p:spPr>
          <a:xfrm>
            <a:off x="6781680" y="373392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5T16:12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