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7A3-AFAE-4867-A7F1-24ECBAEB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87B-027D-4C57-8D49-A0396A5C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5C6-8E17-461F-91A1-7475D63C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41E-8ADE-4C0C-9654-ACEA24AA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2CB8-DF2C-47C5-B42C-DED7D99F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4E89-1EDD-499E-984B-20FA7D06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53B3-DE77-4DF6-A77D-3BD9DD90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94DC-55DE-417E-AC0C-21C4C709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5F5E-19DC-4559-908E-A44D3A87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34B0-8152-470F-B0A0-A052F0CF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FEC6-CED2-4173-B498-360DB6DF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CD8-4FD8-4A69-85B3-7CF8D736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E2CD-13C3-498F-BF94-798BB951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D1FE-F33B-4911-BDAD-A23C9088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C1F5-62EA-4DE6-80AA-5DC0B4C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D88E-160B-4E2A-99F9-58D468CA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D0EA-6E98-456E-948B-B7669DAE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7A9-7760-4D33-874D-8E161211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99D-A38E-4E1A-81EE-FFAB8688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465-6A02-421A-9243-5F022C9E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B57-35CE-4C32-B8CC-9D9FC5E4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81E-4763-41BD-A086-A4BF164B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821-526D-45BE-A8D5-7AF629EB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792-4885-4141-816E-387C045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28E3-BA60-4DCA-BF43-501630E8D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0C46-51DD-4EEB-A4F9-3965414EE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ихаил Васильевич Ломоносов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711-1765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560" y="5373360"/>
            <a:ext cx="8281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выполнили ученики 10 класса МОУ «Гимназия №2 г.Тосно»: Бутылина М. и Выголко 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 проекта: учитель химии Яблокова В.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84640" y="2060640"/>
            <a:ext cx="24732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омоносов проводил анализы минералов и образцов р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сматривал свойства различных металлов, описывал способы их пол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ал технологию и рецептуру красок, цветных стеко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33134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онструировал множество приборов, измерительных аппаратов для проведения эксперимен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124000" y="2492280"/>
            <a:ext cx="4762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В работе «Элементы математической химии» предложил краткое определение химии: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Химия – наука об изменениях, происходящих в смешанном тел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.В.Ломоносов обосновал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омно – молекулярную теорию строения вещест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ы учения о теплот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нетическую теорию га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новал необходимость привлечения физики для объяснения химических явл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Физическая химия, есть наука, объясняющая на основании положений и опытов то, что происходит в смешанных телах при химических операциях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рыл и экспериментально подтвердил закон сохранения массы вещества  (1748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о как все перемены, в натуре случающиеся, такого суть состояния, что сколько чего у одного тела отнимется, столько присовокупится к другому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753 – 1754 г. в д. Усть – Рудица под Петербургом основана фабрика по изготовлению изделий из стекла: бисера, стекляруса, запонок, брошей, письменных принадлежностей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95640" y="3584520"/>
            <a:ext cx="424800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омоносов работает над созданием мозаичных кар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00000" y="1778040"/>
            <a:ext cx="69850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инициативе М.В.Ломоносова был основан первый в России университет – Московск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48690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33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 письме академику Штеллину М.В.Ломоносов писал: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9784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Жалею только о том, что я не смог совершить всего того, что предпринял для пользы Отечества, для приращения наук и для славы академии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255096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хаил Васильевич Ломоносов родилс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оября 1711 года в деревне Мишанинской близ города Холмогоры Архангельской губернии в семье рыбака – пом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568944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3743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хаил Васильевич Ломоносов скончался 4 апреля 1765 г. в Петербурге и похоронен в Алексанро-Невской лав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19640" y="1197000"/>
            <a:ext cx="33814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сих пор живут сло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Широко распростирает химия руки свои в дела человеческие… Куда ни посмотрим, куда ни оглянемся везде обращаются пред очами нашими успехи её прилежани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37450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месте с отцом юный Ломоносов ходил рыбачить в море. Опасности плавания закаляли, обогащали его ум разнообразными наблюден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45370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404280"/>
            <a:ext cx="4032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омоносов тянулся к знаниям: умел читать, грамотно писать. Чтобы получить дальнейшее образование, в 1730 г. отправился с рыбным обозом в Моск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71880" y="1413000"/>
            <a:ext cx="3305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4691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731 г. Ломоносов был зачислен в Московскую славяно – греко – латинскую академ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му были присущи страстная тяга к учебе, целеустремленность, трудолюб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6323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 блестящие успехи в учебе в 1735 г. зачисляется студентом Петербургской академии наук, где изучает математику, физику, химию, иностранные язы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47640" y="2695680"/>
            <a:ext cx="5112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37432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736 г. направлен в Германию, где под руководством Х.Вольфа, а затем – И.Генкеля получил обширные знания в области горного дела, металлургии, минералогии, а также физики, химии, математ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741 г. Ломоносов возвратился в Петербург, где началась его научная деятельность в Академии нау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745 г. ему присваивается звание профессора хим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3087720" cy="300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219640" y="2997360"/>
            <a:ext cx="3384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748 г. по чертежам Ломоносова построена химическая лаборатория, оснащенная новейшими приборами, реактивами и стала базой для теоретических и практических занят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11280" y="2990880"/>
            <a:ext cx="47530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6:32:55Z</dcterms:created>
  <dc:creator>Александр</dc:creator>
  <dc:description/>
  <dc:language>en-US</dc:language>
  <cp:lastModifiedBy>Александр</cp:lastModifiedBy>
  <dcterms:modified xsi:type="dcterms:W3CDTF">2005-01-04T06:17:20Z</dcterms:modified>
  <cp:revision>8</cp:revision>
  <dc:subject/>
  <dc:title>Михаил Васильевич Ломоносов</dc:title>
</cp:coreProperties>
</file>