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chimes.wav" ContentType="audio/x-wav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028-63F1-4A26-9B10-773614A7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2AC-6313-4294-9A90-BC82E737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39D-D555-4EC1-8A98-455CB4FF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A0F-8C98-4EB6-96A1-CD275626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5B28-FC10-4A91-A3BA-1E3C6D93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9C38-2078-41CF-BEB0-1A7E9907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04E8-5E64-4E72-82D2-36860EB7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7D76-E39B-49D3-9A6D-588F6D0C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3C8E-273A-4F57-A156-A6864BD0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A6AC-0E9C-48F8-9F15-2DE6911F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5344-F846-416B-B892-DDF24FDB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0E6-6036-4A5B-A226-54FD83FE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7E40-7A40-44E0-8A63-9FB78F0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C74F-E127-423F-9166-5460B02C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EC6C-66E1-491D-9994-FDF03CEE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D5C9-E48C-4FB3-A1D5-2BC2A0FD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4D87-6708-4525-9288-67DF3BC9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8BD-B028-4F5B-8E24-D8DEE196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FC9-6865-4E0E-A13C-48B8AB94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82B-52B7-431E-BEEF-D44F97E1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AB8-EB20-4ED3-87FD-C141E1DB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08E-78FB-4564-9A7E-C2A4E73B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251-04F0-4123-819A-0749DAF6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5A8-2A8D-4B6E-8B79-B3FEB91C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B427-D98C-4CFA-8D5C-75723601A0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5920-F34C-4D86-9322-75780EAF4D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wmf"/><Relationship Id="rId3" Type="http://schemas.openxmlformats.org/officeDocument/2006/relationships/slide" Target="slide11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971800" y="990720"/>
            <a:ext cx="5029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Корень. </a:t>
            </a:r>
            <a:endParaRPr b="1" lang="en-US" sz="4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днокоренные слова.</a:t>
            </a:r>
            <a:endParaRPr b="1" lang="en-US" sz="4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07360" y="466560"/>
            <a:ext cx="597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bat"/>
              </a:rPr>
              <a:t>Корень есть у разны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bat"/>
              </a:rPr>
              <a:t>Ты найти ег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bat"/>
              </a:rPr>
              <a:t>Не ленись и  не зе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bat"/>
              </a:rPr>
              <a:t>А ищи и  выде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35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9280" y="2819520"/>
            <a:ext cx="656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чка, реченька, речуш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вор, дворец, за ним изб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с, рискует, рисков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совать, нарисо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нь, лениться и ленив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руд, трудиться и  трусливы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74320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281952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81952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335268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342900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96252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396252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449568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502920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502920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502920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556272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5562720"/>
            <a:ext cx="685800" cy="228600"/>
          </a:xfrm>
          <a:custGeom>
            <a:avLst/>
            <a:gdLst/>
            <a:ahLst/>
            <a:rect l="l" t="t" r="r" b="b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1125360"/>
            <a:ext cx="1319040" cy="1760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350600">
            <a:off x="4343400" y="4267080"/>
            <a:ext cx="1603440" cy="1384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1371600"/>
            <a:ext cx="1442880" cy="1625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340000" y="115920"/>
            <a:ext cx="4749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оставь слов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276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ГРИ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306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5867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Л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152280" y="1752480"/>
            <a:ext cx="37720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360" y="765000"/>
            <a:ext cx="1443240" cy="1625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627280" y="189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 Black"/>
              </a:rPr>
              <a:t>- </a:t>
            </a: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ГРИБ</a:t>
            </a:r>
            <a:r>
              <a:rPr b="1" lang="en-US" sz="4000" spc="-1" strike="noStrike">
                <a:solidFill>
                  <a:srgbClr val="ff33cc"/>
                </a:solidFill>
                <a:latin typeface="Arial Black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1443240" cy="1625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1443240" cy="1625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435640" y="4076640"/>
            <a:ext cx="1442880" cy="1625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1763640" y="4581360"/>
            <a:ext cx="1443240" cy="1625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93080" y="256536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84360" y="2708280"/>
            <a:ext cx="16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486900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59280" y="53006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59200" y="665280"/>
            <a:ext cx="1082520" cy="1407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627280" y="189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- ДОМ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1157400" cy="1544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562720" y="2895480"/>
            <a:ext cx="1157040" cy="1544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43280" y="4797360"/>
            <a:ext cx="1157400" cy="1544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8000" y="3429000"/>
            <a:ext cx="16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 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5661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 АШ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5002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 ИЩ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800"/>
                            </p:stCondLst>
                            <p:childTnLst>
                              <p:par>
                                <p:cTn id="3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800"/>
                            </p:stCondLst>
                            <p:childTnLst>
                              <p:par>
                                <p:cTn id="3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800"/>
                            </p:stCondLst>
                            <p:childTnLst>
                              <p:par>
                                <p:cTn id="4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800"/>
                            </p:stCondLst>
                            <p:childTnLst>
                              <p:par>
                                <p:cTn id="4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 rot="1350600">
            <a:off x="3635280" y="692280"/>
            <a:ext cx="1714680" cy="1714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cc00">
                <a:alpha val="50000"/>
              </a:srgbClr>
            </a:outerShdw>
          </a:effectLst>
        </p:spPr>
      </p:pic>
      <p:sp>
        <p:nvSpPr>
          <p:cNvPr id="236" name=""/>
          <p:cNvSpPr/>
          <p:nvPr/>
        </p:nvSpPr>
        <p:spPr>
          <a:xfrm>
            <a:off x="2627280" y="189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- ЛИСТ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 rot="1350600">
            <a:off x="684000" y="1844640"/>
            <a:ext cx="1714320" cy="1714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cc00">
                <a:alpha val="50000"/>
              </a:srgbClr>
            </a:outerShdw>
          </a:effectLst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 rot="1350600">
            <a:off x="539640" y="4653000"/>
            <a:ext cx="1714680" cy="1714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cc00">
                <a:alpha val="50000"/>
              </a:srgbClr>
            </a:outerShdw>
          </a:effectLst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 rot="19321200">
            <a:off x="3995640" y="4797000"/>
            <a:ext cx="1714680" cy="1714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cc00">
                <a:alpha val="50000"/>
              </a:srgbClr>
            </a:outerShdw>
          </a:effectLst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 rot="19971600">
            <a:off x="5219640" y="2349000"/>
            <a:ext cx="1714680" cy="1714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cc00">
                <a:alpha val="50000"/>
              </a:srgbClr>
            </a:outerShdw>
          </a:effectLst>
        </p:spPr>
      </p:pic>
      <p:sp>
        <p:nvSpPr>
          <p:cNvPr id="241" name=""/>
          <p:cNvSpPr/>
          <p:nvPr/>
        </p:nvSpPr>
        <p:spPr>
          <a:xfrm>
            <a:off x="2195640" y="256536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 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428000">
            <a:off x="6588720" y="2276280"/>
            <a:ext cx="16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 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537372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 ОЧЕ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0040600">
            <a:off x="1764000" y="429264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- ВЕН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000"/>
                            </p:stCondLst>
                            <p:childTnLst>
                              <p:par>
                                <p:cTn id="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90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-474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Водитель, водит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Водник, вод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457200"/>
            <a:ext cx="1371600" cy="457200"/>
          </a:xfrm>
          <a:prstGeom prst="blockArc">
            <a:avLst>
              <a:gd name="adj1" fmla="val 10800000"/>
              <a:gd name="adj2" fmla="val 0"/>
              <a:gd name="adj3" fmla="val 1794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533520"/>
            <a:ext cx="1371600" cy="38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2743200"/>
            <a:ext cx="1600200" cy="457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3048120"/>
            <a:ext cx="1295280" cy="38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990720" y="457200"/>
            <a:ext cx="685800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 закончен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838080" y="3166920"/>
            <a:ext cx="6934320" cy="17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304920"/>
            <a:ext cx="52005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инутка чистописания</a:t>
            </a:r>
            <a:endParaRPr b="0" lang="en-US" sz="4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Б Б Б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// 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б б 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0280" y="2438280"/>
            <a:ext cx="861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Барабанщики бара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Барабанят в барабан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Йнеи, цаяз, олбоот, цяемс, од висдаяни, хрого,езялимнак, басока,жаруой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Иней, заяц, болото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месяц, до свидания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горох, земляника,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собака, урожай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90360" y="175248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1280" y="1828800"/>
            <a:ext cx="1526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629040" y="182880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28440" y="266688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629040" y="266688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38280" y="3581280"/>
            <a:ext cx="1526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171840" y="358128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09680" y="4419720"/>
            <a:ext cx="1526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486040" y="44197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25909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6668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26668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35053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5053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4956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4197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53341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541008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Родина    народ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родни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5280" y="1844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дник родит реку, а река льётся-течёт через всю нашу матушку-землю, через всю родину, кормит народ. Вы глядите, как это складно выходит, - родник, родина, народ. И все эти слова как бы родня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3333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читайте отрывок из текст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. Паустовского. Найдите в нём однокорен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0920" y="304920"/>
            <a:ext cx="866448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Секрет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Корен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– общая часть родственных слов, в которой заключено их основное значе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Unicode MS"/>
              </a:rPr>
              <a:t>Секрет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Корни в однокоренных словах пишутся одинаково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398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-Вы кто такие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-Я- Гусь, это- Гусыня, это наши гусят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-А ты кто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-А я ваша тётка Гусениц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0-10-10T09:36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