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1FC-3A09-4529-9A80-4A87D45B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9044-B80F-4104-A03B-8D409A33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544A-AAF7-4221-8705-03C6AC3D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AF68-8FE1-467F-80E2-4464DD61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1FAAE-5F9B-4070-9759-EEF95D88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376CA-7B02-4B60-8726-C17CE18B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4BA11-D18D-4219-B72C-985CB0AC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B8516-9D3D-4A20-952D-44898B7D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C1B7E-A7E7-4DCE-94A9-E0C6C2AA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6DD26-784A-48EF-9B9A-2772F297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FDDDA-0D25-42F1-A270-2F4FEBA3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564A-868A-4B0C-AE0E-801B7345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F5B5B-7C29-4191-9A74-174DDC4E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1180E-9669-4FAF-980D-B7A04A11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E1A37-699B-4A87-B0CC-089F7DBB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FFBEF-A672-4B2A-A337-317AFDCE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B3128-7434-453E-9C35-2775420A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E99A-9BC9-441C-9A2E-D4B15163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B7A2-F598-4717-B8CE-0F6059F6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41E-67D0-4AC0-8E0A-8F425D15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0B2-8514-4BEC-96C8-6C801B71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C14-6189-49AA-8DD5-5B0C8C42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84DA-B402-425F-9912-5390077B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FC4-97F4-4C1B-BFCD-295C2692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ИК, 2 ноября 2006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0E60-F27D-44EF-946B-D3DD7B75C560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09CB-A14E-4B00-8029-323E1FF0CB74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5ff6"/>
                </a:solidFill>
                <a:latin typeface="Arial"/>
              </a:rPr>
              <a:t>ЦИК, 2 ноября 2006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ижний колонтитул 4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5ff6"/>
                </a:solidFill>
                <a:latin typeface="Arial"/>
              </a:rPr>
              <a:t>ЦИК, 2 ноября 2006г.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ОУ средняя общеобразовательная школа школы № 538 с углубленным изучением информационных технологий Кировского района Санкт-Петербург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95280" y="2707920"/>
            <a:ext cx="5040360" cy="1873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05ff6"/>
                </a:solidFill>
                <a:latin typeface="Arial"/>
              </a:rPr>
              <a:t>Метод проектов</a:t>
            </a:r>
            <a:br>
              <a:rPr sz="4000"/>
            </a:br>
            <a:r>
              <a:rPr b="0" lang="ru-RU" sz="4000" spc="-1" strike="noStrike">
                <a:solidFill>
                  <a:srgbClr val="205ff6"/>
                </a:solidFill>
                <a:latin typeface="Arial"/>
              </a:rPr>
              <a:t> в учебной деятельности</a:t>
            </a: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258920" y="2492280"/>
            <a:ext cx="7056360" cy="3241800"/>
          </a:xfrm>
          <a:prstGeom prst="rect">
            <a:avLst/>
          </a:prstGeom>
          <a:noFill/>
          <a:ln w="5724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843280" y="4653000"/>
            <a:ext cx="38671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 Rounded MT Bold"/>
              </a:rPr>
              <a:t>Конференция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 Rounded MT Bold"/>
              </a:rPr>
              <a:t>«Виды печатной продукции»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5724360" y="5805360"/>
            <a:ext cx="324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05ff6"/>
                </a:solidFill>
                <a:latin typeface="Arial"/>
              </a:rPr>
              <a:t>Автор: Шалыпина Янна Сергевна, учитель информатики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900000" y="119700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Педагогический совет: «Совместная работа школы № 538 и ЦИК по развитию системы углубленного изучения информационных технологий в свете реализации идей, заложенных в Национальном проекте «Образование»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4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5ff6"/>
                </a:solidFill>
                <a:latin typeface="Arial"/>
              </a:rPr>
              <a:t>ЦИК, 2 ноября 2006г.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екты учащих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S6000220"/>
          <p:cNvPicPr/>
          <p:nvPr/>
        </p:nvPicPr>
        <p:blipFill>
          <a:blip r:embed="rId1"/>
          <a:srcRect l="0" t="3578" r="0" b="0"/>
          <a:stretch/>
        </p:blipFill>
        <p:spPr>
          <a:xfrm>
            <a:off x="179280" y="1546200"/>
            <a:ext cx="5761080" cy="4321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S6000152"/>
          <p:cNvPicPr/>
          <p:nvPr/>
        </p:nvPicPr>
        <p:blipFill>
          <a:blip r:embed="rId2"/>
          <a:srcRect l="27306" t="25271" r="34795" b="32313"/>
          <a:stretch/>
        </p:blipFill>
        <p:spPr>
          <a:xfrm rot="786600">
            <a:off x="7019640" y="1484280"/>
            <a:ext cx="1800000" cy="1511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S6000148"/>
          <p:cNvPicPr/>
          <p:nvPr/>
        </p:nvPicPr>
        <p:blipFill>
          <a:blip r:embed="rId3"/>
          <a:srcRect l="21419" t="29936" r="42889" b="27579"/>
          <a:stretch/>
        </p:blipFill>
        <p:spPr>
          <a:xfrm rot="4625400">
            <a:off x="6282720" y="4022640"/>
            <a:ext cx="1657440" cy="14792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7524720" y="5516640"/>
            <a:ext cx="14749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аромонова Лена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Зимина Аня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7-а класс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940360" y="2852640"/>
            <a:ext cx="2448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агомадова Яна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оманова Настя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7-а класс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ижний колонтитул 4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5ff6"/>
                </a:solidFill>
                <a:latin typeface="Arial"/>
              </a:rPr>
              <a:t>ЦИК, 2 ноября 2006г.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128" name="Group 7"/>
          <p:cNvGrpSpPr/>
          <p:nvPr/>
        </p:nvGrpSpPr>
        <p:grpSpPr>
          <a:xfrm>
            <a:off x="1476360" y="1988640"/>
            <a:ext cx="6408720" cy="3961440"/>
            <a:chOff x="1476360" y="1988640"/>
            <a:chExt cx="6408720" cy="3961440"/>
          </a:xfrm>
        </p:grpSpPr>
        <p:sp>
          <p:nvSpPr>
            <p:cNvPr id="129" name="AutoShape 8"/>
            <p:cNvSpPr/>
            <p:nvPr/>
          </p:nvSpPr>
          <p:spPr>
            <a:xfrm flipH="1">
              <a:off x="7382520" y="2393280"/>
              <a:ext cx="502560" cy="3556800"/>
            </a:xfrm>
            <a:prstGeom prst="rtTriangle">
              <a:avLst/>
            </a:prstGeom>
            <a:solidFill>
              <a:srgbClr val="66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 flipH="1" flipV="1">
              <a:off x="1960200" y="1988280"/>
              <a:ext cx="5924880" cy="404280"/>
            </a:xfrm>
            <a:prstGeom prst="rtTriangl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31" name="AutoShape 10"/>
            <p:cNvSpPr/>
            <p:nvPr/>
          </p:nvSpPr>
          <p:spPr>
            <a:xfrm flipV="1">
              <a:off x="1476360" y="1989000"/>
              <a:ext cx="483840" cy="3559680"/>
            </a:xfrm>
            <a:prstGeom prst="rtTriangle">
              <a:avLst/>
            </a:prstGeom>
            <a:solidFill>
              <a:srgbClr val="66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>
              <a:off x="1476360" y="5548680"/>
              <a:ext cx="5906160" cy="401400"/>
            </a:xfrm>
            <a:prstGeom prst="rtTriangl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  <p:grpSp>
        <p:nvGrpSpPr>
          <p:cNvPr id="133" name="Group 12"/>
          <p:cNvGrpSpPr/>
          <p:nvPr/>
        </p:nvGrpSpPr>
        <p:grpSpPr>
          <a:xfrm>
            <a:off x="2124000" y="3141720"/>
            <a:ext cx="5256360" cy="2374920"/>
            <a:chOff x="2124000" y="3141720"/>
            <a:chExt cx="5256360" cy="2374920"/>
          </a:xfrm>
        </p:grpSpPr>
        <p:sp>
          <p:nvSpPr>
            <p:cNvPr id="134" name="Text Box 13"/>
            <p:cNvSpPr/>
            <p:nvPr/>
          </p:nvSpPr>
          <p:spPr>
            <a:xfrm>
              <a:off x="2124000" y="3141720"/>
              <a:ext cx="5256360" cy="237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Franklin Gothic Book"/>
                </a:rPr>
                <a:t>Награждается </a:t>
              </a:r>
              <a:endParaRPr b="0" lang="en-US" sz="14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Franklin Gothic Book"/>
                </a:rPr>
                <a:t>Лучший докладчик школьной конференции </a:t>
              </a:r>
              <a:endParaRPr b="0" lang="en-US" sz="14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ranklin Gothic Book"/>
                </a:rPr>
                <a:t>«</a:t>
              </a:r>
              <a:r>
                <a:rPr b="1" lang="ru-RU" sz="1400" spc="-1" strike="noStrike">
                  <a:solidFill>
                    <a:srgbClr val="000000"/>
                  </a:solidFill>
                  <a:latin typeface="Franklin Gothic Book"/>
                </a:rPr>
                <a:t>Виды  печатной продукции</a:t>
              </a:r>
              <a:r>
                <a:rPr b="1" lang="en-US" sz="1400" spc="-1" strike="noStrike">
                  <a:solidFill>
                    <a:srgbClr val="000000"/>
                  </a:solidFill>
                  <a:latin typeface="Franklin Gothic Book"/>
                </a:rPr>
                <a:t>»</a:t>
              </a:r>
              <a:endParaRPr b="0" lang="en-US" sz="14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Franklin Gothic Book"/>
                </a:rPr>
                <a:t>Хорева Карина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205ff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Franklin Gothic Book"/>
                </a:rPr>
                <a:t>Директор школы № </a:t>
              </a:r>
              <a:r>
                <a:rPr b="0" lang="en-US" sz="1000" spc="-1" strike="noStrike">
                  <a:solidFill>
                    <a:srgbClr val="000000"/>
                  </a:solidFill>
                  <a:latin typeface="Franklin Gothic Book"/>
                </a:rPr>
                <a:t>538                                                                                  </a:t>
              </a:r>
              <a:r>
                <a:rPr b="0" lang="ru-RU" sz="1000" spc="-1" strike="noStrike">
                  <a:solidFill>
                    <a:srgbClr val="000000"/>
                  </a:solidFill>
                  <a:latin typeface="Franklin Gothic Book"/>
                </a:rPr>
                <a:t>Огородова  Т.А.</a:t>
              </a:r>
              <a:endParaRPr b="0" lang="en-US" sz="1000" spc="-1" strike="noStrike">
                <a:solidFill>
                  <a:srgbClr val="205ff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205ff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Franklin Gothic Book"/>
                </a:rPr>
                <a:t>Члены жюри                                                                                                      Шалыпина Я.С.</a:t>
              </a:r>
              <a:endParaRPr b="0" lang="en-US" sz="1000" spc="-1" strike="noStrike">
                <a:solidFill>
                  <a:srgbClr val="205ff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Franklin Gothic Book"/>
                </a:rPr>
                <a:t>                                                                                                                            </a:t>
              </a:r>
              <a:r>
                <a:rPr b="0" lang="ru-RU" sz="1000" spc="-1" strike="noStrike">
                  <a:solidFill>
                    <a:srgbClr val="000000"/>
                  </a:solidFill>
                  <a:latin typeface="Franklin Gothic Book"/>
                </a:rPr>
                <a:t>Пузанова Е.А.</a:t>
              </a:r>
              <a:endParaRPr b="0" lang="en-US" sz="1000" spc="-1" strike="noStrike">
                <a:solidFill>
                  <a:srgbClr val="205ff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Franklin Gothic Book"/>
                </a:rPr>
                <a:t>                                                                                                                            </a:t>
              </a:r>
              <a:r>
                <a:rPr b="0" lang="ru-RU" sz="1000" spc="-1" strike="noStrike">
                  <a:solidFill>
                    <a:srgbClr val="000000"/>
                  </a:solidFill>
                  <a:latin typeface="Franklin Gothic Book"/>
                </a:rPr>
                <a:t>Арделян О.Н.</a:t>
              </a:r>
              <a:endParaRPr b="0" lang="en-US" sz="1000" spc="-1" strike="noStrike">
                <a:solidFill>
                  <a:srgbClr val="205ff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Franklin Gothic Book"/>
                </a:rPr>
                <a:t>                                                                                                                            </a:t>
              </a:r>
              <a:r>
                <a:rPr b="0" lang="ru-RU" sz="1000" spc="-1" strike="noStrike">
                  <a:solidFill>
                    <a:srgbClr val="000000"/>
                  </a:solidFill>
                  <a:latin typeface="Franklin Gothic Book"/>
                </a:rPr>
                <a:t>Белорусцева А.А.</a:t>
              </a:r>
              <a:endParaRPr b="0" lang="en-US" sz="1000" spc="-1" strike="noStrike">
                <a:solidFill>
                  <a:srgbClr val="205ff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35" name="Line 14"/>
            <p:cNvSpPr/>
            <p:nvPr/>
          </p:nvSpPr>
          <p:spPr>
            <a:xfrm>
              <a:off x="2124000" y="3141720"/>
              <a:ext cx="5256360" cy="0"/>
            </a:xfrm>
            <a:prstGeom prst="line">
              <a:avLst/>
            </a:prstGeom>
            <a:ln w="3240">
              <a:solidFill>
                <a:srgbClr val="66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  <p:sp>
        <p:nvSpPr>
          <p:cNvPr id="136" name="Text Box 15"/>
          <p:cNvSpPr/>
          <p:nvPr/>
        </p:nvSpPr>
        <p:spPr>
          <a:xfrm>
            <a:off x="3492360" y="2421000"/>
            <a:ext cx="29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cc"/>
                </a:solidFill>
                <a:latin typeface="Bauhaus 93"/>
              </a:rPr>
              <a:t>ПОЧЕТНАЯ ГРАМОТ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7" name="Picture 16" descr="j0281904"/>
          <p:cNvPicPr/>
          <p:nvPr/>
        </p:nvPicPr>
        <p:blipFill>
          <a:blip r:embed="rId1"/>
          <a:stretch/>
        </p:blipFill>
        <p:spPr>
          <a:xfrm>
            <a:off x="2268360" y="2133720"/>
            <a:ext cx="766800" cy="7239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граждение победите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ижний колонтитул 4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5ff6"/>
                </a:solidFill>
                <a:latin typeface="Arial"/>
              </a:rPr>
              <a:t>ЦИК, 2 ноября 2006г.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изовые мес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S6000154"/>
          <p:cNvPicPr/>
          <p:nvPr/>
        </p:nvPicPr>
        <p:blipFill>
          <a:blip r:embed="rId1"/>
          <a:srcRect l="21365" t="24890" r="27957" b="3925"/>
          <a:stretch/>
        </p:blipFill>
        <p:spPr>
          <a:xfrm>
            <a:off x="1042920" y="1484280"/>
            <a:ext cx="1711440" cy="1801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116000" y="3573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1 место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3" name="Picture 6" descr="S6000153"/>
          <p:cNvPicPr/>
          <p:nvPr/>
        </p:nvPicPr>
        <p:blipFill>
          <a:blip r:embed="rId2"/>
          <a:srcRect l="17521" t="25293" r="25509" b="14343"/>
          <a:stretch/>
        </p:blipFill>
        <p:spPr>
          <a:xfrm>
            <a:off x="3132000" y="2349360"/>
            <a:ext cx="2376720" cy="1889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116000" y="3573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1 место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924360" y="47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2 место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6" name="Picture 10" descr="S6000149"/>
          <p:cNvPicPr/>
          <p:nvPr/>
        </p:nvPicPr>
        <p:blipFill>
          <a:blip r:embed="rId3"/>
          <a:srcRect l="11494" t="26024" r="32780" b="10556"/>
          <a:stretch/>
        </p:blipFill>
        <p:spPr>
          <a:xfrm>
            <a:off x="5940360" y="3645000"/>
            <a:ext cx="2448000" cy="20890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1"/>
          <p:cNvSpPr/>
          <p:nvPr/>
        </p:nvSpPr>
        <p:spPr>
          <a:xfrm>
            <a:off x="6588000" y="5877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3 место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ижний колонтитул 4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5ff6"/>
                </a:solidFill>
                <a:latin typeface="Arial"/>
              </a:rPr>
              <a:t>ЦИК, 2 ноября 2006г.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55640" y="1989000"/>
          <a:ext cx="7488360" cy="4270680"/>
        </p:xfrm>
        <a:graphic>
          <a:graphicData uri="http://schemas.openxmlformats.org/drawingml/2006/table">
            <a:tbl>
              <a:tblPr/>
              <a:tblGrid>
                <a:gridCol w="574560"/>
                <a:gridCol w="3097440"/>
                <a:gridCol w="1944720"/>
                <a:gridCol w="1871640"/>
              </a:tblGrid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Фамилия, Имя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Реферат, газета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Выступление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Баканова Настя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Боримова Аня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Велиева Айка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Давитнидзе Нино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Зимина Аня 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Зуева Аня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7.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Иванова Надя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8.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Магомадова Яна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9.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Митителл Ира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0.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Паромонова Лена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1.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Раманова Настя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2.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Тихомирова Марина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3.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Хорева Карина 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4.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Яковлева Маша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 Box 75"/>
          <p:cNvSpPr/>
          <p:nvPr/>
        </p:nvSpPr>
        <p:spPr>
          <a:xfrm>
            <a:off x="971640" y="1268280"/>
            <a:ext cx="741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5ff6"/>
                </a:solidFill>
                <a:latin typeface="Arial"/>
              </a:rPr>
              <a:t>Оценки, полученные на конференции «Виды печатной продукции» 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5ff6"/>
                </a:solidFill>
                <a:latin typeface="Arial"/>
              </a:rPr>
              <a:t>7 «а» класса         24.10.2006 г.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Text Box 161"/>
          <p:cNvSpPr/>
          <p:nvPr/>
        </p:nvSpPr>
        <p:spPr>
          <a:xfrm>
            <a:off x="611280" y="404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тоги конференции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4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5ff6"/>
                </a:solidFill>
                <a:latin typeface="Arial"/>
              </a:rPr>
              <a:t>ЦИК, 2 ноября 2006г.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ЖЮР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5148360" y="1557360"/>
            <a:ext cx="3743280" cy="23302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05ff6"/>
                </a:solidFill>
                <a:latin typeface="Arial"/>
              </a:rPr>
              <a:t>Школа № 538</a:t>
            </a: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05ff6"/>
                </a:solidFill>
                <a:latin typeface="Arial"/>
              </a:rPr>
              <a:t>С углубленным изучением ИТ</a:t>
            </a: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05ff6"/>
                </a:solidFill>
                <a:latin typeface="Arial"/>
              </a:rPr>
              <a:t>Конференция 24.10.2006 г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05ff6"/>
                </a:solidFill>
                <a:latin typeface="Arial"/>
              </a:rPr>
              <a:t>«Виды печатной продукции»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Арделян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Оксана Николаевна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05ff6"/>
                </a:solidFill>
                <a:latin typeface="Arial"/>
              </a:rPr>
              <a:t>Эксперт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268360" y="4005360"/>
            <a:ext cx="3743640" cy="23302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05ff6"/>
                </a:solidFill>
                <a:latin typeface="Arial"/>
              </a:rPr>
              <a:t>Школа № 538</a:t>
            </a: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05ff6"/>
                </a:solidFill>
                <a:latin typeface="Arial"/>
              </a:rPr>
              <a:t>С углубленным изучением ИТ</a:t>
            </a: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05ff6"/>
                </a:solidFill>
                <a:latin typeface="Arial"/>
              </a:rPr>
              <a:t>Конференция 24.10.2006 г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05ff6"/>
                </a:solidFill>
                <a:latin typeface="Arial"/>
              </a:rPr>
              <a:t>«Виды печатной продукции»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Белорусцева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Анастасия Александровна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05ff6"/>
                </a:solidFill>
                <a:latin typeface="Arial"/>
              </a:rPr>
              <a:t>Эксперт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39640" y="1484280"/>
            <a:ext cx="3743280" cy="23302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05ff6"/>
                </a:solidFill>
                <a:latin typeface="Arial"/>
              </a:rPr>
              <a:t>Школа № 538</a:t>
            </a: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05ff6"/>
                </a:solidFill>
                <a:latin typeface="Arial"/>
              </a:rPr>
              <a:t>С углубленным изучением ИТ</a:t>
            </a: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05ff6"/>
                </a:solidFill>
                <a:latin typeface="Arial"/>
              </a:rPr>
              <a:t>Конференция 24.10.2006 г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05ff6"/>
                </a:solidFill>
                <a:latin typeface="Arial"/>
              </a:rPr>
              <a:t>«Виды печатной продукции»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Шалыпина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Янна Сергеевна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05ff6"/>
                </a:solidFill>
                <a:latin typeface="Arial"/>
              </a:rPr>
              <a:t>Эксперт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ижний колонтитул 4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5ff6"/>
                </a:solidFill>
                <a:latin typeface="Arial"/>
              </a:rPr>
              <a:t>ЦИК, 2 ноября 2006г.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Основополагающий вопрос конференции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205ff6"/>
                </a:solidFill>
                <a:uFillTx/>
                <a:latin typeface="Brush Script MT"/>
              </a:rPr>
              <a:t>Какие виды печатной продукции бывают ?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916360" y="31417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Проблемные вопросы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24000" y="342900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95280" y="3645000"/>
            <a:ext cx="842472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Каким образом можно разделить печатные издания по знаковой природе информации?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Каким образом можно разделить печатные издания по объему?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Каким образом можно разделить печатные издания по материальной конструкции?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Каким образом можно разделить печатные издания по периодичности?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Каким образом можно разделить печатные издания по характеру информации?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79280" y="0"/>
            <a:ext cx="8686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ект «Виды печатной продукции»</a:t>
            </a:r>
            <a:br>
              <a:rPr sz="3600"/>
            </a:b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4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5ff6"/>
                </a:solidFill>
                <a:latin typeface="Arial"/>
              </a:rPr>
              <a:t>ЦИК, 2 ноября 2006г.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дачи, поставленные перед учащимис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Определить  какие основные виды печатной продукции относятся к каждой группе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Составить описание каждого вида печатной продукции, ее использование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роанализировать, где используется данная продукция, почему, чем она отличается от другого виды печатной продукции, особенност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4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5ff6"/>
                </a:solidFill>
                <a:latin typeface="Arial"/>
              </a:rPr>
              <a:t>ЦИК, 2 ноября 2006г.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идактические цели проект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Формирование компетентности в сфере самостоятельной познавательной деятельности;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Формирование критического мышления;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риобретение навыков самостоятельной работы с большими объемами информации;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Находить нужную информацию с использованием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Internet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-ресурсов;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Работать в команде над решением единой проблемы;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овысить интерес учащихся к изучаемым в школе предметам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4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5ff6"/>
                </a:solidFill>
                <a:latin typeface="Arial"/>
              </a:rPr>
              <a:t>ЦИК, 2 ноября 2006г.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етодические задачи проект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Научить школьников различать основные виды печатной продукции, их основные характеристики;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формировать представление о том, какие характеристики основных печатных изданий влияют на их производство;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Научить ориентироваться в современных стандартах, применяемых к печатным изданиям;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Научить обрабатывать и обобщать полученную информацию в результате проведенных экспериментов;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Научить использовать программы-редакторы для оформления и защиты проекта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4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5ff6"/>
                </a:solidFill>
                <a:latin typeface="Arial"/>
              </a:rPr>
              <a:t>ЦИК, 2 ноября 2006г.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новные требования к оформлению результатов работ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Сообщение на бумажном носителе в виде газеты или реферата на листах формата А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Наглядный материал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(фото, графические материалы)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ижний колонтитул 4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5ff6"/>
                </a:solidFill>
                <a:latin typeface="Arial"/>
              </a:rPr>
              <a:t>ЦИК, 2 ноября 2006г.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ритерии оцени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042920" y="1197000"/>
            <a:ext cx="68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05ff6"/>
                </a:solidFill>
                <a:latin typeface="Arial"/>
              </a:rPr>
              <a:t>Критерии оценивания выступлений учащихс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920" y="1484280"/>
          <a:ext cx="9109080" cy="5224320"/>
        </p:xfrm>
        <a:graphic>
          <a:graphicData uri="http://schemas.openxmlformats.org/drawingml/2006/table">
            <a:tbl>
              <a:tblPr/>
              <a:tblGrid>
                <a:gridCol w="324000"/>
                <a:gridCol w="2232000"/>
                <a:gridCol w="541080"/>
                <a:gridCol w="1079640"/>
                <a:gridCol w="1258920"/>
                <a:gridCol w="1189080"/>
                <a:gridCol w="1152360"/>
                <a:gridCol w="1332000"/>
              </a:tblGrid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№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Критерии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Коли- чество ба-ллов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Каким образом можно разделить печатные издания по объему?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Каким образом можно разделить печатные издания по характеру информации?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Каким образом можно разделить печатные издания по материальной конструкции?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Каким образом можно разделить печатные издания по периодичности?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Каким образом можно разделить печатные издания по знаковой природе информации?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15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Выступали все члены команды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Выступали 2 и более членов команды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Выступал 1 член команды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Сформулированы: тема исследования, основополагающий вопрос, гипотеза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Не сформулированы: тема исследования, основополагающий вопрос, гипотеза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Ход исследования указан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Ход исследования не указан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15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Материал изложен четко, ясно.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Материал изложен не очень четко и ясно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Материал не структурирован, изложен не четко и не ясно.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15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Проведены практические исследования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Информация взята из различных источников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Информация не подкреплена данными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По теме сделаны выводы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Выводов нет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Указаны  использованные информационные источники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1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Не указаны информационные источники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Общее количество баллов</a:t>
                      </a:r>
                      <a:endParaRPr b="0" lang="en-US" sz="10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ижний колонтитул 4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5ff6"/>
                </a:solidFill>
                <a:latin typeface="Arial"/>
              </a:rPr>
              <a:t>ЦИК, 2 ноября 2006г.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ритерии оцени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28640"/>
          <a:ext cx="8229600" cy="4354560"/>
        </p:xfrm>
        <a:graphic>
          <a:graphicData uri="http://schemas.openxmlformats.org/drawingml/2006/table">
            <a:tbl>
              <a:tblPr/>
              <a:tblGrid>
                <a:gridCol w="658800"/>
                <a:gridCol w="1655640"/>
                <a:gridCol w="2622600"/>
                <a:gridCol w="1646280"/>
                <a:gridCol w="1646280"/>
              </a:tblGrid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Список команды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Что делал при подготовке реферата?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Участвовал ли в защите?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Оценка за работу (выставляется после обсуждения всеми членами команды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8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4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5ff6"/>
                </a:solidFill>
                <a:latin typeface="Arial"/>
              </a:rPr>
              <a:t>ЦИК, 2 ноября 2006г.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екты учащих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S6000216"/>
          <p:cNvPicPr/>
          <p:nvPr/>
        </p:nvPicPr>
        <p:blipFill>
          <a:blip r:embed="rId1"/>
          <a:stretch/>
        </p:blipFill>
        <p:spPr>
          <a:xfrm>
            <a:off x="179280" y="1557360"/>
            <a:ext cx="5977080" cy="4530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S6000154"/>
          <p:cNvPicPr/>
          <p:nvPr/>
        </p:nvPicPr>
        <p:blipFill>
          <a:blip r:embed="rId2"/>
          <a:srcRect l="21367" t="24882" r="27959" b="3927"/>
          <a:stretch/>
        </p:blipFill>
        <p:spPr>
          <a:xfrm rot="699600">
            <a:off x="6575400" y="1668600"/>
            <a:ext cx="2257560" cy="2376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6732720" y="4437000"/>
            <a:ext cx="1906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5ff6"/>
                </a:solidFill>
                <a:latin typeface="Arial"/>
              </a:rPr>
              <a:t>Баримова Аня, Иванова Надя, Велиева Айка, Давитнидзе Нино   7-а класс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09:46:12Z</dcterms:created>
  <dc:creator>teacher</dc:creator>
  <dc:description/>
  <dc:language>en-US</dc:language>
  <cp:lastModifiedBy>Янна</cp:lastModifiedBy>
  <dcterms:modified xsi:type="dcterms:W3CDTF">2012-01-22T15:18:20Z</dcterms:modified>
  <cp:revision>17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