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E9D-2165-445A-B22D-B4DD5473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7B4-3680-410A-B526-F64A5FF7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E9D-5566-409D-91CF-9D8CF359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9B8-0B0C-446A-8238-1ADF26ED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E8DA-7EA1-4DEE-B85C-EC8541E0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5BFC-C3BF-42AE-AF0B-76929B74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D9EE-4B43-4937-A56A-DD9B1135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938D-83E0-4241-B2A2-84FB02D1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76EB-4F5C-49D9-AB5E-4F35D712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4745-FFBD-4A42-BA0A-B1EC9DBA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2308-0594-4FFB-876B-8050F886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5FD-2C38-4F92-BA2E-D218A820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BC61-47AE-448A-BF53-8F0514E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1641-B806-423F-AC6A-44C0AA25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6BE1-90D7-4DEE-B678-3D707389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12E2-77D0-4656-B10D-C485E0FA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ED68-19BC-4937-A9C0-DE343432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F61-11D7-4B65-966A-67463543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6B7-465D-4FAC-A575-DC71B2E7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C0A-36EA-4A8D-A888-586F9D36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7F5-4A65-477E-997D-E6EA99C9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47C-957B-4138-AEA2-18751367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307-134C-4268-8FCD-99C85B3B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472-6F40-4686-B9F8-E3CC7086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0696-D3AD-4A42-9CE1-2647EBA330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FA30-B2F9-4824-AE79-13B32CBC8E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рганы выдел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92000" y="1341360"/>
            <a:ext cx="19429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79640" y="1413000"/>
            <a:ext cx="43164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1341360"/>
            <a:ext cx="431640" cy="13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1268280"/>
            <a:ext cx="201636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2205000"/>
            <a:ext cx="25192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ж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потовые желез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3213000"/>
            <a:ext cx="2160720" cy="936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ямая ки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2781360"/>
            <a:ext cx="201636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Лёг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3645000"/>
            <a:ext cx="288000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чевыделите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утки через почки проходит 1500 – 1700 л кро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зуется 150-170 л первичной м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утки выделяется 1,5 – 2 л вторичной м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начение поче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держка водно-солевого обмена (удаление избытка воды и минеральных соле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иологический фильтр (выведение ненужных и вредных вещест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очевыделительная систе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19280" y="1341360"/>
            <a:ext cx="21607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852640"/>
            <a:ext cx="32414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арные поч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1268280"/>
            <a:ext cx="172728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3068640"/>
            <a:ext cx="381636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чевыводящие пу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3860640"/>
            <a:ext cx="3959280" cy="2664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четоч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чевой пузы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чеиспуск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н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5051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очевыделительная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систе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557360"/>
            <a:ext cx="2303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997360"/>
            <a:ext cx="2950920" cy="86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четоч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4221000"/>
            <a:ext cx="2303640" cy="115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че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зы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5589720"/>
            <a:ext cx="3745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чеиспуск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н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3696" t="0" r="26999" b="0"/>
          <a:stretch/>
        </p:blipFill>
        <p:spPr>
          <a:xfrm>
            <a:off x="4780080" y="1197000"/>
            <a:ext cx="3921120" cy="5184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59280" y="1773360"/>
            <a:ext cx="432108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1844640"/>
            <a:ext cx="2881080" cy="72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357720"/>
            <a:ext cx="35290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3357720"/>
            <a:ext cx="2521080" cy="215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797360"/>
            <a:ext cx="2808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24360" y="5300280"/>
            <a:ext cx="2808360" cy="865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5280" y="-360"/>
            <a:ext cx="49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оение поч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4364" t="0" r="8369" b="0"/>
          <a:stretch/>
        </p:blipFill>
        <p:spPr>
          <a:xfrm>
            <a:off x="125280" y="765000"/>
            <a:ext cx="409752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00720" y="981000"/>
            <a:ext cx="2519280" cy="719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ковый сл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59280" y="1268280"/>
            <a:ext cx="144144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2276640"/>
            <a:ext cx="3384720" cy="79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зговой сл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почечные пирамид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987280" y="2492280"/>
            <a:ext cx="1655640" cy="14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720" y="2708280"/>
            <a:ext cx="136656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3429000"/>
            <a:ext cx="3024360" cy="647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чечная лоха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07640" y="3573000"/>
            <a:ext cx="2808360" cy="142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437000"/>
            <a:ext cx="2879640" cy="72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чечная арт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39280" y="3141360"/>
            <a:ext cx="4032360" cy="165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5661000"/>
            <a:ext cx="2881080" cy="72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чечная в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68360" y="3573360"/>
            <a:ext cx="3959280" cy="244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уктурно- функциональной единицей почки является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еф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фроны расположены в корковом вещест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ефронах  происходит образование м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оение нефро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3119" r="23068" b="0"/>
          <a:stretch/>
        </p:blipFill>
        <p:spPr>
          <a:xfrm>
            <a:off x="179280" y="1557360"/>
            <a:ext cx="4321440" cy="4483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88000" y="1628640"/>
            <a:ext cx="4032000" cy="388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ждый нефро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чин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кроскопическ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псуло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от кото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ходит дли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налец нефр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псулы и часть канальцев нефрона находятся корковом сл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тальные части канальцев и выводные трубки – в почечных пирамидах мозгового сло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ближе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609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7280" y="18864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Механизм образования моч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424836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ов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капилляры клубоч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тфильтрованные ве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капсула клубоч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ичная моч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каналец нефр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ратное всасы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капилляры, оплетающие канал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торичная моч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чечная лох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Мочеточни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818" t="11396" r="13981" b="13456"/>
          <a:stretch/>
        </p:blipFill>
        <p:spPr>
          <a:xfrm>
            <a:off x="4464000" y="1557360"/>
            <a:ext cx="4680000" cy="3286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42920" y="189000"/>
            <a:ext cx="0" cy="57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299736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4292640"/>
            <a:ext cx="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5229360"/>
            <a:ext cx="0" cy="64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40000" y="6021360"/>
            <a:ext cx="194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5805360"/>
            <a:ext cx="25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Мочевой пузы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3:34:39Z</dcterms:created>
  <dc:creator>белый лукич</dc:creator>
  <dc:description/>
  <dc:language>en-US</dc:language>
  <cp:lastModifiedBy>белый лукич</cp:lastModifiedBy>
  <dcterms:modified xsi:type="dcterms:W3CDTF">2007-02-25T16:11:14Z</dcterms:modified>
  <cp:revision>2</cp:revision>
  <dc:subject/>
  <dc:title>Органы выделения</dc:title>
</cp:coreProperties>
</file>