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EAE-EF83-4479-91E7-70C5AB59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EFF-5E83-46D3-88A7-9E35C44D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0D1-4949-45E4-8F9E-82C5DDDB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590-B3FE-4C34-9BC9-86A62349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1CDF-806F-41AF-8D7A-44B65D64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866-B13B-400E-B66B-2110DCF7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D85-3037-48E2-BEC7-AB02F17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F890-C19A-4BF2-8590-997DD637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BAED-EEC6-4276-A9B1-91B2263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72CC-ADD9-4063-A775-BDF923F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1D6-57DB-4328-AD2C-1175250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A98-6D4B-441E-9417-70DBF00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865A-0ED9-4032-B8FE-8E662FA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372-F7D4-4AF9-86C5-F60F4C5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0052-B532-4342-B685-DD359E8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6F42-A1CB-408E-A865-DE2BE6D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047D-6BF6-4878-BE76-BCB6F8D1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AD0-4726-42A9-A8EC-82214C67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340-6517-4EAD-BA6F-171BD6F7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52E-A203-4012-ABA7-AE5BD15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8C0-A222-40CC-8A60-84D1C34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AB0-5D6A-48F9-A92C-9EF81F1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0FF-F4BF-403D-BEBA-B8AE178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109-6D37-4DE9-BAC3-42B3B3D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8A9E-4C03-4909-B7C9-9F96D72D10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E66-AD3B-4FBA-930A-BAA87EBC5D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629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Раннее родительство</a:t>
            </a:r>
            <a:br>
              <a:rPr sz="6000"/>
            </a:b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современное состояние проблем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йонная научно – практическая конфе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 Старт в науку 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Лолита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84360" cy="511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174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« Вам и не снилось 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4895640" cy="460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05520" y="1916280"/>
            <a:ext cx="403848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« Вам и не снилось »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али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Щербаков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гедия любв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у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вятикласс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ана Лавочк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Ю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5435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временные Ромео и Джульет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11400" cy="511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456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Была ли любовь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0000" y="1844640"/>
            <a:ext cx="4464000" cy="352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2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сплата за любов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88000" cy="2706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Что такое контрацепция 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8292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3456000" cy="250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80000" y="4365720"/>
            <a:ext cx="3311640" cy="23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427640" y="141300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Защити себя сам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Если ЭТО случилось…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671640" cy="46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30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860640"/>
            <a:ext cx="172728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усть МАМА УЗНАЕТ перв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168720" cy="417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392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ождение Иисуса Хрис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327560" cy="396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319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рофилактика ранней беременн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537080" cy="4105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410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ети – это ЧУДО 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45744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30193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Всему свое время …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311640" cy="496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932360" y="4025880"/>
            <a:ext cx="345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еликое творение приро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311640" cy="42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591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Сколько Ей было лет 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ва Мария род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исуса Хри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гда ей бы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5 ле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67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Инфант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372744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Ромео и Джульетт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56000" cy="525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2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4105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Любовь воспетая поэт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292560" cy="4496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352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476280"/>
            <a:ext cx="857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т пове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чаль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 свет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Чем пове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 Ромео 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жульетте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9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Голубая лагуна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145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Голубая лагуна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311640" cy="489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367200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759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1:54:28Z</dcterms:created>
  <dc:creator>Пользователь</dc:creator>
  <dc:description/>
  <dc:language>en-US</dc:language>
  <cp:lastModifiedBy>Пользователь</cp:lastModifiedBy>
  <dcterms:modified xsi:type="dcterms:W3CDTF">2010-01-11T21:00:34Z</dcterms:modified>
  <cp:revision>4</cp:revision>
  <dc:subject/>
  <dc:title>Раннее родительство современное состояние проблемы</dc:title>
</cp:coreProperties>
</file>