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030-542A-4520-B6E8-727D2F69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D24-2AD1-4F1F-8795-BAA55D01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723-6D69-4837-B151-C517B015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918-C85E-48C4-9DC3-13413F39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694-756A-4C65-A57F-D73E3D9C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BE1-36D6-483E-A4EA-74C632B9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D1F-4018-4216-B9AA-4EA2144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2AB-4692-460F-BDAE-FBA5723E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438-A2A5-4442-A847-2E02AF3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CED-6B65-4639-A201-0858680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497-AF34-4290-B38A-244B060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88E-1195-4371-AEA6-16E113E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4EA3-D7D5-431F-9257-BD42E65C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692280"/>
            <a:ext cx="7704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Я НА РУБЕЖ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VI-XVII ВЕ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620640"/>
            <a:ext cx="806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И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98900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АДАЙ ДА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11280" y="18900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АДАЙ ДА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628640"/>
            <a:ext cx="806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Введение патриаршества в Росси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640"/>
            <a:ext cx="8308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Указ "об урочных летах"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чало сыска крестья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3573360"/>
            <a:ext cx="835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Воцарение Лжедмитрия 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4365720"/>
            <a:ext cx="835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Убийство Лжедмитрия 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5157720"/>
            <a:ext cx="8424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. Восстание под предводительств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И.Болотник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8360" y="333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АДАЙ ДА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. Восстание под предводительством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опк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3141720"/>
            <a:ext cx="830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. Царствование Василия Шуйск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3933720"/>
            <a:ext cx="835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. Период "семибоярщины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4797360"/>
            <a:ext cx="835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. Образование первого ополч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551664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. Правление Бориса Годун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404640"/>
            <a:ext cx="806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Ы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1916280"/>
            <a:ext cx="78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АЛЬШЕ, ДАЛЬШ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404640"/>
            <a:ext cx="813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Ы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2421000"/>
            <a:ext cx="763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КА, Я ТЕБЯ ЗНА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404640"/>
            <a:ext cx="806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ЕСТО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2205000"/>
            <a:ext cx="7848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ЭЙН-РИН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476280"/>
            <a:ext cx="828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ДЬМО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989000"/>
            <a:ext cx="8136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КАКОМ СОБЫТИИ ИДЕТ РЕЧЬ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476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ЬМО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3068640"/>
            <a:ext cx="806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Ы-МНЕ, Я-ТЕБ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1700280"/>
            <a:ext cx="8208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мута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это время "падения"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оссии  или "взлета"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аг "назад" или "вперед"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её развитии?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ВОПРОС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198900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РАБОТУ НА УРО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1700280"/>
            <a:ext cx="8208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мута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это время "падения"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оссии  или "взлета",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аг "назад" или "вперед"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её развитии?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ВОПРОС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2276640"/>
            <a:ext cx="7632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692280"/>
            <a:ext cx="720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33336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ПРАВИТЕЛЯ, ОСНОВАВШЕГО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УЮ ДИНАСТИЮ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РУБЕЖЕ ВЕКОВ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227664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) ФЕДОР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3068640"/>
            <a:ext cx="626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) БОРИ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3860640"/>
            <a:ext cx="73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) ДМИТРИЙ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1280" y="501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) ИВА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33336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КАЗ, УСТАНОВИВШИЙ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ИЛЕТНИЙ СРОК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ЫСКА БЕГЛЫХ КРЕСТЬЯН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27664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) О "ЗАПОВЕДНЫХ ЛЕТАХ"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068640"/>
            <a:ext cx="626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) ОБ "УРОЧНЫХ ЛЕТАХ"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3860640"/>
            <a:ext cx="73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) О "НАРОДНОМ ОПОЛЧЕНИИ"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280" y="501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) О "СЕМИБОЯРЩИНЕ"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1280" y="33336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МОСКОВСКОГ МИТРОПОЛИТА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НАЧЕННОГО ПАТРИАРХОМ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М И ВСЕЯ РУСИ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2276640"/>
            <a:ext cx="72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) ИЛЛАРИ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213000"/>
            <a:ext cx="56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) НИК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414972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) ИОВ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501336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) ФЕОФА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33336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КАКОМ ГОДУ НАЧАЛОС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СТЬЯНСКОЕ ВОССТАНИ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 ПРЕДВОДИТЕЛЬСТВОМ ХЛОПКО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349360"/>
            <a:ext cx="719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) 1601 г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3357720"/>
            <a:ext cx="7197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) 1603 г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4221000"/>
            <a:ext cx="719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) 1605 г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5229360"/>
            <a:ext cx="7197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) 1606 г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1280" y="33336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У БЫЛА ПЕРЕДАНА ВЛАСТ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Е СМЕРТИ БОРИСА ГОДУНОВА?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349360"/>
            <a:ext cx="554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) ИВАН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3357720"/>
            <a:ext cx="7197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) ДМИТРИ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4221000"/>
            <a:ext cx="597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) ФЕДОР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522936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) ЛЖЕДМИТРИ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47628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Й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989000"/>
            <a:ext cx="7777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НАЯ ЛОШАД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34:43Z</dcterms:created>
  <dc:creator>Иван</dc:creator>
  <dc:description/>
  <dc:language>en-US</dc:language>
  <cp:lastModifiedBy>Иван</cp:lastModifiedBy>
  <dcterms:modified xsi:type="dcterms:W3CDTF">2012-01-21T16:32:54Z</dcterms:modified>
  <cp:revision>3</cp:revision>
  <dc:subject/>
  <dc:title>Слайд 1</dc:title>
</cp:coreProperties>
</file>