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6EB-2848-4845-8BD4-078EC2E5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C2D-4DA1-47B1-8F9B-F33E6D6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36E-8F69-4A78-B6BC-0CE0960A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64F-DE0C-49EC-80E4-421F8393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6922-B7C9-434D-B7E3-37F8131A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50EA-0001-48D5-8405-0BC8E28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41C3-4950-472D-B478-0A67BCA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E48-962A-492B-A0A5-9DF6F17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D25-34FB-4DAD-89CB-144B3424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32D-F215-4103-A216-4C8F7B2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A7C-8BA2-4A18-BA16-9DA72B41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DBF-EE43-4103-8096-8DEF7EB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D47-F41B-4956-8589-A5DFB60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BF7-ED75-4C67-AC08-78DAD0DE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231-33E7-4832-99AA-88051EC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C47-34EB-445B-827F-414B6BE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159E-55AE-42C9-A639-7D37E18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B4C-8A86-449B-85B9-4C6A74E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1FE-8958-4E06-9A53-3E34A5F5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B0B-FBEB-4D69-821D-1D96911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695-8062-4973-BD95-6D210CA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6C7-A166-43D9-A0ED-FD824D4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922-7161-4C41-9AD2-D734B19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0C4-630D-4061-9BFC-3EFA43F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6CB-63B5-427E-A185-F410046027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E7D-AB71-46DD-B750-07605EF7AE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лыбнись новому дню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367164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чусь  поступать      правильн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мне надо сделать? (помочь мам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мне это надо  сделать? (она устала, ей тяжело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я эт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ю, 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(маме  будет легче, мне будет приятно от того, что я ей пом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я эт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сделаю, 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(маме  будет плохо, а мне стыдно.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Что мне нужнее? (чтобы маме было лучш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Как я это буду делать? (возьму ведра и понесу их са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59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а «Волшебный   микрофон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4803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разы, дарящие мир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оро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витель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ликолепн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кра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личн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 сегодня много сделал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 просто чуд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со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е очень важна твоя помощ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учи меня делать так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а «Комплименты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975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говорим «Любл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звезды светят ярч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говорим «Люблю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за лучатся счасть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говорим «Любл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радость в дом приходи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наступающим Новым 2012 годо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198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а и обязанности детей в семь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7847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а  «Разрешается-запрещаетс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9880" y="1905120"/>
          <a:ext cx="3924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905120"/>
                    <a:ext cx="39243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36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20862600">
            <a:off x="5834160" y="250992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а ребёнка в семь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 на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 свободно выражать свои взгляды и м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 на образ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 жить с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 на защиту от насил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венция о правах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ребё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онвенция»-по-русски, международный Договор .Конвенция о правах ребёнка состоит из статей о  правах ребёнка ,которые обязаны соблюдать во всех странах. Следят за соблюдением Конвенции специальные люди-Уполномоченные по правам ребёнка, которые есть не только в столицах ,но и в разных городах каждой страны. Так что, в любой момент, тебе е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кому заявить в нарушении твоих законны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туация на автобусной     остановк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620120" cy="671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язанности ребёнка в             семь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рошо уч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ать по д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титься о старш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ться самому обслуживать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титься о младш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1598760"/>
            <a:ext cx="46670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.Осеева «Сыновь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2480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6:51:58Z</dcterms:created>
  <dc:creator>User</dc:creator>
  <dc:description/>
  <dc:language>en-US</dc:language>
  <cp:lastModifiedBy>User</cp:lastModifiedBy>
  <dcterms:modified xsi:type="dcterms:W3CDTF">2011-12-25T15:09:32Z</dcterms:modified>
  <cp:revision>12</cp:revision>
  <dc:subject/>
  <dc:title>Улыбнись новому дню!</dc:title>
</cp:coreProperties>
</file>