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E8D-E37D-45A7-814D-F8287189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9C2-63E9-4EB4-8BBB-2CC5F4D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89B-61C9-4714-AAC0-A67C1424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ADD-FC4B-4DCB-BEAC-88AF6D67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A7D-196D-478F-9215-F9A5C7FE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478-B8D5-4A38-9E2C-C5EE7C2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9AC-0C42-468F-BDAE-DB0A0CFF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23C-405B-4219-90D0-21D7D66F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747-3279-479B-8970-F1275B7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28A-51B8-4D12-950B-4A74A63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4BB-FA03-4CC2-B7DB-45374B9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0AD-6FD1-4C44-B3A7-5634905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310-7D9A-4DDA-9197-46834CF62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71720" y="164304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неклассная деятельность как форма организации учебно-воспитательной работы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691640" y="564372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уководитель ШМО Филиппова С.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928800" y="1285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ителя иностранного языка Икина Т.А. и Филиппова С.А. в рамках предметной недели английского языка предложили много интересных мероприятий, конкурсов и виктори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1239556104_pic_id266416.jpeg"/>
          <p:cNvPicPr/>
          <p:nvPr/>
        </p:nvPicPr>
        <p:blipFill>
          <a:blip r:embed="rId2"/>
          <a:stretch/>
        </p:blipFill>
        <p:spPr>
          <a:xfrm>
            <a:off x="1000080" y="3143160"/>
            <a:ext cx="2786040" cy="296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357200" y="121428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em Da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(конкурс литературных переводов современных англоязычных стихов),”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reat Britain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викторина знатоков Великобритании), 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oyal Family Quiz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викторина по материалам, посвященным королевской семье),  “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hristmas Tale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” ( праздник, посвященный Рождеству в англоязычных страна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73_christmas.jpg"/>
          <p:cNvPicPr/>
          <p:nvPr/>
        </p:nvPicPr>
        <p:blipFill>
          <a:blip r:embed="rId2"/>
          <a:stretch/>
        </p:blipFill>
        <p:spPr>
          <a:xfrm>
            <a:off x="928800" y="4143240"/>
            <a:ext cx="42861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71720" y="1214280"/>
            <a:ext cx="70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лимпиады по русскому языку и английскому языку  обычно проводятся в несколько туров: школьный, муниципальный и региональный т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000080" y="11430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своей работе ШМО уделяет особое внимание работе с одаренными детьми, через вовлечение ребят в классную и внеклассную деятельность. Предлагаем систему консультаций по вопросам подготовки к предметным олимпиадам, конкурсам, смотрам и т.д. Работаем над тем, чтобы в ребятах пробудилось желание испытать себя в различных сферах учебной и творческой деятельности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16_kids.jpg"/>
          <p:cNvPicPr/>
          <p:nvPr/>
        </p:nvPicPr>
        <p:blipFill>
          <a:blip r:embed="rId2"/>
          <a:stretch/>
        </p:blipFill>
        <p:spPr>
          <a:xfrm>
            <a:off x="928800" y="4572000"/>
            <a:ext cx="4643280" cy="19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3080" y="135720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15_babies.jpg"/>
          <p:cNvPicPr/>
          <p:nvPr/>
        </p:nvPicPr>
        <p:blipFill>
          <a:blip r:embed="rId2"/>
          <a:stretch/>
        </p:blipFill>
        <p:spPr>
          <a:xfrm>
            <a:off x="928800" y="2928960"/>
            <a:ext cx="32144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000080" y="857160"/>
            <a:ext cx="7500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еклассная работа должна расширять лингвистический кругозор, развивать их языковое чутье, воспитывать любовь, уважение  интерес к языку, должны прививать навыки самостоятель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ы с книг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чить пользов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варями и справоч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тературой, пополн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ния по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357200" y="1428840"/>
            <a:ext cx="668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) воспитание коммуникативной культуры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1820.gif"/>
          <p:cNvPicPr/>
          <p:nvPr/>
        </p:nvPicPr>
        <p:blipFill>
          <a:blip r:embed="rId2"/>
          <a:stretch/>
        </p:blipFill>
        <p:spPr>
          <a:xfrm>
            <a:off x="1571760" y="2857680"/>
            <a:ext cx="3929040" cy="321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28800" y="1071720"/>
            <a:ext cx="742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) расширение и углубление запаса знаний учеников и формирование лингвистической компетен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J0321179.JPG"/>
          <p:cNvPicPr/>
          <p:nvPr/>
        </p:nvPicPr>
        <p:blipFill>
          <a:blip r:embed="rId2"/>
          <a:stretch/>
        </p:blipFill>
        <p:spPr>
          <a:xfrm>
            <a:off x="2857680" y="2428920"/>
            <a:ext cx="264312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000080" y="107172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) выявление и поддержка лингвистически одаренных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J0382954.JPG"/>
          <p:cNvPicPr/>
          <p:nvPr/>
        </p:nvPicPr>
        <p:blipFill>
          <a:blip r:embed="rId2"/>
          <a:stretch/>
        </p:blipFill>
        <p:spPr>
          <a:xfrm>
            <a:off x="1071720" y="2500200"/>
            <a:ext cx="4429080" cy="32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214280" y="1234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) поддержка и воспитание веры в свои силы у учеников, слабоуспевающих по русскому и английскому язы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J0177806.JPG"/>
          <p:cNvPicPr/>
          <p:nvPr/>
        </p:nvPicPr>
        <p:blipFill>
          <a:blip r:embed="rId2"/>
          <a:stretch/>
        </p:blipFill>
        <p:spPr>
          <a:xfrm>
            <a:off x="928800" y="3143160"/>
            <a:ext cx="378612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28800" y="10000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) развитие и совершенствование психологических качеств личности школьников: любознательности, инициативности, трудолюбия, воли, настойчивости, самостоятельности в приобретении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J0341534.JPG"/>
          <p:cNvPicPr/>
          <p:nvPr/>
        </p:nvPicPr>
        <p:blipFill>
          <a:blip r:embed="rId2"/>
          <a:stretch/>
        </p:blipFill>
        <p:spPr>
          <a:xfrm>
            <a:off x="1000080" y="2928960"/>
            <a:ext cx="300060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000080" y="10717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текущем  учебном году в рамках предметных декад  удачно прошли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71720" y="228600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ассные часы: «Русский язык- язык моего Отечества», «Экология слова»(защита мультимедийного проекта), «Сквернословие и здоровье» /Шабурина Н.Н./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59_kids.jpg"/>
          <p:cNvPicPr/>
          <p:nvPr/>
        </p:nvPicPr>
        <p:blipFill>
          <a:blip r:embed="rId2"/>
          <a:stretch/>
        </p:blipFill>
        <p:spPr>
          <a:xfrm>
            <a:off x="1000080" y="392904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53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114300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ассный час, посвященный лирике М.Ю.Лермонтова (к 195-летию поэта), «Басни Крылова» (конкурс иллюстраций и инсценировок), викторина, посвященная творчеству Н.Н.Гоголя /Сяткина Е.А.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08_child_foto.jpg"/>
          <p:cNvPicPr/>
          <p:nvPr/>
        </p:nvPicPr>
        <p:blipFill>
          <a:blip r:embed="rId2"/>
          <a:stretch/>
        </p:blipFill>
        <p:spPr>
          <a:xfrm>
            <a:off x="928800" y="321480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6:48:13Z</dcterms:created>
  <dc:creator>АЛИНА</dc:creator>
  <dc:description/>
  <dc:language>en-US</dc:language>
  <cp:lastModifiedBy>АЛИНА</cp:lastModifiedBy>
  <dcterms:modified xsi:type="dcterms:W3CDTF">2012-01-22T10:39:21Z</dcterms:modified>
  <cp:revision>10</cp:revision>
  <dc:subject/>
  <dc:title>Слайд 1</dc:title>
</cp:coreProperties>
</file>