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wmf" ContentType="image/x-wmf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12.wmf" ContentType="image/x-wmf"/>
  <Override PartName="/ppt/media/image29.jpeg" ContentType="image/jpeg"/>
  <Override PartName="/ppt/media/image9.wmf" ContentType="image/x-wmf"/>
  <Override PartName="/ppt/media/image34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8.wmf" ContentType="image/x-wmf"/>
  <Override PartName="/ppt/media/image3.jpeg" ContentType="image/jpeg"/>
  <Override PartName="/ppt/media/image37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39.jpeg" ContentType="image/jpeg"/>
  <Override PartName="/ppt/media/image41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B29-6332-41F8-846C-67145693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738-5E05-48DA-83F2-583AAC92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D65-C12F-4BDD-BFF1-7545281B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F14-82A1-4E70-9D97-786B4918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7FEE5-5367-4084-A7FA-02B5D7E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B0ED5-65D8-461E-9D12-60129FEA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A714D-0757-4CD8-B3F5-14170C0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2C736-C5B7-47C8-A12D-E3BFCD3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718D8-AAC8-4CDC-92AB-19B1B9D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D35AE-866C-4596-A478-C3FD93D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C5B37-59EC-4F58-8F80-7B48A42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530-183C-48EA-878A-0588B9C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1C0E4-5F0D-4887-9B89-37E1DC8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A2323-A944-4AA7-9BD9-D21265C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8AE04-C8E5-4AA1-9902-76A0F90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5E68B-5EA1-454D-9D6F-907934D0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7E6CA-213A-46D0-862C-8AB86D50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14E-C715-4D70-AF07-10F8E8B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66B-5BF4-4304-B3F2-12FD108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B1F-30FF-4301-99EC-17B08FC0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938-FDE8-48B7-8E49-66C85483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7BE-BFB7-4A95-B7A3-FFDD9F4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240-0DD0-491B-8205-38369E4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521-AFC2-438C-B119-F42B9AF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FE40-55E7-458E-AE21-A49732A443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9FEF-FCCD-4BC3-B58B-5BF9BC88CB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3166920"/>
          </a:xfrm>
          <a:prstGeom prst="rect">
            <a:avLst/>
          </a:prstGeom>
          <a:noFill/>
          <a:ln w="0">
            <a:solidFill>
              <a:srgbClr val="33cccc"/>
            </a:solidFill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етодический портфоли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3428640"/>
            <a:ext cx="8272440" cy="2808360"/>
          </a:xfrm>
          <a:prstGeom prst="rect">
            <a:avLst/>
          </a:prstGeom>
          <a:noFill/>
          <a:ln w="0">
            <a:solidFill>
              <a:srgbClr val="99cc00"/>
            </a:solidFill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Учителя начальных классов муниципального общеобразовательного учреждения </a:t>
            </a:r>
            <a:r>
              <a:rPr b="1" i="1" lang="ru-RU" sz="3200" spc="-1" strike="noStrike">
                <a:solidFill>
                  <a:srgbClr val="33cc33"/>
                </a:solidFill>
                <a:latin typeface="Arial"/>
              </a:rPr>
              <a:t>«МОУ СОШ №2»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города Дальнерече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345440" cy="23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Результаты итоговой контрольной работы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во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 классе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по русскому языку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за первую четвер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476360" y="2781360"/>
          <a:ext cx="655164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65516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228600"/>
            <a:ext cx="75596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Техника чтен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во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 классе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за первую четвер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1" name="Object 6"/>
          <p:cNvGraphicFramePr/>
          <p:nvPr/>
        </p:nvGraphicFramePr>
        <p:xfrm>
          <a:off x="1187280" y="2421000"/>
          <a:ext cx="67694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21000"/>
                    <a:ext cx="67694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3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Техника чтен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в конце второго года обуч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1187280" y="2133720"/>
          <a:ext cx="698508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98508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8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Учёт знаний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учащихся по математике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и русскому языку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за второй год обуч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395280" y="2658960"/>
          <a:ext cx="388944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58960"/>
                    <a:ext cx="388944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4284720" y="2658960"/>
          <a:ext cx="4103640" cy="321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658960"/>
                    <a:ext cx="410364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Техника чтен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в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 классе ( сентябрь 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826920" y="1773360"/>
          <a:ext cx="70581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0581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ethHand Regular"/>
              </a:rPr>
              <a:t>Научно – методическая дея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Биография руководителя про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Проект «Начальная школа </a:t>
            </a:r>
            <a:r>
              <a:rPr b="1" i="1" lang="en-US" sz="2600" spc="-1" strike="noStrike">
                <a:solidFill>
                  <a:srgbClr val="ffffff"/>
                </a:solidFill>
                <a:latin typeface="Georgia"/>
              </a:rPr>
              <a:t>XXI</a:t>
            </a: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 века»: характеристика ведущих ид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Пояснительные записки к программе и предметам обуч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Перечень основных средств обучения по проекту «Начальная школа </a:t>
            </a:r>
            <a:r>
              <a:rPr b="1" i="1" lang="en-US" sz="2600" spc="-1" strike="noStrike">
                <a:solidFill>
                  <a:srgbClr val="ffffff"/>
                </a:solidFill>
                <a:latin typeface="Georgia"/>
              </a:rPr>
              <a:t>XXI</a:t>
            </a: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 века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eorgia"/>
              </a:rPr>
              <a:t>Практическая часть научно – методической деятель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BethHand Regular"/>
              </a:rPr>
              <a:t>Виноградова </a:t>
            </a:r>
            <a:br>
              <a:rPr sz="4400"/>
            </a:br>
            <a:r>
              <a:rPr b="1" i="1" lang="ru-RU" sz="4400" spc="-1" strike="noStrike">
                <a:solidFill>
                  <a:srgbClr val="e3e3ff"/>
                </a:solidFill>
                <a:latin typeface="BethHand Regular"/>
              </a:rPr>
              <a:t>Наталья Фёдоров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уководитель авторского коллек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проекта «Начальная школа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XXI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века» доктор педагогических наук, професс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828720" y="1557360"/>
            <a:ext cx="3087720" cy="46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8487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Проект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«Начальная школа ХХ</a:t>
            </a:r>
            <a:r>
              <a:rPr b="1" i="1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века»</a:t>
            </a:r>
            <a:r>
              <a:rPr b="1" i="1" lang="ru-RU" sz="4400" spc="-1" strike="noStrike">
                <a:solidFill>
                  <a:srgbClr val="e3e3ff"/>
                </a:solidFill>
                <a:latin typeface="BethHand Regular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Georgia"/>
              </a:rPr>
              <a:t>Цели обуч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eorgia"/>
              </a:rPr>
              <a:t>Целостное гармоничное развитие школьника; формирование общих способностей и эрудици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1" i="1" lang="ru-RU" sz="2100" spc="-1" strike="noStrike">
                <a:solidFill>
                  <a:srgbClr val="ffffff"/>
                </a:solidFill>
                <a:latin typeface="Georgia"/>
              </a:rPr>
              <a:t>в соответствии с индивидуальными возможностям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eorgia"/>
              </a:rPr>
              <a:t>2.     Становление элементарной культуры деятельности, овладение основными компонентами учебной деятельности: умение понимать учебную задачу, определять учебные операции, производить контроль и самоконтрол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eorgia"/>
              </a:rPr>
              <a:t>3.     Формирование готовности к самообразованию, определённый уровень познавательной культуры и познавательный интерес учащихс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7564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роект «Начальная школа 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XXI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века»: характеристика ведущих иде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137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едущей идеей УМК является реализация одного из путей модернизации начального образования, раскрытие новых подходов к целям, содержанию и методике обучения младших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Технология обучения построена на целенаправленном использован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оделирующая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исковая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Темп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9636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Факультатив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Разговор о правильном питании</a:t>
            </a: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50920" y="2205000"/>
            <a:ext cx="453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Знакомство с героями  «Улицы Сезам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Самые полезные продук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Как правильно есть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Удивительные превращения пирожка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Из чего варят каши и как сделать кашу вкусной?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Плох  обед , если хлеба нет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Полдник. Время есть булочки.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Пора ужинать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На вкус и цвет товарищей нет.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Если хочется пить…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Что надо есть, если хочешь стать сильне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Где найти витамины весной?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Овощи, ягоды и фрукты- самые витаминные продукты.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Каждому овощу своё время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День рождения  Зелибоб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252360" y="2133720"/>
            <a:ext cx="336240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4819680" cy="6880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води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си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шей квалификацио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4" descr=""/>
          <p:cNvPicPr/>
          <p:nvPr/>
        </p:nvPicPr>
        <p:blipFill>
          <a:blip r:embed="rId2"/>
          <a:stretch/>
        </p:blipFill>
        <p:spPr>
          <a:xfrm>
            <a:off x="2806560" y="190440"/>
            <a:ext cx="2019600" cy="255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«Открывай нам, школа, дверь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695680" y="4132440"/>
            <a:ext cx="4032000" cy="2638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25520" y="1373040"/>
            <a:ext cx="4113000" cy="2692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4597560" y="14032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Внеклассные мероприят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26880" y="1444680"/>
            <a:ext cx="4042080" cy="2736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4436640"/>
            <a:ext cx="735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« Чтобы мамы не грусти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праздник м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4473720" y="1405080"/>
            <a:ext cx="432900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«Рыцарский турнир»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3 февраля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628560" y="1322280"/>
            <a:ext cx="3321000" cy="2565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4734000" y="1349280"/>
            <a:ext cx="3746520" cy="256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4140360" y="4076640"/>
            <a:ext cx="4354200" cy="2579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4"/>
          <a:stretch/>
        </p:blipFill>
        <p:spPr>
          <a:xfrm>
            <a:off x="1177920" y="3949560"/>
            <a:ext cx="2052720" cy="26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«Новогодний карнавал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2604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4732200" y="4152960"/>
            <a:ext cx="3503880" cy="2171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4622760" y="1469880"/>
            <a:ext cx="3897360" cy="2516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4"/>
          <a:stretch/>
        </p:blipFill>
        <p:spPr>
          <a:xfrm>
            <a:off x="806400" y="4192560"/>
            <a:ext cx="3148200" cy="21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«Прощай, первый класс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395280" y="1650960"/>
            <a:ext cx="3811680" cy="2487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2560680" y="4284720"/>
            <a:ext cx="3541680" cy="2324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4299120" y="1687680"/>
            <a:ext cx="404172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9160" y="88920"/>
            <a:ext cx="756936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«Весёлые старты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541760" y="1144440"/>
            <a:ext cx="3898800" cy="2675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551480" y="3922560"/>
            <a:ext cx="3822480" cy="2525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522360" y="1128600"/>
            <a:ext cx="3846600" cy="536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«День здоровь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322880" y="1127160"/>
            <a:ext cx="4035240" cy="2571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319640" y="381168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676440" y="1182600"/>
            <a:ext cx="339084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«Умники и умницы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687760" cy="2895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704880" y="1913040"/>
            <a:ext cx="2124000" cy="3173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/>
          <a:stretch/>
        </p:blipFill>
        <p:spPr>
          <a:xfrm>
            <a:off x="2949480" y="1522440"/>
            <a:ext cx="2732040" cy="385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Тема: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38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Начальная школ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ека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ководитель проекта проф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Ф. Виногра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264960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Контроль и оценка в начальной школ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Georgia"/>
              </a:rPr>
              <a:t>Чему целесообразно учить младших школьни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сознавать мотивы свое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нировать свою дея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нализировать достигнутый результ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нать характеристику отме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ормировать у школьников уверенность в своих си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редоставлять ученику право выбора трудности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Разбирать с учащимися контрольные работы сразу после их выпол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2824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Диагностическое обследование в сентябр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Object 16"/>
          <p:cNvGraphicFramePr/>
          <p:nvPr/>
        </p:nvGraphicFramePr>
        <p:xfrm>
          <a:off x="1116000" y="1628640"/>
          <a:ext cx="691200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2602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ethHand Regular"/>
              </a:rPr>
              <a:t>Диагностическое обследо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ethHand Regular"/>
              </a:rPr>
              <a:t>в конце второй четвер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BethHand Regular"/>
              </a:rPr>
              <a:t>после обучения курса 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«Букварь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755640" y="2421000"/>
          <a:ext cx="727236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72723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ethHand Regular"/>
              </a:rPr>
              <a:t>Диагностическое обследова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BethHand Regular"/>
              </a:rPr>
              <a:t>в конце первого года обучения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826920" y="1844640"/>
          <a:ext cx="71298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1298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28240"/>
            <a:ext cx="74880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Техника чтен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в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 классе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ethHand Regular"/>
              </a:rPr>
              <a:t>за первое полугод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42920" y="2276640"/>
          <a:ext cx="6912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6912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29152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ethHand Regular"/>
              </a:rPr>
              <a:t>Техника чтения в конце первого года обу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042920" y="1814400"/>
          <a:ext cx="698508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14400"/>
                    <a:ext cx="69850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7:55:08Z</dcterms:created>
  <dc:creator>Alex</dc:creator>
  <dc:description/>
  <dc:language>en-US</dc:language>
  <cp:lastModifiedBy>Admin</cp:lastModifiedBy>
  <dcterms:modified xsi:type="dcterms:W3CDTF">2012-01-23T07:13:30Z</dcterms:modified>
  <cp:revision>17</cp:revision>
  <dc:subject/>
  <dc:title>Методический портфолио</dc:title>
</cp:coreProperties>
</file>