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1.png" ContentType="image/png"/>
  <Override PartName="/ppt/media/image43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D15-5024-4358-8279-C68B4E03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7CB-1338-4430-AA04-D98F43A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A21-CF60-4116-8282-85BEF433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704-C5DB-4337-92FF-36F5A3D0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7DE-B85F-43CA-A99B-ED24B71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B6C-B01F-4BF6-BC95-67609FC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294-A609-4727-B7B4-3B3AA54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6BB-772C-4C7A-97C3-32B4DB6A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5E7-E7BA-4058-85CC-53A9598E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C76-DAE8-4D66-916A-F4E8D2E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284-738E-4322-9EF9-F8EF202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225-48C2-4356-A723-D8DD41B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6DBE-6702-4FE3-8C96-83ADD77B6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video" Target="file:///tmp/home/.config/libreoffice/4/user/gallery/&#1089;&#1077;&#1084;&#1077;&#1085;&#1086;&#1074;&#1086;" TargetMode="External"/><Relationship Id="rId5" Type="http://schemas.microsoft.com/office/2007/relationships/media" Target="file:///tmp/home/.config/libreoffice/4/user/gallery/&#1089;&#1077;&#1084;&#1077;&#1085;&#1086;&#1074;&#1086;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360" y="3500280"/>
            <a:ext cx="35276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авил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ший воспитатель Дисюк М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7280" y="1125360"/>
            <a:ext cx="6551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АТРЕШК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6626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Загорская матрешка</a:t>
            </a:r>
            <a:br>
              <a:rPr sz="4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639880" cy="440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4751280" cy="3562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4627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40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Семёновская матрёшка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618000" cy="4824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3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олхов-майданская  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матреш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00" y="619200"/>
            <a:ext cx="1760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303280" cy="446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3529080" cy="3520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21164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455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ижная иг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«Нарядись матреш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2703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6705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2005200" cy="1942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2013120" cy="1503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00720" y="4365720"/>
            <a:ext cx="1774800" cy="147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556000" y="3789360"/>
            <a:ext cx="1838160" cy="151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236000" y="2708280"/>
            <a:ext cx="1655640" cy="156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716360" y="3789360"/>
            <a:ext cx="1700280" cy="158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5280" y="692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«Собери матреш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212 0.17318 L -0.58212 0.17318 E">
                                      <p:cBhvr>
                                        <p:cTn id="26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0615 L -0.27153 -0.0615 E">
                                      <p:cBhvr>
                                        <p:cTn id="264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87 -0.29664 L -0.40417 -0.29664 E">
                                      <p:cBhvr>
                                        <p:cTn id="268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6920" y="764640"/>
            <a:ext cx="74901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3819600" cy="5465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379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356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 (595x353, 153Kb)"/>
          <p:cNvPicPr/>
          <p:nvPr/>
        </p:nvPicPr>
        <p:blipFill>
          <a:blip r:embed="rId3"/>
          <a:stretch/>
        </p:blipFill>
        <p:spPr>
          <a:xfrm>
            <a:off x="971640" y="1341360"/>
            <a:ext cx="705636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996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7280" y="5084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765000"/>
            <a:ext cx="547380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171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Monotype Corsiva"/>
              </a:rPr>
              <a:t>Ростом разные подружки,</a:t>
            </a:r>
            <a:br>
              <a:rPr sz="2900"/>
            </a:br>
            <a:r>
              <a:rPr b="1" lang="en-US" sz="2900" spc="-1" strike="noStrike">
                <a:solidFill>
                  <a:srgbClr val="0000cc"/>
                </a:solidFill>
                <a:latin typeface="Monotype Corsiva"/>
              </a:rPr>
              <a:t>Но похожи друг на дружку,</a:t>
            </a:r>
            <a:br>
              <a:rPr sz="2900"/>
            </a:br>
            <a:r>
              <a:rPr b="1" lang="en-US" sz="2900" spc="-1" strike="noStrike">
                <a:solidFill>
                  <a:srgbClr val="0000cc"/>
                </a:solidFill>
                <a:latin typeface="Monotype Corsiva"/>
              </a:rPr>
              <a:t>Все они сидят друг в дружке</a:t>
            </a:r>
            <a:br>
              <a:rPr sz="2900"/>
            </a:br>
            <a:r>
              <a:rPr b="1" lang="en-US" sz="2900" spc="-1" strike="noStrike">
                <a:solidFill>
                  <a:srgbClr val="0000cc"/>
                </a:solidFill>
                <a:latin typeface="Monotype Corsiva"/>
              </a:rPr>
              <a:t>А всего одна игруш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2925720" cy="441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044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5975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Раз - Матрена, два - Малаша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Мила – три, четыре - Маша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Маргарита – это пять,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Нас не трудно сосчи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 (640x640, 124Kb)"/>
          <p:cNvPicPr/>
          <p:nvPr/>
        </p:nvPicPr>
        <p:blipFill>
          <a:blip r:embed="rId2"/>
          <a:stretch/>
        </p:blipFill>
        <p:spPr>
          <a:xfrm>
            <a:off x="4932360" y="378936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708360" y="242100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04000" y="2133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 (640x640, 99Kb)"/>
          <p:cNvPicPr/>
          <p:nvPr/>
        </p:nvPicPr>
        <p:blipFill>
          <a:blip r:embed="rId6"/>
          <a:stretch/>
        </p:blipFill>
        <p:spPr>
          <a:xfrm>
            <a:off x="1258920" y="378936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380000" y="2325240"/>
            <a:ext cx="392040" cy="48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42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2517840" cy="3745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3280" y="1413000"/>
            <a:ext cx="30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Старец   Фук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68360" y="4365720"/>
            <a:ext cx="2448000" cy="199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32360" y="4365720"/>
            <a:ext cx="30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Деревянные Кокэ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259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карь Звездочкин В.П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заготовки матрешки"/>
          <p:cNvPicPr/>
          <p:nvPr/>
        </p:nvPicPr>
        <p:blipFill>
          <a:blip r:embed="rId2"/>
          <a:stretch/>
        </p:blipFill>
        <p:spPr>
          <a:xfrm>
            <a:off x="684360" y="2708280"/>
            <a:ext cx="2288880" cy="255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03640" y="2565360"/>
            <a:ext cx="302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удож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гей Малют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 его первая  матрёшка. Она была одета в сарафан, а в руках - пету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1952640" cy="2158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389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312912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197460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11280" y="3284640"/>
            <a:ext cx="2967120" cy="3016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2254320" cy="3249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484360" y="404640"/>
            <a:ext cx="1736640" cy="2856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877000" y="3357720"/>
            <a:ext cx="1928880" cy="266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516720" y="1197000"/>
            <a:ext cx="1727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Увеличить"/>
          <p:cNvPicPr/>
          <p:nvPr/>
        </p:nvPicPr>
        <p:blipFill>
          <a:blip r:embed="rId2"/>
          <a:stretch/>
        </p:blipFill>
        <p:spPr>
          <a:xfrm>
            <a:off x="324000" y="1628640"/>
            <a:ext cx="2808000" cy="2092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2736720" cy="204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271296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3886200"/>
            <a:ext cx="3129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102200"/>
            <a:ext cx="3128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221000"/>
            <a:ext cx="3128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789360"/>
            <a:ext cx="302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Шлифовка за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носить краску лучше всего на гладкую отшлифованную поверхность. В особых случаях следует использовать также шпаклевку и грунтов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35240" y="4749840"/>
            <a:ext cx="3128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2349360"/>
            <a:ext cx="388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несение кл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лей на матрешке наносится в виде узора: на данном рисунке обводим бабочку. В будущем это послужит основой для нанесения имитации позолоты - потали. Этот замечательный материал придает изделию золотой блеск и неповторим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551664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леение по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ременные технологии и материалы позволяют творить чудеса и превращать деревяшку в произведение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8920" y="378936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орисовка ф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перь необходимо заняться оформлением изделия и начать стоит естественно с фона. На данном сувенире  нарисован летний луг и яркое голубое неб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519640" cy="187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43280" y="333360"/>
            <a:ext cx="2624040" cy="195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651640" y="1484280"/>
            <a:ext cx="2840040" cy="211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916360" y="3645000"/>
            <a:ext cx="2552400" cy="190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2349360"/>
            <a:ext cx="190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3716280"/>
            <a:ext cx="2879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во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рисовка деталей обводкой позволяет подчеркнуть их и выделить на общем фоне. После нее фактически получается готовое изделие, которое проходит визуальный контроль качества, и уж только потом поступает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ний эта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2276640"/>
            <a:ext cx="2737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елкие жучки в травке, сама трава, детали бабочки рисуются яркими красками. На этом этапе собственно и создается основной сюжет сувени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5589720"/>
            <a:ext cx="39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ключительный эта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увенир покрывается слоем лака. Лак защищает изделия от влаги и пыли, а также придает особый блеск готовому сувени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33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40428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мину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Читается нараспев с движени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ы веселые матрешки, ладушки, ладушки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Хороши у нас одежки, ладушки, ладушки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ужимся мы и танцуем, ладушки, ладушки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Хоровод водить мы будем, ладушки, лад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473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5:47:47Z</dcterms:created>
  <dc:creator>Customer</dc:creator>
  <dc:description/>
  <dc:language>en-US</dc:language>
  <cp:lastModifiedBy>Customer</cp:lastModifiedBy>
  <dcterms:modified xsi:type="dcterms:W3CDTF">2012-01-23T09:11:05Z</dcterms:modified>
  <cp:revision>31</cp:revision>
  <dc:subject/>
  <dc:title>Слайд 1</dc:title>
</cp:coreProperties>
</file>