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383-2AB5-481D-B0F5-B1739C03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61E-D184-4EC6-8CDC-FF3FDB5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31C2-6301-4F0F-94A7-A9B07895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FB63-C016-40AB-95AE-F8BEE5A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881B0-0208-4517-A61E-078B6C93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7669-3F29-48BD-9200-1317BB0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2D3E5-53A8-4492-8141-D74D22E8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91CA-602B-4728-BD11-FAF3938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35B83-AC2E-46D5-A197-425C0BF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73F7-DD76-4D42-9D58-C246F154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12D7-F2BC-4D44-92AF-222DE07E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0335-CA68-476E-B70E-9ABEFD62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003-68E7-42FB-A185-D9368091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0CA32-0EDA-4492-AA8C-C855D400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17AD-EB4A-4507-BAC1-68C362C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5A0E2-B646-424E-82E0-138E638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143CA-5F4F-4CA5-9824-19919E92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EA97E-C29C-4583-BFFF-80B4775D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EFBC7-E6A3-4D8B-BB8D-6BEBFAC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7798C-A874-4A54-A0AF-74DCD23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DE421-8C2A-4BB9-AF17-87303BB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367B9-3CE7-4276-8921-7B9E8C1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57D7-8F42-41F8-8D2B-84B6C6DB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A05-0077-4BD9-B8BF-4699A676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0A072-9943-4994-8D86-6AE73B0A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4D79-7123-464B-AD4B-74592B1E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457E8-6F57-434C-BB37-B71DC895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FB56-5E88-47E1-8F61-CE629E8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CEC83-293F-4752-9749-3059DA3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69DE-CB78-478D-83E5-A4D6D31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39E36-402E-43FB-B230-EAC5471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CD0BD-B2F1-4B55-96AD-D978243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4028B-F360-4C8F-B1BC-C409483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7997-C9CE-42AF-AEFA-5498505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F50D-84A2-4CFF-9858-F8EF49A2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9299-709C-40C8-8E73-B3D221E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A5EC-7F08-4261-8395-29F48354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E34C-5D2A-4355-8447-85F7C800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4843-16B1-46DA-A74B-4782C36C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DE1C-0A60-40F9-8347-9866ABDA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9E7-4913-4F9D-975C-D79C2D5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2C6-70DF-4FE6-8A8C-D5250C3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FDE-17FC-4ECD-B870-D3D7F2C4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45D-CC4C-4B57-B7E3-0E79172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46D-995C-4135-A0B4-F348916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166-DAAF-41D5-841C-2B279825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9583-0C4F-4E59-97E8-0B51689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9100-859D-49C4-AD76-E2ED3E1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F813-6335-425E-B49E-4FDBF2FD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0334-3F11-40AB-8142-7D4F1D55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3007-BC5B-4B74-B30A-FF953301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BBFC-0640-45DD-AC8C-C02EB948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2522-208C-4722-BD14-10A49267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6F2F-7517-4C46-8018-E1CFDC1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5BEE-5D4D-4F05-82C7-CA46AB7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3B6-166D-4A9F-BA73-C14B480B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0054-7C30-4C4F-82F8-7991142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2534-A289-4C2F-900D-8F509A0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5ABC-AA8A-43C8-A831-EDBD2D0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A80B-FCFE-47E9-AAC4-32A8165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3718-6FA7-4830-90D9-5ACB585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AA62-A89D-448A-8BB3-1894EFD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4481-31CC-42F7-BCA3-056E8C6D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FCAC-0153-4C76-BEDD-412A5571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0F53-3830-4ED0-8975-5A761934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C7CE-3C6F-4A86-8375-1EB1D91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1F4-E672-4DA5-A16A-628A7E44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5D72-2E6F-4022-A8B6-3CC1BF9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4979-4DD5-42EA-B0CD-F701965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F32D-B93D-4225-9832-BBB9C809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92AD-CA8E-4F29-B76D-D75DAAA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A32A-96E7-4C81-8199-6399A66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27CB-C519-4B05-BB79-A2A4489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18D1-FE16-4FD9-9A87-0D8DF27F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C7D7-0CCB-425C-80CB-EBF3031B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5317-3E8B-448E-8392-E921AA19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A283-B4F0-4FD1-A1EC-FA32236C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6D0-453D-4302-AA2F-45FE38A3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E918-10BD-482E-B01E-065A5E6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DF96-D035-4FEE-A59C-0408B7C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98DE-4365-4291-B2B1-973357C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54FE-2B9F-44C3-90C3-AEAA20E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F717-69E7-4569-9607-03CB76F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AAB7-A895-4CC5-9ED0-08400C8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DECE-FAF6-46B8-8F4B-067C8A7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90E7-BF8F-4250-AA48-382FC36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B7F9-9431-44ED-BBE8-A5F3721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7346-3610-4741-82D4-B1E655EA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FF9-DB5B-444A-971D-082EE364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AD66-CFD6-42FE-95B8-3415E0BA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0414-597A-48F9-A703-B5BAEE62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3078-056D-4658-BFD0-F0394F1A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1E2E-0E6F-4DDE-B440-C7EB716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3A8E-1106-4AA2-A624-E7CABF55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1123-7084-4F40-8CC1-454C816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6E977-6A53-495A-8A3C-22E6DE7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C815-A0F3-476C-BD91-411EAAB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9CD0-C90E-4A2D-9F87-BED52E3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CAF8-EDAF-4FEA-80FB-90EF4C95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FE3-46F0-4EE5-91AE-59C345F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B992-5307-4A52-BAC0-1E2F08E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3946A-E289-4ED5-8B64-D7F627B5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6F59-ED4F-4535-9C30-92DE4C0A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31BF-9FB3-471D-8B17-8F4E90B0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C382-E13B-42C2-BAB7-D27C81DB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B3147-9F72-47B6-AD0C-379078F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C6E8-FA6D-4802-82A0-BC61B279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16D0C-8FA3-4856-BD24-F47C7F6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A872-C438-4A9C-A31C-06A3F02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9B82-3F46-470C-8301-64E139E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17C-5729-4B98-9AE8-216B104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C821-D432-4E05-9C82-6797C1E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47C15-101C-4E9B-B55E-DDAE047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DBBA9-685B-481F-B219-A54C96D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6343-1C81-4CE6-A055-EEE26734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D036-2F27-442F-A067-2D258E73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DB89-64C5-413B-99B0-DE6574C8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0400-4A30-4D2C-AFC6-773C8FF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853B-C59C-4E06-B2DE-65BC90B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08E4-CFB1-465E-A5A1-3106739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28ED-8E15-485E-A00C-D875AC5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908-CBF1-4061-ACEC-0F9299DC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FB2C-564F-402B-A129-6F82490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C9241-06DD-4E60-9308-4B0334D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3844-D1AC-47C4-B786-306B6C7A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16DFF-B4F5-43A5-AB53-424A4CE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EC544-4D35-43F6-BDD7-902DFF1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C7D6D-42F9-4615-84D9-333748B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E354-0C06-4A0D-B624-2BCABBB0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558F-C67C-4318-AC16-E8907A40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0E91F-DAF8-458B-A829-45009D8D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7CE74-FC13-463D-89EE-A454CDA6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C8C-03F4-40E7-87ED-8908BF7D150D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CC8-62ED-45D6-885F-099F6CD5566B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631-695A-4A4B-964C-412F34C18980}" type="slidenum">
              <a:rPr b="0" lang="ru-RU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2B20-A6A9-412D-AE1A-376D9F931719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255D-A35E-4328-B334-4DC61894DBDC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DEA8-975F-440C-983C-2B43F965FA0E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4F66-0B97-466C-85FD-FB1B745CF2BE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6BC-AAE8-4977-AD1B-0CC81EE40AD7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D0FA-F3B8-49FF-9D46-61AE7EFC0594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BC7-E325-4A44-9346-B2E93B6B89AB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7a51"/>
            </a:gs>
            <a:gs pos="50000">
              <a:srgbClr val="00b082"/>
            </a:gs>
            <a:gs pos="100000">
              <a:srgbClr val="287a5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D1F-A3E1-41F6-B77E-BCD863699341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ru.calameo.com/accounts/1010972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if.ru/health/article/21637" TargetMode="External"/><Relationship Id="rId2" Type="http://schemas.openxmlformats.org/officeDocument/2006/relationships/hyperlink" Target="http://oboi.kards.qip.ru/list/download/61119/1024x768/lozhka_meda.htm" TargetMode="External"/><Relationship Id="rId3" Type="http://schemas.openxmlformats.org/officeDocument/2006/relationships/hyperlink" Target="http://vdcprovence.web.officelive.com/default.aspx" TargetMode="External"/><Relationship Id="rId4" Type="http://schemas.openxmlformats.org/officeDocument/2006/relationships/hyperlink" Target="http://www.mobime.ru/articles/2007/04/23/week-38.html" TargetMode="External"/><Relationship Id="rId5" Type="http://schemas.openxmlformats.org/officeDocument/2006/relationships/hyperlink" Target="http://photo-dict.faqs.org/phrase/1270/honeycomb.html" TargetMode="External"/><Relationship Id="rId6" Type="http://schemas.openxmlformats.org/officeDocument/2006/relationships/hyperlink" Target="http://fotki.yandex.ru/users/tyul-tatiana-vl/view/209469/" TargetMode="External"/><Relationship Id="rId7" Type="http://schemas.openxmlformats.org/officeDocument/2006/relationships/hyperlink" Target="http://www.xrest.ru/preview/770259/" TargetMode="External"/><Relationship Id="rId8" Type="http://schemas.openxmlformats.org/officeDocument/2006/relationships/hyperlink" Target="http://sadisam.com/news/1403/" TargetMode="External"/><Relationship Id="rId9" Type="http://schemas.openxmlformats.org/officeDocument/2006/relationships/hyperlink" Target="http://www.chitalnya.ru/users/pirat43/got_reviews.php&amp;p6" TargetMode="External"/><Relationship Id="rId10" Type="http://schemas.openxmlformats.org/officeDocument/2006/relationships/hyperlink" Target="http://www.1zoom.ru/&#1045;&#1076;&#1072;/&#1086;&#1073;&#1086;&#1080;/265544/z446.9/" TargetMode="External"/><Relationship Id="rId11" Type="http://schemas.openxmlformats.org/officeDocument/2006/relationships/hyperlink" Target="http://www.fantom-xp.com/ru_42_~_Grape.html" TargetMode="External"/><Relationship Id="rId12" Type="http://schemas.openxmlformats.org/officeDocument/2006/relationships/hyperlink" Target="http://www.oldisite.com/id/7391/" TargetMode="External"/><Relationship Id="rId13" Type="http://schemas.openxmlformats.org/officeDocument/2006/relationships/hyperlink" Target="http://www.lentachel.ru/articles/4402" TargetMode="External"/><Relationship Id="rId14" Type="http://schemas.openxmlformats.org/officeDocument/2006/relationships/hyperlink" Target="http://astana.restoran.kz/ru/izyum-kakoj-byvaet-kak-vybrat-kak-gotovit" TargetMode="External"/><Relationship Id="rId15" Type="http://schemas.openxmlformats.org/officeDocument/2006/relationships/hyperlink" Target="http://blogs.privet.ru/community/Vals34567/82002730" TargetMode="External"/><Relationship Id="rId16" Type="http://schemas.openxmlformats.org/officeDocument/2006/relationships/hyperlink" Target="http://infokam.su/606" TargetMode="External"/><Relationship Id="rId17" Type="http://schemas.openxmlformats.org/officeDocument/2006/relationships/hyperlink" Target="http://lilitochka.0pk.ru/viewtopic.php?id=361&amp;p=3" TargetMode="External"/><Relationship Id="rId18" Type="http://schemas.openxmlformats.org/officeDocument/2006/relationships/hyperlink" Target="http://pda.privet.ru/blog/6680777?page=13" TargetMode="External"/><Relationship Id="rId19" Type="http://schemas.openxmlformats.org/officeDocument/2006/relationships/hyperlink" Target="http://dasha94.rebloger.ru/post/15143537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8417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14200" y="4071960"/>
            <a:ext cx="58579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езентацию выполнил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ОУ  Стрелецкой сош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жанова Е.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2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311040"/>
            <a:ext cx="8712000" cy="41450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5" descr="5.jpg"/>
          <p:cNvPicPr/>
          <p:nvPr/>
        </p:nvPicPr>
        <p:blipFill>
          <a:blip r:embed="rId3"/>
          <a:stretch/>
        </p:blipFill>
        <p:spPr>
          <a:xfrm>
            <a:off x="7572240" y="1714680"/>
            <a:ext cx="1306800" cy="151920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6" descr="ANET4PACAVSOAGUCAHHUR76CA7DTRJSCAGUAQR7CA2MXLKPCASTHQ1XCA358BHMCA6V179OCADF6VNACAW890KMCAMFDODPCAA0KTDFCAZIBWW0CA6YAYA2CACURW47CAYT8QHUCA9902NQCA9CGOHTCAQ1A4BD.jpg"/>
          <p:cNvPicPr/>
          <p:nvPr/>
        </p:nvPicPr>
        <p:blipFill>
          <a:blip r:embed="rId4"/>
          <a:stretch/>
        </p:blipFill>
        <p:spPr>
          <a:xfrm>
            <a:off x="714240" y="5572080"/>
            <a:ext cx="1352520" cy="100980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8" descr="i[10].jpg"/>
          <p:cNvPicPr/>
          <p:nvPr/>
        </p:nvPicPr>
        <p:blipFill>
          <a:blip r:embed="rId5"/>
          <a:stretch/>
        </p:blipFill>
        <p:spPr>
          <a:xfrm>
            <a:off x="5711760" y="3706920"/>
            <a:ext cx="2938680" cy="22064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7"/>
          <p:cNvSpPr/>
          <p:nvPr/>
        </p:nvSpPr>
        <p:spPr>
          <a:xfrm>
            <a:off x="4071960" y="58579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ная версия презентации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ttp://ru.calameo.com/accounts/10109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228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71294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знакомить детей с производством хорошо известных им сладостей (шоколад, изюм и мёд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казать учащимся природное происхождение названных продуктов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9" name="Прямоугольник 3" descr=""/>
          <p:cNvPicPr/>
          <p:nvPr/>
        </p:nvPicPr>
        <p:blipFill>
          <a:blip r:embed="rId2"/>
          <a:stretch/>
        </p:blipFill>
        <p:spPr>
          <a:xfrm>
            <a:off x="2346480" y="493560"/>
            <a:ext cx="483552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1640" y="713880"/>
            <a:ext cx="42735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На каждом уроке окружающего мира с вами вместе Мудрая Черепаха. Она и сегодня у нас в гостях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Посмотрите, какая она нарядная. Это потому, что у Черепахи сегодня день рождения, и она ждёт от Муравьишки в подарок любимое лакомство –   шоколад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Черепаха объяснила Муравьишке, что шоколад нам дают шоколадные деревья, и он побежал в лес искать такие деревья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353880" y="2706840"/>
            <a:ext cx="4297320" cy="387000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7" descr="ARKRYLACAPQ8NARCAQYQYCKCAI3OBCFCARN9CM0CAK8Z8YQCAWQGSKKCA0PLS56CAZAF301CAFZARQ8CA5BN8W1CAU3FBXSCABV0C1VCA5WR84DCA6OF2KUCAABKBC6CAUNK2TQCAC1RSG1CATMRDYMCAE8WIBP.jpg"/>
          <p:cNvPicPr/>
          <p:nvPr/>
        </p:nvPicPr>
        <p:blipFill>
          <a:blip r:embed="rId2"/>
          <a:stretch/>
        </p:blipFill>
        <p:spPr>
          <a:xfrm>
            <a:off x="1206360" y="353880"/>
            <a:ext cx="3249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rbel"/>
              </a:rPr>
              <a:t>Информационные ресурсы</a:t>
            </a:r>
            <a:endParaRPr b="1" lang="en-US" sz="4400" spc="-1" strike="noStrike">
              <a:solidFill>
                <a:srgbClr val="ffffb7"/>
              </a:solidFill>
              <a:latin typeface="Corbe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85480" y="928800"/>
            <a:ext cx="85597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"/>
              </a:rPr>
              <a:t>http://www.aif.ru/health/article/2163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2"/>
              </a:rPr>
              <a:t>http://oboi.kards.qip.ru/list/download/61119/1024x768/lozhka_meda.htm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3"/>
              </a:rPr>
              <a:t>http://vdcprovence.web.officelive.com/default.aspx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4"/>
              </a:rPr>
              <a:t>http://www.mobime.ru/articles/2007/04/23/week-38.html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5"/>
              </a:rPr>
              <a:t>http://photo-dict.faqs.org/phrase/1270/honeycomb.html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6"/>
              </a:rPr>
              <a:t>http://fotki.yandex.ru/users/tyul-tatiana-vl/view/209469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7"/>
              </a:rPr>
              <a:t>http://www.xrest.ru/preview/770259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8"/>
              </a:rPr>
              <a:t>http://sadisam.com/news/1403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9"/>
              </a:rPr>
              <a:t>http://www.chitalnya.ru/users/pirat43/got_reviews.php&amp;p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0"/>
              </a:rPr>
              <a:t>http://www.1zoom.ru/%D0%95%D0%B4%D0%B0/%D0%BE%D0%B1%D0%BE%D0%B8/265544/z446.9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1"/>
              </a:rPr>
              <a:t>http://www.fantom-xp.com/ru_42_~_Grape.html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2"/>
              </a:rPr>
              <a:t>http://www.oldisite.com/id/7391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3"/>
              </a:rPr>
              <a:t>http://www.lentachel.ru/articles/440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4"/>
              </a:rPr>
              <a:t>http://astana.restoran.kz/ru/izyum-kakoj-byvaet-kak-vybrat-kak-gotovi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5"/>
              </a:rPr>
              <a:t>http://blogs.privet.ru/community/Vals34567/82002730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6"/>
              </a:rPr>
              <a:t>http://infokam.su/60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7"/>
              </a:rPr>
              <a:t>http://lilitochka.0pk.ru/viewtopic.php?id=361&amp;p=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8"/>
              </a:rPr>
              <a:t>http://pda.privet.ru/blog/6680777?page=1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orbel"/>
                <a:hlinkClick r:id="rId19"/>
              </a:rPr>
              <a:t>http://dasha94.rebloger.ru/post/1514353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http://www.liveinternet.ru/users/margaritka_ooz/rubric/1516490/comments/page1.html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http://gubkin.info/zdorovie/48726-potreblenie-chernogo-shokolada-polezno-dlya.html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http://choc.irisht.ru/fabric/russia.php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http://www.september-t.ru/area/school_groups/87/item/1272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И другие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32:03Z</dcterms:created>
  <dc:creator>KEA</dc:creator>
  <dc:description/>
  <dc:language>en-US</dc:language>
  <cp:lastModifiedBy>User</cp:lastModifiedBy>
  <dcterms:modified xsi:type="dcterms:W3CDTF">2012-01-23T19:16:38Z</dcterms:modified>
  <cp:revision>116</cp:revision>
  <dc:subject/>
  <dc:title>Слайд 1</dc:title>
</cp:coreProperties>
</file>