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F3BC-52E1-4672-965E-4193A050C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2BAB-7E6E-4FE3-A857-7C2B0F4B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CD4D-C4FF-4469-B1EF-F9DC45AFB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9FDE-E497-4E98-B354-2C1403005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B8EE-3739-4C2C-91D7-8806E434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C35E-40CA-4D6A-B1FD-AF6BE539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CA9E-181A-4FFE-8EB5-D5FCCBA7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9AF6-ED34-49AF-8FEA-F503ED84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33BA-946B-4E96-A372-3187DCC9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21DA-A300-414C-B733-A9CBC91A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E127-0203-49C4-A45F-75286590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2485-7ED0-473E-8068-AD80EC73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03F0-6459-4530-A121-8475EBBF5D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457200" y="-228600"/>
            <a:ext cx="8153280" cy="708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Золотой век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русской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литературы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IMG_0005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28600" y="228600"/>
            <a:ext cx="4363920" cy="6400800"/>
          </a:xfrm>
          <a:prstGeom prst="rect">
            <a:avLst/>
          </a:prstGeom>
          <a:ln w="0">
            <a:noFill/>
          </a:ln>
        </p:spPr>
      </p:pic>
      <p:sp>
        <p:nvSpPr>
          <p:cNvPr id="65" name="WordArt 5"/>
          <p:cNvSpPr txBox="1"/>
          <p:nvPr/>
        </p:nvSpPr>
        <p:spPr>
          <a:xfrm>
            <a:off x="4952880" y="457200"/>
            <a:ext cx="39434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Фёдор Николаевич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Глинк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1786 - 1880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4648320" y="2133720"/>
            <a:ext cx="434340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гда средь оргий жизни шум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ня постигнул остракиз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видел я толпы безум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зренный, робкий эгоиз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з слёз оставил я с досад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нки пиров и блеск Афи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 голос твой мне был отрад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ликодушный гражданин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Пушк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IMG_0006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28600" y="228600"/>
            <a:ext cx="4378320" cy="6400800"/>
          </a:xfrm>
          <a:prstGeom prst="rect">
            <a:avLst/>
          </a:prstGeom>
          <a:ln w="0">
            <a:noFill/>
          </a:ln>
        </p:spPr>
      </p:pic>
      <p:sp>
        <p:nvSpPr>
          <p:cNvPr id="68" name="WordArt 5"/>
          <p:cNvSpPr txBox="1"/>
          <p:nvPr/>
        </p:nvSpPr>
        <p:spPr>
          <a:xfrm>
            <a:off x="4952880" y="457200"/>
            <a:ext cx="39434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Антон Антонович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Дельвиг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1798 - 1831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4724280" y="2286000"/>
            <a:ext cx="441972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дивное волнение мы познал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 младенчества дух песен в нас горел,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 младенчества две музы к нам летал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сладок был их лаской наш уде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о я любил уже рукоплесканья,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ы, гордый, пел для муз и для душ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вой дар, как жизнь, я тратил без вниманья,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ы гений свой воспитывал в тиш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.Пушк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IMG_0007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28600" y="228600"/>
            <a:ext cx="4484520" cy="6400800"/>
          </a:xfrm>
          <a:prstGeom prst="rect">
            <a:avLst/>
          </a:prstGeom>
          <a:ln w="0">
            <a:noFill/>
          </a:ln>
        </p:spPr>
      </p:pic>
      <p:sp>
        <p:nvSpPr>
          <p:cNvPr id="71" name="WordArt 5"/>
          <p:cNvSpPr txBox="1"/>
          <p:nvPr/>
        </p:nvSpPr>
        <p:spPr>
          <a:xfrm>
            <a:off x="4952880" y="457200"/>
            <a:ext cx="39434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Владимир Федосеевич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Раевский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1795 - 1872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4800600" y="3962520"/>
            <a:ext cx="4114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даром ты ко мне воззв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глубины глухой темницы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Пушк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4876920" y="2133720"/>
            <a:ext cx="4038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тавь другим певцам любов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бовь ли петь, где брызжет кров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Раевс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IMG_0008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52280" y="228600"/>
            <a:ext cx="4430880" cy="6400800"/>
          </a:xfrm>
          <a:prstGeom prst="rect">
            <a:avLst/>
          </a:prstGeom>
          <a:ln w="0">
            <a:noFill/>
          </a:ln>
        </p:spPr>
      </p:pic>
      <p:sp>
        <p:nvSpPr>
          <p:cNvPr id="75" name="WordArt 5"/>
          <p:cNvSpPr txBox="1"/>
          <p:nvPr/>
        </p:nvSpPr>
        <p:spPr>
          <a:xfrm>
            <a:off x="4952880" y="457200"/>
            <a:ext cx="39434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Николай Михайлович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Языков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1803 - 1846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4724280" y="2057400"/>
            <a:ext cx="419112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древле сладостный сою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этов меж собой связу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и жрецы единых муз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диный пламень их волнуе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уг другу чужды по судьб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и родня по вдохновен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янусь Овидиевой тень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зыков, близок я теб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Пушк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IMG_0009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28600" y="228600"/>
            <a:ext cx="4363920" cy="6400800"/>
          </a:xfrm>
          <a:prstGeom prst="rect">
            <a:avLst/>
          </a:prstGeom>
          <a:ln w="0">
            <a:noFill/>
          </a:ln>
        </p:spPr>
      </p:pic>
      <p:sp>
        <p:nvSpPr>
          <p:cNvPr id="78" name="WordArt 5"/>
          <p:cNvSpPr txBox="1"/>
          <p:nvPr/>
        </p:nvSpPr>
        <p:spPr>
          <a:xfrm>
            <a:off x="4876920" y="304920"/>
            <a:ext cx="394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Евгений Абрамович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Баратынский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1800 - 1844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4800600" y="1371600"/>
            <a:ext cx="4191120" cy="56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аратынский – прелесть и чудо; после него никогда не стану печатать своих элег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вец «Пиров» и грусти томной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гда б ещё ты был со мно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стал бы просьбою нескром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бя тревожить, милый мо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тоб на волшебные напе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еложил ты страстной де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оплемённые сло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де ты? Приди, - свои пра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едаю тебе с поклоном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о посреди печальных ска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выкнув сердцем от похва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дин, под финским небосклоно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 бродит, и душа е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 слышит горя мое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.Пушк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IMG_0010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52280" y="228600"/>
            <a:ext cx="4400640" cy="6400800"/>
          </a:xfrm>
          <a:prstGeom prst="rect">
            <a:avLst/>
          </a:prstGeom>
          <a:ln w="0">
            <a:noFill/>
          </a:ln>
        </p:spPr>
      </p:pic>
      <p:sp>
        <p:nvSpPr>
          <p:cNvPr id="81" name="WordArt 5"/>
          <p:cNvSpPr txBox="1"/>
          <p:nvPr/>
        </p:nvSpPr>
        <p:spPr>
          <a:xfrm>
            <a:off x="4952880" y="457200"/>
            <a:ext cx="39434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Вильгельм Карлович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Кюхельбекер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1797 - 1846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4572000" y="2133720"/>
            <a:ext cx="457200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ра, пора! душевных наших м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стоит мир; оставим заблуждень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кроем жизнь под сень уединень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жду тебя, мой запоздалый друг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ди; огнём волшебного расск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дечные преданья ожив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говорим о бурных днях Кавказ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 Шиллере, о славе, о люб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Пушк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IMG_0011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28600" y="228600"/>
            <a:ext cx="4216320" cy="6324480"/>
          </a:xfrm>
          <a:prstGeom prst="rect">
            <a:avLst/>
          </a:prstGeom>
          <a:ln w="0">
            <a:noFill/>
          </a:ln>
        </p:spPr>
      </p:pic>
      <p:sp>
        <p:nvSpPr>
          <p:cNvPr id="84" name="WordArt 5"/>
          <p:cNvSpPr txBox="1"/>
          <p:nvPr/>
        </p:nvSpPr>
        <p:spPr>
          <a:xfrm>
            <a:off x="4952880" y="457200"/>
            <a:ext cx="39434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Александр Иванович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доевский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1802 - 1839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4648320" y="2057400"/>
            <a:ext cx="41907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8560" indent="-8985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ун вещих пламенные зв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98560" indent="-8985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 слуха нашего дошл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98560" indent="-8985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мечам рванулись наши р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98560" indent="-8985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– лишь оковы обр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98560" indent="-8985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 будь покоен, бард! – цепя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98560" indent="-8985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ей судьбой гордимся 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98560" indent="-8985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за затворами тюрь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98560" indent="-8985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душе смеёмся над цар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98560" indent="-8985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 Пушкину на     послание в Сибир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IMG_0012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28600" y="228600"/>
            <a:ext cx="4460760" cy="6400800"/>
          </a:xfrm>
          <a:prstGeom prst="rect">
            <a:avLst/>
          </a:prstGeom>
          <a:ln w="0">
            <a:noFill/>
          </a:ln>
        </p:spPr>
      </p:pic>
      <p:sp>
        <p:nvSpPr>
          <p:cNvPr id="87" name="WordArt 5"/>
          <p:cNvSpPr txBox="1"/>
          <p:nvPr/>
        </p:nvSpPr>
        <p:spPr>
          <a:xfrm>
            <a:off x="4952880" y="457200"/>
            <a:ext cx="39434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Константин Николаевич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Батюшков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1787 - 1855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4648320" y="2590920"/>
            <a:ext cx="4267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лософ резвый и пии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рнасский счастливый ленивец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Пушк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IMG_0013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28600" y="228600"/>
            <a:ext cx="4405320" cy="6324480"/>
          </a:xfrm>
          <a:prstGeom prst="rect">
            <a:avLst/>
          </a:prstGeom>
          <a:ln w="0">
            <a:noFill/>
          </a:ln>
        </p:spPr>
      </p:pic>
      <p:sp>
        <p:nvSpPr>
          <p:cNvPr id="90" name="WordArt 5"/>
          <p:cNvSpPr txBox="1"/>
          <p:nvPr/>
        </p:nvSpPr>
        <p:spPr>
          <a:xfrm>
            <a:off x="4952880" y="457200"/>
            <a:ext cx="39434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Иван Иванович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Козлов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1779 - 1840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800600" y="2057400"/>
            <a:ext cx="411480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вец, когда перед то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 мгле сокрылся мир земн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гновенно твой проснулся г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всё минувшее воззр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в хоре светлых привид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 песни дивные зап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 милый брат, какие звук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слезах восторга внемлю им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Пушк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152280" y="228600"/>
            <a:ext cx="8763120" cy="58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Классический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138400" indent="-34308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тичный и тем самым образцовы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138400" indent="-34308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носящийся к классицизм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138400" indent="-34308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зданный классиком, совершенный, признанный, образцов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138400" indent="-34308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Классик –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еликий деятель науки, искусства, литературы, чьи творен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сохраняют значение общепризнанного образ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Классическая литература –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канонизированная литература; образцовая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наиболее значитель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о Франции классицизм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ека (Мольер, Лафонтен, Расин) стал и национальной классикой. Русская классическая литература соотносится с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еком – это золотой век русской литературы и, прежде всего, поэз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4"/>
          <p:cNvSpPr txBox="1"/>
          <p:nvPr/>
        </p:nvSpPr>
        <p:spPr>
          <a:xfrm>
            <a:off x="457200" y="-228600"/>
            <a:ext cx="8153280" cy="708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Поэты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пушкинской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эпохи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228600" y="22860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ть поэты, чьи имена стали не только гордостью, но символом национальной культуры. Для итальянцев это Данте, для англичан – Шекспир, для немцев – Гёте, для русских – Пушк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6"/>
          <p:cNvPicPr/>
          <p:nvPr/>
        </p:nvPicPr>
        <p:blipFill>
          <a:blip r:embed="rId1"/>
          <a:stretch/>
        </p:blipFill>
        <p:spPr>
          <a:xfrm>
            <a:off x="358920" y="1295280"/>
            <a:ext cx="3981240" cy="46483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228600" y="594216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ипренский Орест Адамович. Портрет поэта А.С. Пушкина. 1827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4495680" y="1981080"/>
            <a:ext cx="44197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 нас всё ведь от Пушкина. Поворот его к народу в столь раннюю пору его деятельности до того был беспримерен и удивителен, представлял для того времени до того неожиданное новое слово, что объяснить его можно лишь если не чудом, то необычайною великостью гени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.М.Достоевс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6"/>
          <p:cNvPicPr/>
          <p:nvPr/>
        </p:nvPicPr>
        <p:blipFill>
          <a:blip r:embed="rId1"/>
          <a:stretch/>
        </p:blipFill>
        <p:spPr>
          <a:xfrm>
            <a:off x="228600" y="990720"/>
            <a:ext cx="4057560" cy="48765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304920" y="59436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опинин Василий Андреевич. Портрет А.С. Пушкина. 1827г.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228600" y="2286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, что Пушкин – центральная фигура тогдашней эпохи, осознавалось многи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4419720" y="2286000"/>
            <a:ext cx="44956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 тебя устремлены глаза России; тебя любят, тебе верят, тебе подражают. Будь Поэт и граждан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.Ф.Рыле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304920" y="685800"/>
            <a:ext cx="853416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этической друж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мелый вождь и исполин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 детства твой полёт орли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остигал крутых вершин…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сал, вспоминая Пушкина, один из самых близких его друзей поэт Вяземс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шкина мы по праву считаем родоначальником нашей классической литературы, но он шёл не один. Рядом были друзья, единомышленники, а порою и «соперники по слав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не случайно пушкинскую пору называют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золотым веком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усской поэ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Годы жизни поэта – 1799-18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IMG_0001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28600" y="228600"/>
            <a:ext cx="4400640" cy="6324480"/>
          </a:xfrm>
          <a:prstGeom prst="rect">
            <a:avLst/>
          </a:prstGeom>
          <a:ln w="0">
            <a:noFill/>
          </a:ln>
        </p:spPr>
      </p:pic>
      <p:sp>
        <p:nvSpPr>
          <p:cNvPr id="53" name="WordArt 5"/>
          <p:cNvSpPr txBox="1"/>
          <p:nvPr/>
        </p:nvSpPr>
        <p:spPr>
          <a:xfrm>
            <a:off x="4952880" y="457200"/>
            <a:ext cx="39434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Василий Андреевич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Жуковский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1783 - 1852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648320" y="2286000"/>
            <a:ext cx="449568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55960" indent="-2955960">
              <a:spcBef>
                <a:spcPts val="1125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го стихов пленительная слад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5960" indent="-2955960">
              <a:spcBef>
                <a:spcPts val="1125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йдёт веков завистливую дал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5960" indent="-2955960">
              <a:spcBef>
                <a:spcPts val="1125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, внемля им, вздохнёт о славе младос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5960" indent="-2955960">
              <a:spcBef>
                <a:spcPts val="1125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тешится безмолвная печ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5960" indent="-2955960">
              <a:spcBef>
                <a:spcPts val="1125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резвая задумается рад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5960" indent="-2955960">
              <a:spcBef>
                <a:spcPts val="1125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Пушки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IMG_0002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28600" y="228600"/>
            <a:ext cx="4395960" cy="6400800"/>
          </a:xfrm>
          <a:prstGeom prst="rect">
            <a:avLst/>
          </a:prstGeom>
          <a:ln w="0">
            <a:noFill/>
          </a:ln>
        </p:spPr>
      </p:pic>
      <p:sp>
        <p:nvSpPr>
          <p:cNvPr id="56" name="WordArt 5"/>
          <p:cNvSpPr txBox="1"/>
          <p:nvPr/>
        </p:nvSpPr>
        <p:spPr>
          <a:xfrm>
            <a:off x="4952880" y="457200"/>
            <a:ext cx="39434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Пётр Андреевич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Вяземский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1792 - 1878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648320" y="2286000"/>
            <a:ext cx="449568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22440" indent="-2422440">
              <a:spcBef>
                <a:spcPts val="87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удьба свои дары явить желала в нём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22440" indent="-2422440">
              <a:spcBef>
                <a:spcPts val="87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22440" indent="-2422440">
              <a:spcBef>
                <a:spcPts val="87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звительный поэт, остряк замысловаты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22440" indent="-2422440">
              <a:spcBef>
                <a:spcPts val="87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блеском колких слов, и шутками богаты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22440" indent="-2422440">
              <a:spcBef>
                <a:spcPts val="87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частливый Вяземский, завидую теб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22440" indent="-2422440">
              <a:spcBef>
                <a:spcPts val="87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ы право получил благодаря судьб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22440" indent="-2422440">
              <a:spcBef>
                <a:spcPts val="87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меяться весело над злобою ревниво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22440" indent="-2422440">
              <a:spcBef>
                <a:spcPts val="87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вежество разить анафемой игрив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22440" indent="-2422440">
              <a:spcBef>
                <a:spcPts val="87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.Пушк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IMG_0003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28600" y="228600"/>
            <a:ext cx="4267080" cy="6400800"/>
          </a:xfrm>
          <a:prstGeom prst="rect">
            <a:avLst/>
          </a:prstGeom>
          <a:ln w="0">
            <a:noFill/>
          </a:ln>
        </p:spPr>
      </p:pic>
      <p:sp>
        <p:nvSpPr>
          <p:cNvPr id="59" name="WordArt 5"/>
          <p:cNvSpPr txBox="1"/>
          <p:nvPr/>
        </p:nvSpPr>
        <p:spPr>
          <a:xfrm>
            <a:off x="4952880" y="457200"/>
            <a:ext cx="39434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Денис Васильевич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Давыдов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1784 - 1839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4648320" y="1752480"/>
            <a:ext cx="43434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бе, певцу, тебе, герою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удалось мне за тобо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громе пушечном, в ог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акать на бешеном ко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ездник смирного Пегас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сил я старого Парна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моды вышедший мунди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 и по этой службе трудн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тут, о мой наездник чуд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ы мой отец и команди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Пушк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IMG_0004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28600" y="228600"/>
            <a:ext cx="4522680" cy="6400800"/>
          </a:xfrm>
          <a:prstGeom prst="rect">
            <a:avLst/>
          </a:prstGeom>
          <a:ln w="0">
            <a:noFill/>
          </a:ln>
        </p:spPr>
      </p:pic>
      <p:sp>
        <p:nvSpPr>
          <p:cNvPr id="62" name="WordArt 5"/>
          <p:cNvSpPr txBox="1"/>
          <p:nvPr/>
        </p:nvSpPr>
        <p:spPr>
          <a:xfrm>
            <a:off x="4952880" y="457200"/>
            <a:ext cx="39434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Кондратий Фёдорович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Рылеев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1795 - 1826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4876920" y="2743200"/>
            <a:ext cx="41148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чень знаю, что я его учитель в стихотворном языке, но он идёт своей дорогой. Он в душе поэт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Пушк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ухорукова</cp:lastModifiedBy>
  <dcterms:modified xsi:type="dcterms:W3CDTF">2012-01-23T14:18:20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