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8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987-8BA0-4D87-AC04-CAAD5562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6A8-F2E7-4359-92CF-C5869D38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258-2A84-4EF2-9AE7-F96766F3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136-05DA-4B63-84EB-676614CE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DDE2-9575-4424-9734-F23902A9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9E78-BD5C-4B05-AF9C-FBFEF7FB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59E3-C33C-4476-BF72-CB7713A3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E7B4-EBFE-4A12-B93C-76C9842C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19CC-FB04-4AAB-8032-5F42D4D2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A148-6294-48FE-A2BA-809DBC14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62A6-1888-4E2A-AC66-C0B45B20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52A-8434-463F-8270-77229C52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A6CF-89C9-41C3-A4BC-1B854D1B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00F3-A92C-4C5B-886B-74ED59BB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84C1-2A4F-4DDF-A9CD-2B4846E1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3776-778F-487C-A567-33FE7F7F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49AC-7D99-4FB6-A645-E3CCC4BF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A21-6593-4222-BBED-0AE041BF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0F8-7EA2-4808-A3A3-FA4852E8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620-3BF4-46D6-8D1E-62FCBD09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D49-7699-42B1-B861-A31EA72D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FC7-2A75-47A1-A677-B4007087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CFB-A2DE-42F9-86E3-C9BF037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13B-F574-4F74-9683-FDEF3D95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42D4-11D7-4E1D-B9D1-4A5330DEF8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8B6A-1A9A-4F69-98FB-61678A5B95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714240" y="2428920"/>
            <a:ext cx="742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Урок   русского  языка  в  6 клас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98280" y="13644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мотрите на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28760" y="107172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39640" y="620640"/>
            <a:ext cx="25196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воз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д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ртолет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135840" y="1576440"/>
            <a:ext cx="25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5353200" y="692280"/>
            <a:ext cx="274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рабанщ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риль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мен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ар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1763640" y="691920"/>
            <a:ext cx="28728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2050920" y="692280"/>
            <a:ext cx="144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 flipV="1">
            <a:off x="1763640" y="691920"/>
            <a:ext cx="287280" cy="21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2050920" y="692280"/>
            <a:ext cx="21744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285840" y="3571920"/>
            <a:ext cx="8316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Что обозначает в этих словах –чик (щик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681120" y="3000240"/>
            <a:ext cx="846288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7"/>
          <p:cNvSpPr/>
          <p:nvPr/>
        </p:nvSpPr>
        <p:spPr>
          <a:xfrm>
            <a:off x="0" y="4429080"/>
            <a:ext cx="938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значает человека по профессии и роду заня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анализируйте эти слова. Какие закономерности  существуют в их написан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7164360" y="83664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7236000" y="1341360"/>
            <a:ext cx="21564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0"/>
          <p:cNvSpPr/>
          <p:nvPr/>
        </p:nvSpPr>
        <p:spPr>
          <a:xfrm>
            <a:off x="7308720" y="1916280"/>
            <a:ext cx="216000" cy="142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7308720" y="249228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3"/>
          <p:cNvSpPr/>
          <p:nvPr/>
        </p:nvSpPr>
        <p:spPr>
          <a:xfrm>
            <a:off x="2340000" y="69228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4"/>
          <p:cNvSpPr/>
          <p:nvPr/>
        </p:nvSpPr>
        <p:spPr>
          <a:xfrm>
            <a:off x="2340000" y="126828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5"/>
          <p:cNvSpPr/>
          <p:nvPr/>
        </p:nvSpPr>
        <p:spPr>
          <a:xfrm>
            <a:off x="2195640" y="1844640"/>
            <a:ext cx="21564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>
            <a:off x="2340000" y="234936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8"/>
          <p:cNvSpPr/>
          <p:nvPr/>
        </p:nvSpPr>
        <p:spPr>
          <a:xfrm flipH="1">
            <a:off x="7093080" y="191628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9"/>
          <p:cNvSpPr/>
          <p:nvPr/>
        </p:nvSpPr>
        <p:spPr>
          <a:xfrm flipH="1">
            <a:off x="7020000" y="134136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31"/>
          <p:cNvSpPr/>
          <p:nvPr/>
        </p:nvSpPr>
        <p:spPr>
          <a:xfrm flipH="1">
            <a:off x="6948360" y="83664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33"/>
          <p:cNvSpPr/>
          <p:nvPr/>
        </p:nvSpPr>
        <p:spPr>
          <a:xfrm flipH="1">
            <a:off x="7093080" y="249228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34"/>
          <p:cNvSpPr/>
          <p:nvPr/>
        </p:nvSpPr>
        <p:spPr>
          <a:xfrm flipH="1">
            <a:off x="2124000" y="234936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35"/>
          <p:cNvSpPr/>
          <p:nvPr/>
        </p:nvSpPr>
        <p:spPr>
          <a:xfrm flipH="1">
            <a:off x="1979640" y="184464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6"/>
          <p:cNvSpPr/>
          <p:nvPr/>
        </p:nvSpPr>
        <p:spPr>
          <a:xfrm flipH="1">
            <a:off x="2124000" y="126828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7"/>
          <p:cNvSpPr/>
          <p:nvPr/>
        </p:nvSpPr>
        <p:spPr>
          <a:xfrm flipH="1">
            <a:off x="2124000" y="69228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9"/>
          <p:cNvSpPr/>
          <p:nvPr/>
        </p:nvSpPr>
        <p:spPr>
          <a:xfrm>
            <a:off x="6786720" y="3571920"/>
            <a:ext cx="215640" cy="1429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40"/>
          <p:cNvSpPr/>
          <p:nvPr/>
        </p:nvSpPr>
        <p:spPr>
          <a:xfrm>
            <a:off x="7358040" y="3643200"/>
            <a:ext cx="289080" cy="144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 flipH="1">
            <a:off x="6572160" y="3571920"/>
            <a:ext cx="216000" cy="144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 flipH="1">
            <a:off x="7072200" y="3643200"/>
            <a:ext cx="287280" cy="2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840360" cy="2232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403280" y="549360"/>
            <a:ext cx="489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читаем правил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(учебник, стр. 1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879480" y="3448080"/>
            <a:ext cx="65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95280" y="2852640"/>
            <a:ext cx="82803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уффиксе существительных -чик(-щик) после букв д-т, з-с, ж пишется буква 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остальных случаях пишется буква щ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ик (смазать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менщик (не на д-т, з-с, ж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 flipH="1">
            <a:off x="3851280" y="5157720"/>
            <a:ext cx="21744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 flipH="1">
            <a:off x="3348000" y="5805360"/>
            <a:ext cx="217440" cy="14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3564000" y="5805360"/>
            <a:ext cx="21600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4067280" y="5157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3"/>
          <p:cNvSpPr/>
          <p:nvPr/>
        </p:nvSpPr>
        <p:spPr>
          <a:xfrm>
            <a:off x="3780000" y="558972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4"/>
          <p:cNvSpPr/>
          <p:nvPr/>
        </p:nvSpPr>
        <p:spPr>
          <a:xfrm>
            <a:off x="3564000" y="5661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5"/>
          <p:cNvSpPr/>
          <p:nvPr/>
        </p:nvSpPr>
        <p:spPr>
          <a:xfrm>
            <a:off x="3564000" y="5589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6"/>
          <p:cNvSpPr/>
          <p:nvPr/>
        </p:nvSpPr>
        <p:spPr>
          <a:xfrm>
            <a:off x="5219640" y="5589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7"/>
          <p:cNvSpPr/>
          <p:nvPr/>
        </p:nvSpPr>
        <p:spPr>
          <a:xfrm>
            <a:off x="5219640" y="5661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8"/>
          <p:cNvSpPr/>
          <p:nvPr/>
        </p:nvSpPr>
        <p:spPr>
          <a:xfrm>
            <a:off x="3276720" y="623736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>
            <a:off x="3059280" y="6237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3059280" y="63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1"/>
          <p:cNvSpPr/>
          <p:nvPr/>
        </p:nvSpPr>
        <p:spPr>
          <a:xfrm>
            <a:off x="5219640" y="6237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2"/>
          <p:cNvSpPr/>
          <p:nvPr/>
        </p:nvSpPr>
        <p:spPr>
          <a:xfrm>
            <a:off x="5219640" y="630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3"/>
          <p:cNvSpPr/>
          <p:nvPr/>
        </p:nvSpPr>
        <p:spPr>
          <a:xfrm>
            <a:off x="5867280" y="6237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4"/>
          <p:cNvSpPr/>
          <p:nvPr/>
        </p:nvSpPr>
        <p:spPr>
          <a:xfrm>
            <a:off x="5867280" y="630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5"/>
          <p:cNvSpPr/>
          <p:nvPr/>
        </p:nvSpPr>
        <p:spPr>
          <a:xfrm>
            <a:off x="6588000" y="6237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63"/>
          <p:cNvSpPr/>
          <p:nvPr/>
        </p:nvSpPr>
        <p:spPr>
          <a:xfrm>
            <a:off x="4140360" y="2708280"/>
            <a:ext cx="96192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65"/>
          <p:cNvSpPr/>
          <p:nvPr/>
        </p:nvSpPr>
        <p:spPr>
          <a:xfrm>
            <a:off x="2124000" y="1916280"/>
            <a:ext cx="3960720" cy="388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67"/>
          <p:cNvSpPr/>
          <p:nvPr/>
        </p:nvSpPr>
        <p:spPr>
          <a:xfrm>
            <a:off x="2195640" y="1125360"/>
            <a:ext cx="4321080" cy="3745080"/>
          </a:xfrm>
          <a:prstGeom prst="pie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68"/>
          <p:cNvSpPr/>
          <p:nvPr/>
        </p:nvSpPr>
        <p:spPr>
          <a:xfrm>
            <a:off x="3851280" y="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69"/>
          <p:cNvSpPr/>
          <p:nvPr/>
        </p:nvSpPr>
        <p:spPr>
          <a:xfrm>
            <a:off x="6084720" y="1844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70"/>
          <p:cNvSpPr/>
          <p:nvPr/>
        </p:nvSpPr>
        <p:spPr>
          <a:xfrm>
            <a:off x="5796000" y="40766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72"/>
          <p:cNvSpPr/>
          <p:nvPr/>
        </p:nvSpPr>
        <p:spPr>
          <a:xfrm>
            <a:off x="2124000" y="4221000"/>
            <a:ext cx="9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3"/>
          <p:cNvSpPr/>
          <p:nvPr/>
        </p:nvSpPr>
        <p:spPr>
          <a:xfrm>
            <a:off x="1131840" y="1844640"/>
            <a:ext cx="10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74"/>
          <p:cNvSpPr/>
          <p:nvPr/>
        </p:nvSpPr>
        <p:spPr>
          <a:xfrm>
            <a:off x="0" y="5589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 остальных случаях –щи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75"/>
          <p:cNvSpPr/>
          <p:nvPr/>
        </p:nvSpPr>
        <p:spPr>
          <a:xfrm flipV="1">
            <a:off x="3708360" y="2565000"/>
            <a:ext cx="64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76"/>
          <p:cNvSpPr/>
          <p:nvPr/>
        </p:nvSpPr>
        <p:spPr>
          <a:xfrm>
            <a:off x="4356000" y="2565360"/>
            <a:ext cx="64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77"/>
          <p:cNvSpPr/>
          <p:nvPr/>
        </p:nvSpPr>
        <p:spPr>
          <a:xfrm>
            <a:off x="4356000" y="2565360"/>
            <a:ext cx="64764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78"/>
          <p:cNvSpPr/>
          <p:nvPr/>
        </p:nvSpPr>
        <p:spPr>
          <a:xfrm flipH="1">
            <a:off x="3635280" y="2565360"/>
            <a:ext cx="720720" cy="36036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79"/>
          <p:cNvSpPr/>
          <p:nvPr/>
        </p:nvSpPr>
        <p:spPr>
          <a:xfrm flipH="1">
            <a:off x="7164360" y="5445000"/>
            <a:ext cx="649440" cy="360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80"/>
          <p:cNvSpPr/>
          <p:nvPr/>
        </p:nvSpPr>
        <p:spPr>
          <a:xfrm>
            <a:off x="7812000" y="5445000"/>
            <a:ext cx="505080" cy="360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изкультминутка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у-ка, школьник,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ватит сидеть!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мя пришло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стать. Чуть вспоте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543800" cy="450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ифровой диктант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юч для проверки: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,2,1,1,2,2,1,1,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301680" y="2133720"/>
            <a:ext cx="815796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рабанчики яростно колотили в бараб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бывав у заказщиков, Саша зашел на минутку к сест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ижнем буфетчик рассчитал ме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олеблющимся мосткам сновали грузщ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чие передавали сменчикам ста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естянчики работали на глазах всей ул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6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7027920" cy="16560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7"/>
          <p:cNvSpPr/>
          <p:nvPr/>
        </p:nvSpPr>
        <p:spPr>
          <a:xfrm>
            <a:off x="1476360" y="54936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играем в коррек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AutoShape 13"/>
          <p:cNvCxnSpPr/>
          <p:nvPr/>
        </p:nvCxnSpPr>
        <p:spPr>
          <a:xfrm flipV="1">
            <a:off x="1763640" y="227628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1" name="AutoShape 14"/>
          <p:cNvCxnSpPr/>
          <p:nvPr/>
        </p:nvCxnSpPr>
        <p:spPr>
          <a:xfrm flipV="1">
            <a:off x="2843280" y="278100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2" name="AutoShape 15"/>
          <p:cNvCxnSpPr/>
          <p:nvPr/>
        </p:nvCxnSpPr>
        <p:spPr>
          <a:xfrm flipV="1">
            <a:off x="5940360" y="371592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3" name="AutoShape 16"/>
          <p:cNvCxnSpPr/>
          <p:nvPr/>
        </p:nvCxnSpPr>
        <p:spPr>
          <a:xfrm flipV="1">
            <a:off x="4066920" y="4149360"/>
            <a:ext cx="21636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4" name="AutoShape 17"/>
          <p:cNvCxnSpPr/>
          <p:nvPr/>
        </p:nvCxnSpPr>
        <p:spPr>
          <a:xfrm flipV="1">
            <a:off x="1692000" y="4581000"/>
            <a:ext cx="21636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315" name="Rectangle 20"/>
          <p:cNvSpPr/>
          <p:nvPr/>
        </p:nvSpPr>
        <p:spPr>
          <a:xfrm>
            <a:off x="2916360" y="24922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1"/>
          <p:cNvSpPr/>
          <p:nvPr/>
        </p:nvSpPr>
        <p:spPr>
          <a:xfrm>
            <a:off x="6157800" y="33577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1909440" y="1844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4213080" y="3789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1836720" y="4292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27"/>
          <p:cNvSpPr/>
          <p:nvPr/>
        </p:nvSpPr>
        <p:spPr>
          <a:xfrm>
            <a:off x="2700360" y="3573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8"/>
          <p:cNvSpPr/>
          <p:nvPr/>
        </p:nvSpPr>
        <p:spPr>
          <a:xfrm flipH="1">
            <a:off x="2916000" y="3141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29"/>
          <p:cNvSpPr/>
          <p:nvPr/>
        </p:nvSpPr>
        <p:spPr>
          <a:xfrm>
            <a:off x="3059280" y="3141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280360" cy="1125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2700360" y="98100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дведём ит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285840" y="1428840"/>
            <a:ext cx="7292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нового узнали на уроке о суффиксах имен существитель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же пишется суффикс -чик (-щик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задания выполнять было легко и интересно? Что вызвало затрудн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441360" y="4529160"/>
            <a:ext cx="841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машнее задание: учебник стр.1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 группа- упр.24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 группа-составить связный текст на тему «Новостройки нашего се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07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 СОТРУДНИЧЕСТВО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0096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нгвистическая разминк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ая игра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Мешки со словам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6"/>
          <p:cNvSpPr/>
          <p:nvPr/>
        </p:nvSpPr>
        <p:spPr>
          <a:xfrm>
            <a:off x="2124000" y="568440"/>
            <a:ext cx="40896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7991640" cy="4589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684360" y="-171360"/>
            <a:ext cx="5472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Arial"/>
              </a:rPr>
              <a:t>Что такое суффикс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333600" y="2836440"/>
            <a:ext cx="24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395280" y="4653000"/>
            <a:ext cx="8353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Arial"/>
              </a:rPr>
              <a:t>Суффикс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– значимая часть слова, которая находится после корня и обычно служит для образования новых сл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1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3090600" cy="1550880"/>
          </a:xfrm>
          <a:prstGeom prst="rect">
            <a:avLst/>
          </a:prstGeom>
          <a:ln w="0">
            <a:noFill/>
          </a:ln>
        </p:spPr>
      </p:pic>
      <p:sp>
        <p:nvSpPr>
          <p:cNvPr id="219" name="WordArt 22"/>
          <p:cNvSpPr txBox="1"/>
          <p:nvPr/>
        </p:nvSpPr>
        <p:spPr>
          <a:xfrm>
            <a:off x="1476360" y="3573360"/>
            <a:ext cx="177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омн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суффикс имеет свое определенное значение, учит нас видеть характер сл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но ли по суффиксу определить часть речи, в которой он используется?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лексическое значение могут иметь суффиксы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1714680" y="2071800"/>
            <a:ext cx="5572080" cy="44290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тель-     -ер-      -ник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  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чик-  -щик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-ушк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онок-                                                 -ся-  -ыва-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ек-                                                   -л-   -ну-   -а-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ик-                                                    --ова- - ива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 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-лив-   -чив- -оват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ов-   - ев-  -ин-  -енн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001000" cy="121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Фотогалерея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*Кто изображен на этой иллюстрации?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Рисунок 2" descr="contractors-workers-people_~k5720845.jpg"/>
          <p:cNvPicPr/>
          <p:nvPr/>
        </p:nvPicPr>
        <p:blipFill>
          <a:blip r:embed="rId1"/>
          <a:stretch/>
        </p:blipFill>
        <p:spPr>
          <a:xfrm>
            <a:off x="285840" y="2071800"/>
            <a:ext cx="45720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IE162-040.jpg"/>
          <p:cNvPicPr/>
          <p:nvPr/>
        </p:nvPicPr>
        <p:blipFill>
          <a:blip r:embed="rId1"/>
          <a:stretch/>
        </p:blipFill>
        <p:spPr>
          <a:xfrm rot="20685000">
            <a:off x="252360" y="510840"/>
            <a:ext cx="3363840" cy="23749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" descr="welder-working-bridge_~K17-190295.jpg"/>
          <p:cNvPicPr/>
          <p:nvPr/>
        </p:nvPicPr>
        <p:blipFill>
          <a:blip r:embed="rId2"/>
          <a:stretch/>
        </p:blipFill>
        <p:spPr>
          <a:xfrm rot="1246800">
            <a:off x="5200200" y="428760"/>
            <a:ext cx="2819520" cy="24238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0010.jpg"/>
          <p:cNvPicPr/>
          <p:nvPr/>
        </p:nvPicPr>
        <p:blipFill>
          <a:blip r:embed="rId3"/>
          <a:stretch/>
        </p:blipFill>
        <p:spPr>
          <a:xfrm rot="1313400">
            <a:off x="360000" y="3846600"/>
            <a:ext cx="3084480" cy="2527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boy_playing_snaredrum.gif"/>
          <p:cNvPicPr/>
          <p:nvPr/>
        </p:nvPicPr>
        <p:blipFill>
          <a:blip r:embed="rId4"/>
          <a:stretch/>
        </p:blipFill>
        <p:spPr>
          <a:xfrm rot="1217400">
            <a:off x="5621040" y="35938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931._Извозчик_на_Стромынке_.jpg"/>
          <p:cNvPicPr/>
          <p:nvPr/>
        </p:nvPicPr>
        <p:blipFill>
          <a:blip r:embed="rId5"/>
          <a:stretch/>
        </p:blipFill>
        <p:spPr>
          <a:xfrm>
            <a:off x="2286000" y="2428920"/>
            <a:ext cx="3589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29680" cy="629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пишите слово </a:t>
            </a:r>
            <a:r>
              <a:rPr b="0" i="1" lang="ru-RU" sz="4400" spc="-1" strike="noStrike">
                <a:solidFill>
                  <a:srgbClr val="66ff33"/>
                </a:solidFill>
                <a:latin typeface="Arial"/>
              </a:rPr>
              <a:t>извоз…к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ую орфографическую проблему вы обнаружили? В какой части слова она находится?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формулируйте тему нашего сегодняшнего уро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2556000" y="3357720"/>
            <a:ext cx="3887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2843280" y="1773360"/>
            <a:ext cx="3529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писание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2843280" y="285264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ффикса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2916360" y="4076640"/>
            <a:ext cx="352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чик (-щик)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person-working_~k7558522.jpg"/>
          <p:cNvPicPr/>
          <p:nvPr/>
        </p:nvPicPr>
        <p:blipFill>
          <a:blip r:embed="rId1"/>
          <a:stretch/>
        </p:blipFill>
        <p:spPr>
          <a:xfrm rot="21259200">
            <a:off x="285840" y="571320"/>
            <a:ext cx="3452760" cy="31762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2" descr="helicopter-pictures20.jpg"/>
          <p:cNvPicPr/>
          <p:nvPr/>
        </p:nvPicPr>
        <p:blipFill>
          <a:blip r:embed="rId2"/>
          <a:stretch/>
        </p:blipFill>
        <p:spPr>
          <a:xfrm rot="19975200">
            <a:off x="4014720" y="826560"/>
            <a:ext cx="4438800" cy="332928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edson-alberta-canada_~1875351.jpg"/>
          <p:cNvPicPr/>
          <p:nvPr/>
        </p:nvPicPr>
        <p:blipFill>
          <a:blip r:embed="rId3"/>
          <a:stretch/>
        </p:blipFill>
        <p:spPr>
          <a:xfrm rot="21066600">
            <a:off x="2887560" y="3381120"/>
            <a:ext cx="2100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49:40Z</dcterms:created>
  <dc:creator>Dmitry</dc:creator>
  <dc:description/>
  <dc:language>en-US</dc:language>
  <cp:lastModifiedBy>физика</cp:lastModifiedBy>
  <dcterms:modified xsi:type="dcterms:W3CDTF">2011-11-29T19:18:49Z</dcterms:modified>
  <cp:revision>207</cp:revision>
  <dc:subject/>
  <dc:title>Слайд 1</dc:title>
</cp:coreProperties>
</file>