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A2D-2C4A-4C36-B0F3-034B5982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D5E-7297-464E-A17F-028961B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AAD-8457-43C4-BE33-4DEF0A4F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2A0-F299-4DB1-BAA0-02E114A2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76E-A722-4B27-A3FF-1B20ED1F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E04C-A088-4B3C-8461-7D7C332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BFD-7BFF-4448-9682-F0C7352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5F6-A328-45DF-86C2-03D3936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16F-68B4-4F54-B88D-F258549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1EF2-7B12-495F-871F-EB1FF3F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F454-00A7-4CDE-A06D-4EAE52B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3D-291F-412A-98BC-F0660E1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D7E-B0A5-4074-96D2-80C2F6B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F4C-FB3D-4666-8B2F-79F44ED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B5A1-7A13-4D55-B528-EC9B5A1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ACE-4F6D-4583-A9DB-A50BF080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F9E7-51B6-46F3-B2C3-6627BDC6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A88-2D6A-4633-8CA7-8F013F7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0A2-00B3-431C-A866-C06DE46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DC0-6634-41E0-97F0-848B53A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2E3-0F66-4290-B111-31DD1DC6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D71-0F98-4A81-8C2C-BC1EBDE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216-C868-4194-A0C7-72F0284B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D46-8487-421B-AFD3-890CB46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59F-25EA-4D3B-B526-DD93EF5E93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AEE-9DCB-4602-8C50-87E8C43F7D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www.calend.ru/" TargetMode="External"/><Relationship Id="rId3" Type="http://schemas.openxmlformats.org/officeDocument/2006/relationships/hyperlink" Target="http://www.wikipedia.org/wiki/" TargetMode="External"/><Relationship Id="rId4" Type="http://schemas.openxmlformats.org/officeDocument/2006/relationships/hyperlink" Target="http://www.spain.com/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еликие географические откры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0" y="2590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Проект по истории выполнили ученики 10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МБОУ СОШ №111 г. Минеральные Вод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гримов Андр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вак Вик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рлюк 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акова Ли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ыкова Любов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гларян Шуш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565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Франциско Писар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1475-1541г.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Испанский авантюрист, завоевавший империю инков и основавший город Л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 1502 году Франциско Писарро прибыл в Америку в поисках счастья. Семь лет он прослужил в районе Карибского моря, участвуя в военных компаниях против индей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Ф.Писарро привез в Испанию огромное количество золота и сереб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8612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7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ранциско Писарро не искал морской путь в Индию, то он не обосновал империю инков и не привез в Испанию большое количество зол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19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Васко да Г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(1460-152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Португальский мореплаватель, известен как первый европеец, совершивший морское путешествие в Инд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9 апреля 1524г. адмирал отплыл от Португалии и сразу же по прибытии в Индию, принял твёрдые меры против злоупотреблений колониальной админист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В честь Васко да Гамы был назван город в Го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19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Васко да Гама не нашёл морской путь в Индию, то не было бы привезено в Португалию много драгоценных мет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0" y="3808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Фернано Кор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(1485 – 154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Испанский конкистадор, завоевавший Мексику и уничтоживший государственность ацт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Генерал-капитан Новой Испании (Мексики) с 1522 года. В 1511-1512 сражался на Кубе. В конце 1518 возглавил морской поход на 9 судах с целью покорения Мексики; на берегу залива Кампече вступил в первое сражение с индейцами, разгромил их и отправился вдоль побережья на северо-запад, где близ 19° южной широты в 1519 основал город Веракру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52280" y="3581280"/>
            <a:ext cx="3733920" cy="3124440"/>
            <a:chOff x="152280" y="3581280"/>
            <a:chExt cx="3733920" cy="312444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52280" y="3581280"/>
              <a:ext cx="37339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 txBox="1"/>
            <p:nvPr/>
          </p:nvSpPr>
          <p:spPr>
            <a:xfrm>
              <a:off x="152280" y="3581280"/>
              <a:ext cx="3733920" cy="312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733920" cy="3276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419720" y="3200400"/>
            <a:ext cx="41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ернано Кортес не был назначен генерал – капитаном, не участвовал в сражении на Кубе и не возглавил морской поход, то Мексика, возможно, не была бы завоёвана, и государственность ацтеков, может быть, просуществовала бы до наших дн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228600" y="152280"/>
            <a:ext cx="3733920" cy="3124440"/>
            <a:chOff x="228600" y="152280"/>
            <a:chExt cx="3733920" cy="312444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37339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 txBox="1"/>
            <p:nvPr/>
          </p:nvSpPr>
          <p:spPr>
            <a:xfrm>
              <a:off x="228600" y="152280"/>
              <a:ext cx="3733920" cy="312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191120" y="152280"/>
            <a:ext cx="4727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Америго Веспуч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(1454 – 15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тальянский путешественник, по имени которого названа Амер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Участник нескольких испанских и португальских экспедиций (1499-1504) к берегам Южной Америки, названной им Новым Светом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тправился в Португалию и предпринял на португальских кораблях два плавания из Лиссабона к берегам нового материка, в последнее своё плавание исследовал большую часть берегов Бразил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Америго Веспуччи не был бы участником нескольких экспедиций к берегам Южной Америки, то она не получила бы своего названия, и большая часть берегов Бразилии была бы исследована намного поз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Общий 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мореплаватели не пытались найти морской путь в Индию, то, возможно, не были бы открыты новые земли и проли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Используемая литератур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Krugosvet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ww.Calen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www.wikipedia.org\wiki\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www.Spain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http://ru.wikipedia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http://ru.wikipedia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34340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При отсутствии необходимости поиска альтернативного пути в Индию, не было бы Великих географических откры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6390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оказать, что не пытаясь найти морской путь в Индию, не было бы и географических откры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419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752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Рассказать об известных мореплавате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Познакомить учащихся с великими географическими открыт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4496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еликие мореплавате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Христофор Колум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ернан Магелла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ранциско Писарро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аско да Гама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ернано Корте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Америго Веспуч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52280" y="228600"/>
            <a:ext cx="3044880" cy="3200400"/>
            <a:chOff x="152280" y="228600"/>
            <a:chExt cx="3044880" cy="320040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3044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 txBox="1"/>
            <p:nvPr/>
          </p:nvSpPr>
          <p:spPr>
            <a:xfrm>
              <a:off x="152280" y="228600"/>
              <a:ext cx="304488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276360" y="3808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Христофор Колум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(1451-1506г.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спанский мореплаватель и открыватель новых земель. Наиболее известен своим открытием Америки (1492 год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олумб первым из достоверно известных путешественников пересёк Атлантический океан и первым из европейцев ходил в Карибском море. Он положил начало открытию материка Южной Америки и перешейков Центральной Америки. Он открыл все Большие Антильские острова — центральную часть Багамского архипелага, Малые Антильские острова, а также ряд мелких островов в Карибском море и остров Тринидад у берегов Южной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971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6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На наш взгляд, если бы Христофор Колумб не открыл Америку, её бы никто не открыл, а если и открыл, то она  называлась по другому.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01680" y="152280"/>
            <a:ext cx="3203640" cy="2895840"/>
            <a:chOff x="301680" y="152280"/>
            <a:chExt cx="3203640" cy="289584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301680" y="152280"/>
              <a:ext cx="3203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 txBox="1"/>
            <p:nvPr/>
          </p:nvSpPr>
          <p:spPr>
            <a:xfrm>
              <a:off x="301680" y="152280"/>
              <a:ext cx="320364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266720" y="609120"/>
            <a:ext cx="45752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Фернан Магелл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(1480-1521г.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ртугальский и испанский мореплавате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омандовал экспедицией, совершившей первое известное кругосветное путешествие. Открыл пролив, позже названный его именем, став первым европейцем, проследовавшим из Атлантического океана в Тих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19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ернан Магеллан не открыл пролив, впоследствии названный в честь его имени, вероятно, он не был  открыт, а если и был открыт, то назывался по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2-01-23T17:47:2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