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5F3-8CB1-4BB8-BF88-3CFD1F72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533-F632-4679-8F3D-BE506113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CAB-1564-4072-AFBC-F7F3DDB0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15B-BB78-405A-9A6C-DAAAE76C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85D1-C29F-4C9F-8F04-3375907D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6534-D967-41BE-9D21-B0FE250F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D855-149E-4F29-A0B1-F36014DF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4D96-BDF3-4A6C-927D-D8388EF4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3AE-3BAB-4288-8918-E730D96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F62B-345A-4AB8-ADDE-D75AE1F3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C5EA-1C71-4E69-B118-73CC6E9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E83-8FA3-4238-8F70-D1E4ED30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6AB3-D6F0-4092-ACDD-2990315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C287-A9D1-4FFB-AE1B-8315658A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BFF8-2652-4803-A7E9-94F508D9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FBA5-FF7C-48B5-894C-5269E836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BF3-8EF5-43E5-A7BA-5DF5C423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E8C-1F5C-4386-A860-82D567E7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F2F-5E96-4CCC-AB52-D81DF97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845-3354-4181-AB5C-A0F7113D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3E0-9A08-4681-9853-88FE0696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1B9-64F2-45B4-8483-4368FE37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17A-009F-432A-B6EA-47919511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B6B-0E2B-4155-9C58-1269F970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48E0-3D23-4C48-AC72-6ECBE701E0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DEAF-2A0F-47E2-8DC1-2F8DBA2932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hyperlink" Target="http://www.calend.ru/" TargetMode="External"/><Relationship Id="rId3" Type="http://schemas.openxmlformats.org/officeDocument/2006/relationships/hyperlink" Target="http://www.wikipedia.org/wiki/" TargetMode="External"/><Relationship Id="rId4" Type="http://schemas.openxmlformats.org/officeDocument/2006/relationships/hyperlink" Target="http://www.spain.com/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Великие географические откры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0" y="2590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Проект по истории выполнили ученики 10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МБОУ СОШ №111 г. Минеральные Вод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угримов Андр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вак Викто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рлюк Ан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акова Ли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ыкова Любов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гларян Шуш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276720" y="304920"/>
            <a:ext cx="5565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Франциско Писар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(1475-1541г.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Испанский авантюрист, завоевавший империю инков и основавший город Ли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В 1502 году Франциско Писарро прибыл в Америку в поисках счастья. Семь лет он прослужил в районе Карибского моря, участвуя в военных компаниях против индей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Ф.Писарро привез в Испанию огромное количество золота и сереб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8612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7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Франциско Писарро не искал морской путь в Индию, то он не обосновал империю инков и не привез в Испанию большое количество зол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0" y="304920"/>
            <a:ext cx="419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Васко да Г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(1460-152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Португальский мореплаватель, известен как первый европеец, совершивший морское путешествие в Инд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9 апреля 1524г. адмирал отплыл от Португалии и сразу же по прибытии в Индию, принял твёрдые меры против злоупотреблений колониальной админист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В честь Васко да Гамы был назван город в Го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19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819160" cy="3276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Васко да Гама не нашёл морской путь в Индию, то не было бы привезено в Португалию много драгоценных мет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0" y="380880"/>
            <a:ext cx="4191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Фернано Корт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(1485 – 154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Испанский конкистадор, завоевавший Мексику и уничтоживший государственность ацт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Генерал-капитан Новой Испании (Мексики) с 1522 года. В 1511-1512 сражался на Кубе. В конце 1518 возглавил морской поход на 9 судах с целью покорения Мексики; на берегу залива Кампече вступил в первое сражение с индейцами, разгромил их и отправился вдоль побережья на северо-запад, где близ 19° южной широты в 1519 основал город Веракру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52280" y="3581280"/>
            <a:ext cx="3733920" cy="3124440"/>
            <a:chOff x="152280" y="3581280"/>
            <a:chExt cx="3733920" cy="312444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152280" y="3581280"/>
              <a:ext cx="373392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 txBox="1"/>
            <p:nvPr/>
          </p:nvSpPr>
          <p:spPr>
            <a:xfrm>
              <a:off x="152280" y="3581280"/>
              <a:ext cx="3733920" cy="312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a3c145"/>
                </a:buClr>
                <a:buSzPct val="80000"/>
                <a:buFont typeface="Arial"/>
                <a:buChar char="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733920" cy="3276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419720" y="3200400"/>
            <a:ext cx="41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Фернано Кортес не был назначен генерал – капитаном, не участвовал в сражении на Кубе и не возглавил морской поход, то Мексика, возможно, не была бы завоёвана, и государственность ацтеков, может быть, просуществовала бы до наших дн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228600" y="152280"/>
            <a:ext cx="3733920" cy="3124440"/>
            <a:chOff x="228600" y="152280"/>
            <a:chExt cx="3733920" cy="3124440"/>
          </a:xfrm>
        </p:grpSpPr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373392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 txBox="1"/>
            <p:nvPr/>
          </p:nvSpPr>
          <p:spPr>
            <a:xfrm>
              <a:off x="228600" y="152280"/>
              <a:ext cx="3733920" cy="312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191120" y="152280"/>
            <a:ext cx="4727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Америго Веспучч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(1454 – 15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Итальянский путешественник, по имени которого названа Амер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Участник нескольких испанских и португальских экспедиций (1499-1504) к берегам Южной Америки, названной им Новым Светом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отправился в Португалию и предпринял на португальских кораблях два плавания из Лиссабона к берегам нового материка, в последнее своё плавание исследовал большую часть берегов Бразил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Америго Веспуччи не был бы участником нескольких экспедиций к берегам Южной Америки, то она не получила бы своего названия, и большая часть берегов Бразилии была бы исследована намного поз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Общий 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мореплаватели не пытались найти морской путь в Индию, то, возможно, не были бы открыты новые земли и проли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Используемая литератур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Krugosvet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ww.Calend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www.wikipedia.org\wiki\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www.Spain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c145"/>
                </a:solidFill>
                <a:latin typeface="Tahoma"/>
              </a:rPr>
              <a:t>http://ru.wikipedia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c145"/>
                </a:solidFill>
                <a:latin typeface="Tahoma"/>
              </a:rPr>
              <a:t>http://ru.wikipedia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4343400" y="1600200"/>
            <a:ext cx="4286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294920"/>
            <a:ext cx="8540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При отсутствии необходимости поиска альтернативного пути в Индию, не было бы Великих географических откры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63904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Доказать, что не пытаясь найти морской путь в Индию, не было бы и географических открыт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41936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752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Рассказать об известных мореплавате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Познакомить учащихся с великими географическими открыт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81080" y="3733920"/>
            <a:ext cx="4496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еликие мореплавате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Христофор Колумб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Фернан Магелла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Франциско Писарро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аско да Гама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Фернано Кортес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2958dd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Америго Веспуч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152280" y="228600"/>
            <a:ext cx="3044880" cy="3200400"/>
            <a:chOff x="152280" y="228600"/>
            <a:chExt cx="3044880" cy="320040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30448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 txBox="1"/>
            <p:nvPr/>
          </p:nvSpPr>
          <p:spPr>
            <a:xfrm>
              <a:off x="152280" y="228600"/>
              <a:ext cx="304488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276360" y="3808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en-US" sz="2000" spc="-1" strike="noStrike">
                <a:solidFill>
                  <a:srgbClr val="ff00ff"/>
                </a:solidFill>
                <a:latin typeface="Tahoma"/>
              </a:rPr>
              <a:t>Христофор Колум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ahoma"/>
              </a:rPr>
              <a:t>        </a:t>
            </a:r>
            <a:r>
              <a:rPr b="1" i="1" lang="en-US" sz="2000" spc="-1" strike="noStrike">
                <a:solidFill>
                  <a:srgbClr val="ff00ff"/>
                </a:solidFill>
                <a:latin typeface="Tahoma"/>
              </a:rPr>
              <a:t>(1451-1506г.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спанский мореплаватель и открыватель новых земель. Наиболее известен своим открытием Америки (1492 год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Колумб первым из достоверно известных путешественников пересёк Атлантический океан и первым из европейцев ходил в Карибском море. Он положил начало открытию материка Южной Америки и перешейков Центральной Америки. Он открыл все Большие Антильские острова — центральную часть Багамского архипелага, Малые Антильские острова, а также ряд мелких островов в Карибском море и остров Тринидад у берегов Южной Амер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971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36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На наш взгляд, если бы Христофор Колумб не открыл Америку, её бы никто не открыл, а если и открыл, то она  называлась по другому.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301680" y="152280"/>
            <a:ext cx="3203640" cy="2895840"/>
            <a:chOff x="301680" y="152280"/>
            <a:chExt cx="3203640" cy="289584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301680" y="152280"/>
              <a:ext cx="3203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 txBox="1"/>
            <p:nvPr/>
          </p:nvSpPr>
          <p:spPr>
            <a:xfrm>
              <a:off x="301680" y="152280"/>
              <a:ext cx="3203640" cy="289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266720" y="609120"/>
            <a:ext cx="45752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Фернан Магелл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(1480-1521г.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ортугальский и испанский мореплавате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Командовал экспедицией, совершившей первое известное кругосветное путешествие. Открыл пролив, позже названный его именем, став первым европейцем, проследовавшим из Атлантического океана в Тих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319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66cc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58d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Если бы Фернан Магеллан не открыл пролив, впоследствии названный в честь его имени, вероятно, он не был  открыт, а если и был открыт, то назывался по друг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 Gates</cp:lastModifiedBy>
  <dcterms:modified xsi:type="dcterms:W3CDTF">2012-01-23T17:47:2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