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E5F-BD35-400D-8C40-A550BF14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CE5-C61C-49E8-A996-4FB4B97F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8AA-FE1E-4325-98F3-B69D76D5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711-F452-4556-8C0A-31167BD1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6E3-B567-4116-9F6E-CDC1052D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A9E-A2A8-406B-97BD-8FCC9503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B37-914D-4BE7-99BF-B7D054A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FB0-9A47-4F2B-B66B-A03AE46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FD27-0F57-4CDA-8539-79905B4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28A-D383-433F-9BE0-5708CFC0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15E-F0D0-4246-BD1F-423AF519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2D5-11BD-42AE-8090-43E6CDC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7A0B-4D70-48BB-B258-0A9F756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53F-45CB-40B5-97E0-F49E950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B24-1F43-4143-B106-5C8CB49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8B84-C664-4BC0-B96D-AC41D172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CA36-CB14-48FC-8FD0-5D4DA11C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DC0E-40C0-46A9-8BB0-210681FF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328B-5A12-4E89-A161-AB8F301E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303E-302E-4F78-AA2A-40E07D79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6011-3F52-416D-8C23-CF37626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F78D-E15F-4E01-BB17-38148F9F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A97-9FF5-4CB3-8BCA-F62E792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478E-14E1-4AF1-B9FB-58C08DA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958F-E80D-4638-A841-6CDAB385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17B6-2F89-43F6-80E1-1B38709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DC65-2D76-48AE-9849-A28BFD4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EA4B-02B4-4C0D-94EB-48C09DFE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9D22-1233-4C8E-9427-A999306F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B6E7-8B09-438E-919B-D268A0B5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DA7-7501-45C0-8082-B2169D38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CCA-9A36-43BE-8846-7B680D0B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9E3-13E5-4D6C-8B64-2169E23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E7F-7B35-4226-8BC6-94A57E4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4A4-41A8-4752-BC8B-113B376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AB0-086F-428B-85A3-2EA93B5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F902-A97C-40FD-8594-AE21DBAAF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0C4-387B-45EB-8CC1-DC701DFBE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3F3-3414-4717-B57F-89AE0D539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утешествие в страну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Математика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1 полка   -  28 к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2 полка   -  12 к.              90к.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3 полка   -  ?  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9" descr="j0292112"/>
          <p:cNvPicPr/>
          <p:nvPr/>
        </p:nvPicPr>
        <p:blipFill>
          <a:blip r:embed="rId1"/>
          <a:stretch/>
        </p:blipFill>
        <p:spPr>
          <a:xfrm>
            <a:off x="3780000" y="4268880"/>
            <a:ext cx="2700000" cy="2589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859280" y="549360"/>
            <a:ext cx="1656000" cy="3166920"/>
          </a:xfrm>
          <a:custGeom>
            <a:avLst/>
            <a:gdLst>
              <a:gd name="textAreaLeft" fmla="*/ 0 w 1656000"/>
              <a:gd name="textAreaRight" fmla="*/ 597960 w 1656000"/>
              <a:gd name="textAreaTop" fmla="*/ 82440 h 3166920"/>
              <a:gd name="textAreaBottom" fmla="*/ 30844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ром с причала отплы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ольших яхт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аленьких яхт. К вечеру вернулос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х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колько яхт еще не вернулось с плавания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яхт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ях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597040" cy="1390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076720" y="2205000"/>
            <a:ext cx="173844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0"/>
          <p:cNvSpPr/>
          <p:nvPr/>
        </p:nvSpPr>
        <p:spPr>
          <a:xfrm>
            <a:off x="900000" y="494172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332000" y="4292640"/>
            <a:ext cx="5688000" cy="1297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улось: 22 ях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ось в плавании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1116000" y="3645000"/>
            <a:ext cx="56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8"/>
          <p:cNvSpPr/>
          <p:nvPr/>
        </p:nvSpPr>
        <p:spPr>
          <a:xfrm rot="18360000">
            <a:off x="1692720" y="2564640"/>
            <a:ext cx="1727280" cy="21607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9"/>
          <p:cNvSpPr/>
          <p:nvPr/>
        </p:nvSpPr>
        <p:spPr>
          <a:xfrm rot="18360000">
            <a:off x="4428000" y="2564640"/>
            <a:ext cx="1727280" cy="21607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116000" y="35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392436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6732720" y="350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14"/>
          <p:cNvSpPr/>
          <p:nvPr/>
        </p:nvSpPr>
        <p:spPr>
          <a:xfrm rot="7458000">
            <a:off x="2073960" y="2037960"/>
            <a:ext cx="2087640" cy="31417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3141720"/>
              <a:gd name="textAreaBottom" fmla="*/ 3142080 h 3141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15"/>
          <p:cNvSpPr/>
          <p:nvPr/>
        </p:nvSpPr>
        <p:spPr>
          <a:xfrm rot="8216400">
            <a:off x="5219280" y="3212640"/>
            <a:ext cx="1224000" cy="1152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5003640" y="350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1979640" y="2349360"/>
            <a:ext cx="1152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5076720" y="2276640"/>
            <a:ext cx="144000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"/>
          <p:cNvSpPr/>
          <p:nvPr/>
        </p:nvSpPr>
        <p:spPr>
          <a:xfrm>
            <a:off x="2700360" y="4581360"/>
            <a:ext cx="1366920" cy="5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5508720" y="4581360"/>
            <a:ext cx="12240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981000"/>
            <a:ext cx="82296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ворец короля Точки и принцессы Прям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20" y="2636640"/>
            <a:ext cx="8068320" cy="4032000"/>
            <a:chOff x="70920" y="2636640"/>
            <a:chExt cx="8068320" cy="4032000"/>
          </a:xfrm>
        </p:grpSpPr>
        <p:sp>
          <p:nvSpPr>
            <p:cNvPr id="300" name=""/>
            <p:cNvSpPr/>
            <p:nvPr/>
          </p:nvSpPr>
          <p:spPr>
            <a:xfrm flipV="1">
              <a:off x="1864440" y="2636640"/>
              <a:ext cx="3047760" cy="260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2200" y="2637000"/>
              <a:ext cx="1080" cy="260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64440" y="5238000"/>
              <a:ext cx="6274800" cy="143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15800" y="5238000"/>
              <a:ext cx="0" cy="14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8960" y="5238000"/>
              <a:ext cx="0" cy="14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81920" y="5498640"/>
              <a:ext cx="717480" cy="91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4640" y="5498640"/>
              <a:ext cx="717480" cy="91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33280" y="5628240"/>
              <a:ext cx="17892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12200" y="5628240"/>
              <a:ext cx="178920" cy="9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36520" y="4457880"/>
              <a:ext cx="53856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29680" y="4457880"/>
              <a:ext cx="5371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20" y="2637000"/>
              <a:ext cx="717480" cy="51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280" y="3156840"/>
              <a:ext cx="144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3156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560" y="3156840"/>
              <a:ext cx="35820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480" y="3026880"/>
              <a:ext cx="89640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8760" y="2897280"/>
              <a:ext cx="125424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8760" y="2766600"/>
              <a:ext cx="16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932360" y="2637000"/>
            <a:ext cx="324000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ecff"/>
                </a:solidFill>
                <a:latin typeface="Arial"/>
              </a:rPr>
              <a:t>Пустяки</a:t>
            </a:r>
            <a:endParaRPr b="0" lang="en-US" sz="10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Девиз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В математику  тропин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Одолеем без запинки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                  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333360"/>
            <a:ext cx="1800360" cy="5759640"/>
          </a:xfrm>
          <a:custGeom>
            <a:avLst/>
            <a:gdLst>
              <a:gd name="textAreaLeft" fmla="*/ 0 w 1800360"/>
              <a:gd name="textAreaRight" fmla="*/ 650160 w 1800360"/>
              <a:gd name="textAreaTop" fmla="*/ 150120 h 5759640"/>
              <a:gd name="textAreaBottom" fmla="*/ 5609520 h 575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537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Новосель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- 27 = 32                  49 + Х = 6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лосок зн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х 1             89 х 1            1 х 27           83 х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х1            1 х 39            14 х 1           1 х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х 1            56 х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Хитрая плутов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 х (48 - 47)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2+ 24) х 1 =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70 - 69) х 14 =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 : 4 х 1 =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х 8 х 3 =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– (1 х 32)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111640" y="3473280"/>
            <a:ext cx="403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333000"/>
            <a:ext cx="8229600" cy="2158920"/>
          </a:xfrm>
          <a:prstGeom prst="rect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семнадцать яблок разложили по трём тарелкам. Сколько яблок в каждой тарел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D:\2.ШКОЛА\4.картинки\еда\Bd08918_.bmp"/>
          <p:cNvPicPr/>
          <p:nvPr/>
        </p:nvPicPr>
        <p:blipFill>
          <a:blip r:embed="rId1"/>
          <a:srcRect l="0" t="0" r="24758" b="19007"/>
          <a:stretch/>
        </p:blipFill>
        <p:spPr>
          <a:xfrm>
            <a:off x="324000" y="364500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D:\2.ШКОЛА\4.картинки\еда\Bd08918_.bmp"/>
          <p:cNvPicPr/>
          <p:nvPr/>
        </p:nvPicPr>
        <p:blipFill>
          <a:blip r:embed="rId2"/>
          <a:srcRect l="0" t="0" r="24758" b="19007"/>
          <a:stretch/>
        </p:blipFill>
        <p:spPr>
          <a:xfrm>
            <a:off x="3203640" y="263700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D:\2.ШКОЛА\4.картинки\еда\Bd08918_.bmp"/>
          <p:cNvPicPr/>
          <p:nvPr/>
        </p:nvPicPr>
        <p:blipFill>
          <a:blip r:embed="rId3"/>
          <a:srcRect l="0" t="0" r="24758" b="19007"/>
          <a:stretch/>
        </p:blipFill>
        <p:spPr>
          <a:xfrm>
            <a:off x="6084720" y="3573360"/>
            <a:ext cx="288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5280" y="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 девочки было 90 книг. 28 о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авила на первую полку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а вторую. Остальные на третью. Сколько книг на третьей полк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D:\2.ШКОЛА\4.картинки\школа\1182.jpg"/>
          <p:cNvPicPr/>
          <p:nvPr/>
        </p:nvPicPr>
        <p:blipFill>
          <a:blip r:embed="rId3"/>
          <a:stretch/>
        </p:blipFill>
        <p:spPr>
          <a:xfrm>
            <a:off x="2627280" y="3284640"/>
            <a:ext cx="396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mer</cp:lastModifiedBy>
  <dcterms:modified xsi:type="dcterms:W3CDTF">2011-12-05T04:51:07Z</dcterms:modified>
  <cp:revision>30</cp:revision>
  <dc:subject/>
  <dc:title>Слайд 1</dc:title>
</cp:coreProperties>
</file>