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961-EFC8-47A0-BF71-5F324194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F18-E6A1-40D5-98B3-13EC331C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81F-FD7E-45FC-BE46-0CA5F0B1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9C1-B57A-4FA7-93E3-F29650D4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EB67-255D-4BB9-BC17-E08F8B9A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14F4-0BC5-43BB-B190-CBABA878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E22F-387E-4117-9225-C0645D2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FF9A-9253-4F32-A86C-7829EFCA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4BB3-E13A-47C6-8A1E-D5677FD8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651F-8CC7-4452-A01A-BF4E17C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7C4A-BDFD-48D9-99B3-41D8A082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93B-4B05-4669-817B-B7E08D62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EE33-55CE-40E4-8D7A-3522F9C4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0319-09B5-474E-8C68-DF2A2EC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1438-DDA2-4666-8D83-B498CB6D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24C5-F1A1-45D6-B4FE-D228A22B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168E-2464-4CBD-B1C3-113A4C74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2A56-348E-41D1-A027-55A84EE3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ABA0-470A-4338-A28F-5B499E6A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AFE2-96B8-4B6E-8E52-381837AC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5FA5-9702-4E86-BBC2-CC3ADEC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A421-9E8B-4DC2-BDFD-A8EAD745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4C7-437F-441C-8D30-D0E6778B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824A-DB8A-4F1F-9F17-2AE00DEC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1E041-5CD3-4294-9691-AF966415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3487-2EA4-4D50-BE12-0FE84002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DBC4-65BA-40DC-978F-6C5FDD94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4EFC-FBF8-47DA-B87F-152DAE82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7D4AD-B0ED-47FF-ADD3-B011F29B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34FD-3386-452F-B44B-31572909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E808-8742-4107-B08E-CA021528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84B3-631F-4AF2-BA8C-768ACF8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8A19-8B7F-49E1-8145-457FA841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1FA-CF79-4C51-8123-9B3F95FF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5A69-BB48-4760-BE74-9C5E4933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AA55-5F95-4844-974A-E2454F8E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23F1D-9412-4A4B-98BE-00BD61F1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F5B51-9673-40AB-930F-BD6CA26C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904C-11C8-42A1-AFBD-54AA29F4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9062-658D-4AB2-A0BB-BDB6C216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E390-008D-49C2-933C-EBCC10D8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895BB-1AB2-4246-82BC-FD1935B9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1ED7-F4E8-4E29-B924-F66C67C1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0B5C-D9C1-43CB-B4F7-25A6DB42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2C1-FB3F-47AB-B38F-2EBCE335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9F02F-754D-4F04-9DFE-6CF95FD8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C29B9-894C-42F8-B2F4-5F9904B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7421-F4DD-4118-8968-8F74FA51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FC36-846B-4B49-9148-DA06C476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56F8-43DC-41C5-91A4-62F3494D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E578-800F-4754-9F05-9274A56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66E58-20C1-4DF6-AADB-91D882A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54629-4FBE-4C9B-9CFC-3C3178B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6C981-4F45-4B19-9164-DF2F8750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C7DA-CF61-4C0D-8B67-CCF07F72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9EE-2231-4D9A-A551-F800673A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FE51-2020-4D04-A508-54602E24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375D-5FF2-4517-B691-C87B3021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249AF-A129-49D2-A770-D31265D5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E717-6A94-4164-940A-2216B799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32E4C-6949-4FCD-9D1E-B20B349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6D247-9455-44CF-9E09-E9055A7F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D3340-E3DD-4A7F-9D8D-5F06CB5E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3A661-1E3B-4232-8227-0DB9C039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5CAF-8D7E-4DDC-96BA-295A0C31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AE100-5E83-4A11-A39A-0190A198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93C-06F6-43F4-BECC-33B56B52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C4133-65D9-4848-BC01-C3AAFABA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8F328-F483-4BD9-A982-9C7E16A8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D1987-F77A-4647-A318-DE320394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D4C29-EF15-4E04-BF8D-9A48D4A8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4BE30-F14C-491D-86D9-B2E240EB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B6008-24EC-49E5-AA8B-FF13B2E6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9294E-AA8D-47B8-82DB-C55336C7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F0FF8-2237-4FF9-AFFC-D8A1F584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7A09F-8EAC-4540-AEC3-E6FCA0E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0BB1F-3230-49A0-8D89-04700DD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D0A-6A85-471A-84A4-86D77164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D28DD-8AD7-4BA9-99E1-CFD3C340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AF73-AF3F-4D97-9EAC-27D5F15D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64ED-917E-49F9-A083-12EE2702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AB1A1-2926-4765-B0CB-1912940D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6FCE0-351A-49E6-A2E2-7D277293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E1A78-01DB-443D-BD3D-23F2B6A4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F981D-DD19-4AC0-B0F5-5E3850A6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7764C-9BB4-4928-A762-A9D383C1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F4BAD-8A1B-4104-BD9B-01023294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0FCC-04A1-4653-9151-01CFCDF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8D0-0507-4F82-BB3D-88F64CAE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0E3F8-C5CA-4063-8CB9-B725772D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0B495-4A27-4DDC-8DCE-C619245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D4937-2A62-4C70-BA63-1C3B861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8934C-F85B-42A1-BA61-4A323639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3E14C-1EA7-44D9-B306-984AAEAF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822A6-1895-4C2C-8FF3-ACA43679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A9833-FA6C-4FCB-867A-1DBC52B3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5C1E-1DAB-4395-89EE-13B3283C016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EFA-A60E-4B6A-A61D-CC435EF5B3D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F61E-FA38-4BFF-AA73-4B2A4787D06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5F88-F8EF-47C9-9E3F-72C7E991B01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9060-A558-4D01-809A-D9B7495EAF3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69F8-A815-4FE6-A139-FF26AB5A60A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5CA9-8575-4B4B-96C4-BAA4E879BC1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8E17-DF8D-4FED-A72D-568A5BB1E9D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Учитель экономик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Миронова Н.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МОУ «Михневская СОШ»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79280" y="1481040"/>
            <a:ext cx="87854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Денежная единиц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- это установленный в законодательном порядке денежный знак, который служит для соизмерения и выражения цен всех товаров и услу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иды денег и денежных знако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которые находятся в обращении и являются законным платежным средством. Это, прежде всего кредитные деньги и банкноты, разменная монета, а также бумажные деньги (казначейские билеты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44440" y="219240"/>
            <a:ext cx="87836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3.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Масштаб цен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 - средство выражения стоимости через весовое содержание денежного металла в выбранной денежной единице. В настоящее время это определение утратило экономическое значение, так как кредитные деньги не имеют собственной стоимости и не могут быть выразителем стоимости других товар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4.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Государственный аппарат регулирования денежного обращения;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 установление целевых ориентиров, на которые должны ориентироваться центральные банки. ЦБ по согласованию с государственными органами определяет сумму увеличения денежной массы, ограничивая ее приростом в реальном исчислени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5.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Эмиссионная система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 - это законодательно установленный порядок выпуска и обращения денежных знаков. Эмиссионные операции в государствах осуществляют:-ЦБ, пользующийся монопольным правом выпуска банковских билетов (банкнота);-казначейство (государственный исполнительный орган), выпускающее мелкокупюрные бумажно-денежные знаки (казначейские билеты и монеты из дешевых видов металла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этом  определении эмитируемые деньги характеризуются в качестве обязательств центрального банк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ругая точка зрения, представленная в экономической литературе, исходит из того, что выпуск денег в обращение каждодневно сочетается с изъятием их из обращения. Поэтому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эмиссия понимается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как такой выпуск денег, который приводит к общему увеличению денежной массы, находящейся в оборот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фициальной денежной единицей в нашей стране (валютой) является рубль, состоящий из 100 коп. Введение на территории РФ других денежных единиц запрещено. Соотношение между рублем и золотом или другими драгоценными металлами Законом не установлено. Официальный курс рубля к иностранным денежным единицам определяется Центральным Банком РФ (ЦБР) и публикуется в печа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сключительным правом эмиссии наличных денег, организации их обращения и изъятия на территории РФ обладает Банк Росс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идами денег, имеющими законную платежную силу, являются банкноты и металлические монеты, которые обеспечиваются всеми активами Банка России, в том числе, золотым запасом, государственными ценными бумагами, резервами кредитных учреждений, находящимися на счетах в ЦБ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Центральный Банк РФ применительно к налично-денежному обращению осуществляет прогнозирование и организацию производства, перевозки и хранения банкнот и монет, создание их резервных фондов; устанавливает правила хранения, перевозки и инкассации наличных денег для кредитных организаций, признаки платежеспособности денежных знаков и порядок замены поврежденных банкнот и монеты, а также определяет порядок ведения кассовых операций для кредитных организа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собенность структуры денежной массы в России, прежде всего, определяют следующие моменты: высокая доля наличных денег, необходимость учета обращающейся в стране валюты, наличие различных денежных суррогатов. При этом компоненты денежной массы России в значительной степени обособлены, поскольку конвертируемость их друг в друга затруднена, связана с дополнительными затратами и ограничена правовыми норм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79280" y="1481040"/>
            <a:ext cx="878544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1)отменой официального золотого содержания денежных единиц, демонетизацией золота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)переходом к не разменным на золото кредитным деньгам, немногим отличающимся по своей природе от бумажных денег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3)сохранением в денежном обороте некоторых стран наряду с кредитными деньгами бумажных денег в форме казначейских билетов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4)выпуском банкнот в обращение в порядке кредитования хозяйства, государства, а также под прирост официальных золотых и валютных резервов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5)развитием и преобладанием в денежном обращении безналичного оборота при одновременном сокращении наличного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6)усилением государственного регулирования денежного обращения в связи с постоянным нарушением основополагающего принципа денежной системы — соответствия количества денег объективным потребностям экономического оборота, которое ведет к инфляционному процессу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341280" y="85680"/>
            <a:ext cx="857736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463680" y="268200"/>
            <a:ext cx="8362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нежная система России функционирует в соответствии с федеральными законами «О Центральном банке РФ (Банке России)» от 26 апреля 1995 г. и «О банках и банковской деятельности» от 3 февраля 1996 г. с последующими дополнениями и изменениям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и законы определили правовые основы денежной системы, а также задачи, функции и полномочия БР в организации денежного обращения и денежной систем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420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aecd"/>
                </a:solidFill>
                <a:latin typeface="Lucida Sans Unicode"/>
              </a:rPr>
              <a:t>Система металлического обращения,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оторая базируется на действительных деньгах (серебряных, золотых), выполняющих все пять функций, а обращающиеся банкноты беспрепятственно обмениваются на действительные деньги (золото и серебро)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1faecd"/>
                </a:solidFill>
                <a:latin typeface="Lucida Sans Unicode"/>
              </a:rPr>
              <a:t>Система бумажно-кредитного обращения</a:t>
            </a:r>
            <a:r>
              <a:rPr b="1" lang="ru-RU" sz="2500" spc="-1" strike="noStrike">
                <a:solidFill>
                  <a:srgbClr val="1faecd"/>
                </a:solidFill>
                <a:latin typeface="Lucida Sans Unicode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и которой действительные деньги вытеснены знаками стоимости, а в обращении находятся бумажные (казначейские векселя) либо кредитные деньг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171360" y="158760"/>
            <a:ext cx="8801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0" y="2276280"/>
            <a:ext cx="91440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1faecd"/>
                </a:solidFill>
                <a:latin typeface="Lucida Sans Unicode"/>
              </a:rPr>
              <a:t>Биметаллизм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- роль всеобщего эквивалента закреплена за двумя металлами: золотом и серебром. Предусматривается неограниченное обращение и свободная чеканка, установление двух цен на один товар. Эта система существовала в XVI — XVIII вв., а в ряде стран  Западной  Европы действовала и в ХIХ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1faecd"/>
                </a:solidFill>
                <a:latin typeface="Lucida Sans Unicode"/>
              </a:rPr>
              <a:t>Монометаллизм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- роль всеобщего эквивалента закреплена за одним металлом. Серебряный монометаллизм. Золотой монометаллиз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347760" y="-23760"/>
            <a:ext cx="85881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Различают три разновидности золотого монометаллизма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5400" spc="-1" strike="noStrike">
                <a:solidFill>
                  <a:srgbClr val="1faecd"/>
                </a:solidFill>
                <a:latin typeface="Lucida Sans Unicode"/>
              </a:rPr>
              <a:t>золотомонетный,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aecd"/>
                </a:solidFill>
                <a:latin typeface="Lucida Sans Unicode"/>
              </a:rPr>
              <a:t> </a:t>
            </a:r>
            <a:r>
              <a:rPr b="1" lang="ru-RU" sz="5400" spc="-1" strike="noStrike">
                <a:solidFill>
                  <a:srgbClr val="1faecd"/>
                </a:solidFill>
                <a:latin typeface="Lucida Sans Unicode"/>
              </a:rPr>
              <a:t>золотослитковый и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aecd"/>
                </a:solidFill>
                <a:latin typeface="Lucida Sans Unicode"/>
              </a:rPr>
              <a:t> </a:t>
            </a:r>
            <a:r>
              <a:rPr b="1" lang="ru-RU" sz="5400" spc="-1" strike="noStrike">
                <a:solidFill>
                  <a:srgbClr val="1faecd"/>
                </a:solidFill>
                <a:latin typeface="Lucida Sans Unicode"/>
              </a:rPr>
              <a:t>золотодевизный стандарты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оответствующий периоду свободной конкуренции и развития производства, кредитной системы и торговли, характеризовался золотым обращением, свободной чеканкой монет, беспрепятственным и неограниченным обменом банкнот на золото,  не запрещенным движением золота и инвалюты между странами. Закон денежного обращения действовал автоматически. Этот стандарт требовал наличия золотых запасов в эмиссионных центрах. Первая мировая война, потребовавшая больших военных затрат, вызвала рост дефицита воюющих государств и привела к отмене золотомонетного стандарта в большинстве стран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50560" y="1196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был введен после окончания I мировой войны в ограниченных  странах, имеющих значительные золотые резервы (Великобритания, Франция). При этом свободное обращение золота отсутствует, ограниченный обмен банкнот на золото при предъявлении определенного количества национальных денежных единиц (например, в Великобритании 1700 фунтов стерлингов за один слиток золота в 12,5 кг). Обязательно наличие значительных золотых запасов в странах, вводивших этот стандарт; ввоз в страну золота относительно свободный. Этот стандарт действовал до мирового экономического кризиса (1929 – 1933 гг.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функционировал после I мировой войны в большинстве стран, где была сильная инфляция (Германия, Австрия, Дания, Норвегия и др.). При этом золотое обращение полностью прекращено, национальная денежная единица обменивается на девизы (платежные документы в валюте и инвалюте, разменных на золото); запас центрального банка главным образом в инвалюте, которая обменивалась в своей стране на золото; вывоз и ввоз золота по существу запрещен. Данный стандарт просуществовал до мирового экономического кризиса (1929 – 1933 гг.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0:46:31Z</dcterms:created>
  <dc:creator>Наталья</dc:creator>
  <dc:description/>
  <dc:language>en-US</dc:language>
  <cp:lastModifiedBy>Наталья</cp:lastModifiedBy>
  <dcterms:modified xsi:type="dcterms:W3CDTF">2012-01-19T19:11:10Z</dcterms:modified>
  <cp:revision>9</cp:revision>
  <dc:subject/>
  <dc:title>Денежная система  и ее элементы</dc:title>
</cp:coreProperties>
</file>