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2C5-1783-4FCF-861D-AF801115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534-D6DE-480D-9845-94B36972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8A8-A777-4D9C-8572-9AA3C165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125-E0FC-4860-9B81-7D0D6CD0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3611-E062-451C-8C43-D99BE536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B93F-DE9F-4BBB-AFF7-69F1F617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238A-C6EB-4B3C-8F54-4CE5EECB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85F9-D25A-43E8-A395-1AF95D4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6A79-F70C-427A-A1AB-E216A2C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9FD4-3009-469C-A19F-27A41992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184C-6C59-41C2-B84F-0BDCD8B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D91-281C-4711-A7ED-3F567A1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A207-53C9-4312-9D49-6C4ED4F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2686-BF2E-4A11-A2E1-14D244F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72BC-50F8-4DCC-BC36-557CA025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2D32-57A4-4345-8624-CFE3A3BB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3B86-BFA0-4533-B663-B0686B93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2E6-6ABC-48EB-BC38-67F21E06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913-7438-4090-AC3B-D3686185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58E-53C6-47E0-A6AF-AE8DBC12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32E-5B13-438E-A01B-3CFA2334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375-8C40-4C31-8B01-1C74C4F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8EB-76FC-4269-BF8C-FA666031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183-B5D3-43B7-810E-7E37F367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C4C6-F9EC-4853-87F5-E943A3B3C9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EF5-7038-40A5-828D-6D752804EC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bbbb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 САРАТОВСКОЙ ОБЛА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2633400" y="5697360"/>
            <a:ext cx="377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готовил ученик 4 «б» класса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оногов Пав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c099"/>
            </a:gs>
            <a:gs pos="50000">
              <a:srgbClr val="ffffcc"/>
            </a:gs>
            <a:gs pos="100000">
              <a:srgbClr val="c0c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акже богат животный мир. На территории области обитает 70 видов млекопитающих, 250 видов птиц. Охотничьи угодья области занимают площадь в 3899,9 га и находятся во всех 38 районах. Там обитает свыше 14 тыс. зайцев-русаков, почти 5,5 тыс. лисиц. Сильно развита утиная охот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bb95"/>
            </a:gs>
            <a:gs pos="50000">
              <a:srgbClr val="ffffcc"/>
            </a:gs>
            <a:gs pos="100000">
              <a:srgbClr val="bbbb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Железнодорожные пути соединяют область с промышленным центром и лесным Севером, с Уралом и Сибирью, с Кавказом и Средней Азией. Через область проходит газопровод Средняя Азия Центр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аким образом, географическое положение области довольно благоприятно для развития хозяйства и связей с другими районам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a3"/>
            </a:gs>
            <a:gs pos="50000">
              <a:srgbClr val="ffffcc"/>
            </a:gs>
            <a:gs pos="100000">
              <a:srgbClr val="cccc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533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аратовская область расположена на юго-востоке европейской части России, в северной части Нижнего Поволжь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 запада на восток территория вытянута на 575 км, с севера на юг - на 330 к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ерез область протекает река Волга, которая делит область на 2 части: Левобережье и Правобереж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b591"/>
            </a:gs>
            <a:gs pos="50000">
              <a:srgbClr val="ffffcc"/>
            </a:gs>
            <a:gs pos="100000">
              <a:srgbClr val="b5b5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8380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аничит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 севере - с Пензенской и Ульяновской областям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 северо-востоке - с Самарско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 востоке - с Оренбургско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 юго-востоке - с Казахстан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 юге - с Волгоградско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 западе - с Воронежской и Тамбовской област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6c69e"/>
            </a:gs>
            <a:gs pos="50000">
              <a:srgbClr val="ffffcc"/>
            </a:gs>
            <a:gs pos="100000">
              <a:srgbClr val="c6c6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щая протяжённость границ составляет свыше 3500 км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сновная водная артерия - река Волга. Помимо реки Волги в области насчитывается около 180 малых рек общей протяженностью до 10000 км. Саратовская область - единственная в России, соединяющая в себе три географические зоны: лесостепь, степь, полупустыню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faf8c"/>
            </a:gs>
            <a:gs pos="50000">
              <a:srgbClr val="ffffcc"/>
            </a:gs>
            <a:gs pos="100000">
              <a:srgbClr val="afaf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40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лощадь области 100,2 тысячи квадратных километров. На этой территории могут разместиться Бельгия, Албания и Швейцария, вместе взятые. Область расположена между 50 и 53° северной широты. С запада на восток территория ее между 42 и 51° восточной долготы вытянута на 575 километров. От областного центра — города Саратова — до столицы нашей Родины Москвы 858 километров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faf8c"/>
            </a:gs>
            <a:gs pos="50000">
              <a:srgbClr val="ffffcc"/>
            </a:gs>
            <a:gs pos="100000">
              <a:srgbClr val="afaf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 протяжении 200 км с севера на юг области встречаются и смешанные леса, и дубрава, и степь, и перелески, и пустыня. На территории области произрастает 1700 видов растений, 400 видов растений занесено в Красную книгу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Тагаев</cp:lastModifiedBy>
  <dcterms:modified xsi:type="dcterms:W3CDTF">2012-01-24T11:51:2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