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CA7-1211-4093-8203-AB0E1F8D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2C1-1E17-4B9A-AC45-A1B32053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6E3-D894-48E0-9F36-43466886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D8E-7507-4262-8C1F-8B0E26F2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7F637-407B-4187-8EEE-9C05E6A6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20ED0-F089-40E2-AC78-4EC1748C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30990-5161-4154-AF20-E954851F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1DCFC-46A2-4D90-8CAA-109D137D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EFE82-56CA-45BC-9B2F-DF98593C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5A8B2-BE4E-4A9E-820D-64278441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336EB-0A90-4CD3-B745-932A9A20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541-EE41-474E-8DA7-A8368D30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2AAD8-2068-4000-91B9-8B38B061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6FB1D-F722-48F4-B2A2-04A0001B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AFC41-C644-456F-8A82-BC6534A7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227DE-0D1F-4ECE-8D2B-054A5B7B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CACD3-9073-4D8D-9FC4-7A8F1D1C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7E5-6EA2-4918-98DD-A846CB89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C35-8E93-4178-9E8D-E37B1D97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647-4E36-48CE-9CD2-BAC5801A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F52-F1A5-4315-9627-2104D65C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12C-74B8-491A-B087-7852FEA1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E36-D5D5-4AE1-9651-B18113B9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263-DED2-4D46-80A6-0AA8D177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B298-2834-4AF2-9B2D-2135E16C95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3671-A60B-4E8E-9328-E1F4EED72B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2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гулова Марина Викто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начальных классов первой катег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ончила НГПИ в 2002 г., 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2010 г. прошла повышение квалиф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3600" y="549360"/>
            <a:ext cx="3740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Факторы, облегчающие процесс становления связной реч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.Л. Рубинштейн, Л.В. Эльконин и др. -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аглядность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Рассматривание предметов, картин помогает детям называть предметы, их характерные признаки, производимые с ними действ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оздание плана высказыв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а значимость которого неоднократно указывал известный психолог Л.С. Выготский. Он отмечал важность последовательного размещения в схеме всех конкретных элементов высказывания, а также то, что каждое звено высказывания должно вовремя сменяться последующ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20" indent="399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дактическим материалом служа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немотаблицы – схем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 которых заложена определённая информац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1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емодорожки – несет небольшое количество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24000" y="2060640"/>
            <a:ext cx="68054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то можно изображать в таблиц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895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лавных героев сказк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вления природ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нятных детям действий и предметов (по ознакомлению с окружающим) с выраженными характерными признаками этих предметов, как в цветном, так и в черно-белом изображ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92720" y="1376280"/>
            <a:ext cx="3546360" cy="2524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27640" y="4297320"/>
            <a:ext cx="35290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бота по мнемотаблиц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33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ассматривание таблицы и разбор того, что на ней изображено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существляется перекодирование информации, т.е. преобразование из абстрактных символов в образ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ассказывание  с опорой на символы (образы)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елается графическая зарисовка мнемотаблиц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оспроизведение таблицы ребенком при показ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владение приёмами работы с мнемотаблицами значительно сокращает время обучения и одновременно решает задачи, направленные 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ие основных психических процессов – памяти, внимания, образного мыш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кодирование информации, т.е. преобразование абстрактных символов в образ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ие мелкой моторики рук при частичном или полном графическом воспроизведен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ие творческих способностей – фантазии, вообра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немотаблица для сказки            «Колосо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63640" y="1521000"/>
            <a:ext cx="5761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немотаблица для стихотвор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Ёлоч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0" t="0" r="5762" b="0"/>
          <a:stretch/>
        </p:blipFill>
        <p:spPr>
          <a:xfrm>
            <a:off x="2556000" y="1413000"/>
            <a:ext cx="38098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немотаблицы для уроков развития речи (окружающего мир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87280" y="1449360"/>
            <a:ext cx="4573800" cy="3745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356000" y="3645000"/>
            <a:ext cx="457848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зонные изменения ранней осенью в неживой прир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2924280"/>
            <a:ext cx="4716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ступила осень. Похолодало. Солнце поднимается ниже, чем летом. Ночь становится длиннее, день короче. Идут дожди. На земле появляются лужи. Дуют вет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2168640"/>
            <a:ext cx="3924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Рассказ учащего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3280" y="2421000"/>
            <a:ext cx="37432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зонные изменения осенью в живой прир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545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приходом осени лиственные деревья желтеют, краснеют. Листья опадают. Начинается листопад. Хвойные деревья остаются зелеными, небольшая часть хвоинок желтеет и осыпается. Исчезают насекомые. Перелетные птицы улетают в теплые края. У животных начинается линька, меняется окрас и густота шерсти. Некоторые животные делают запасы на зи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179880" y="396720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Рассказ учащего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340000" y="1125360"/>
            <a:ext cx="426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0256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спользование мнемотехники для развития связной речи при работе с детьми имеющими ОН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779640" y="4615920"/>
            <a:ext cx="4933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начальных классов первой квалификационной категории: Агулова Марина                  Викто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мостоятельное составление мнемотабли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59280" y="3321000"/>
            <a:ext cx="4932360" cy="3292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95280" y="1665360"/>
            <a:ext cx="42498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ниторинговые исслед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35640" y="3681360"/>
          <a:ext cx="4248000" cy="259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35640" y="3681360"/>
                    <a:ext cx="42480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58920" y="1521000"/>
          <a:ext cx="4038480" cy="3155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920" y="1521000"/>
                    <a:ext cx="403848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5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еобходимые условия для  правильного и своевременного речевого развития дет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ыть психически и соматически здоровы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меть нормальные умственные способ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меть нормальные слух и зр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ладать достаточной психической активность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ладать потребностью в речевом  обще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меть полноценное речевое окру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ниторинговые исслед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76360" y="1736640"/>
            <a:ext cx="51134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8920" y="69192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ельная ограниченность активного словарного запаса проявляется в том, что одним и тем же лепетным словом или звукосочетанием ребенок обозначает несколько разных понятий ("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биб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 - самолет, самосвал, пароход; "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боб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 - болит, смазывать, делать укол). Отмечается также замена названий действий названиями предметов и наоборот ("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ада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 - карандаш, рисовать, писать; "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у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 - сидеть, стул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00000" y="530028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бочая программа «Развитие речи» составитель Никонова О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03916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ь уроков развития ре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, развитие и активизация словарного запаса, т. е. развитие лексической основы реч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актическое овладение основными закономерностями грамматического строя реч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учение связной речи (устной и письменно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олнение пробелов в речевом развитии школьников и подготовка их к овладению грамотой, грамматикой и правописанием, а также чтением в соответствии со школьной программ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 уроках развития ре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8920" y="1363680"/>
            <a:ext cx="3889080" cy="2522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80000" y="1413000"/>
            <a:ext cx="4068720" cy="248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58920" y="4005360"/>
            <a:ext cx="3889080" cy="2597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680000" y="4005360"/>
            <a:ext cx="406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8713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немотехни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это система методов и приемов, обеспечивающих успешное освоение детьми знаний об особенностях объектов природы, об окружающем мире, эффективное запоминание структуры рассказа, сохранение и воспроизведение информации, и конечно развитие реч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6:53Z</dcterms:created>
  <dc:creator>User1</dc:creator>
  <dc:description/>
  <dc:language>en-US</dc:language>
  <cp:lastModifiedBy>Учитель</cp:lastModifiedBy>
  <dcterms:modified xsi:type="dcterms:W3CDTF">2012-01-24T06:16:17Z</dcterms:modified>
  <cp:revision>23</cp:revision>
  <dc:subject/>
  <dc:title>Использование мнемотехники при работе с детьми имеющими ОНР</dc:title>
</cp:coreProperties>
</file>