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495-CF37-41DE-AC50-914AA475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FBE-FAB7-48ED-8E55-79ACC90D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AF5-5D80-43F6-9BFF-43EBD262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A511-E10F-4355-804C-96B63C93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3E22-41ED-44C5-86E7-F63ADF63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4E65-BAB5-43AC-B082-FCA95BEF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8A57-1E59-450D-9AB7-518083D4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D3C5-35B6-4007-B1CB-01E6CA1A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3E44-BC87-4BC3-99A1-2992125E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B354-E827-4AB0-9B80-F95FEAD1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12D7-4375-4FC6-BE7A-F7E47C33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F5D-5FA7-4F2D-9226-1CC6260E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D37D-78D5-4F3B-8A5C-8AEDDCB5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54D4-0387-4B07-B58D-CFB92546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868D-C16D-48BD-860F-7E8A9CA7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7D12-5A60-495C-8AC9-624BA28D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2609-3450-41E2-A246-6C6C3D4A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7AB-02DA-400F-B79E-33007111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24EF-D64D-4D9C-B7A2-AEA7B9F2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032D-DC73-434E-B16E-E31C7C36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8B4D-3214-44B1-9184-C381999C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B396-AB56-45E8-8EA3-804B5040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EE6-B73A-49C3-ACA3-5A7B0EAB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18E2-439D-471B-8744-7E1FA0B1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3665-28E6-4EBA-BC5D-7F1BBD92EF9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D7A7-560F-47D8-BFC9-9E9BE63F21A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rchive.1september.ru/mat/" TargetMode="External"/><Relationship Id="rId2" Type="http://schemas.openxmlformats.org/officeDocument/2006/relationships/hyperlink" Target="http://archive.1september.ru/mat/" TargetMode="External"/><Relationship Id="rId3" Type="http://schemas.openxmlformats.org/officeDocument/2006/relationships/hyperlink" Target="http://archive.1september.ru/mat/" TargetMode="External"/><Relationship Id="rId4" Type="http://schemas.openxmlformats.org/officeDocument/2006/relationships/hyperlink" Target="http://archive.1september.ru/mat/" TargetMode="External"/><Relationship Id="rId5" Type="http://schemas.openxmlformats.org/officeDocument/2006/relationships/hyperlink" Target="http://archive.1september.ru/mat/" TargetMode="External"/><Relationship Id="rId6" Type="http://schemas.openxmlformats.org/officeDocument/2006/relationships/hyperlink" Target="http://archive.1september.ru/mat/" TargetMode="External"/><Relationship Id="rId7" Type="http://schemas.openxmlformats.org/officeDocument/2006/relationships/hyperlink" Target="http://archive.1september.ru/mat/" TargetMode="External"/><Relationship Id="rId8" Type="http://schemas.openxmlformats.org/officeDocument/2006/relationships/hyperlink" Target="http://archive.1september.ru/mat/" TargetMode="External"/><Relationship Id="rId9" Type="http://schemas.openxmlformats.org/officeDocument/2006/relationships/hyperlink" Target="http://archive.1september.ru/mat/" TargetMode="External"/><Relationship Id="rId10" Type="http://schemas.openxmlformats.org/officeDocument/2006/relationships/hyperlink" Target="http://archive.1september.ru/mat/" TargetMode="External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0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cc66"/>
                </a:solidFill>
                <a:latin typeface="Arial"/>
              </a:rPr>
              <a:t>Логарифмы</a:t>
            </a:r>
            <a:br>
              <a:rPr sz="5400"/>
            </a:br>
            <a:r>
              <a:rPr b="0" lang="ru-RU" sz="5400" spc="-1" strike="noStrike">
                <a:solidFill>
                  <a:srgbClr val="ffcc66"/>
                </a:solidFill>
                <a:latin typeface="Arial"/>
              </a:rPr>
              <a:t>в нашей жизни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втор учебного проект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ля учащихся 10 класса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итель математик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угоняев Иван Михайлович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Основной вопрос: для чего нужны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логарифмы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?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прос учебной темы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логарифмы и их применени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ебные предметы: математика, физика, информатика.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астники: учащиеся 10 класс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нформационные ресурсы: энциклопедии, Интернет ресурс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Дидактические цели проекта: развитие самостоятельной познавательной активности учащихся, приобретение навыков самостоятельной работы с большим объёмом литературы, умение анализировать и сопоставлять полученные факты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ЕТОДИЧЕСКИ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ДАЧИ: НАУЧИТЬ ИСПОЛЬЗОВАТЬ ВСПОМОГАТЕЛЬНЫЕ ИСТОЧНИКИ ДЛЯ ПРИОБРЕТЕНИЯ НОВЫХ ЗНАНИЙ,НАУЧИТЬ АНАЛИЗИРОВАТЬ И ОБОЩАТЬ ПОЛУЧЕННУЮ ИНФОРМАЦИЮ, КРАТКО ИЗЛАГАТЬ РЕЗУЛЬТАТЫ ИССЛЕДОВА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Темы самостоятельных исследований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связи с чем возникла необходимость в логарифмах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 что опиралось открытие логарифмов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к переводится термин логарифм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то из ученых, внес вклад в развитие логарифмов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к применяются логарифмы в окружающем нас мире: природе, архитектуре, техник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Этапы и сроки проведения проекта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ыбор тем исследова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Формирование групп проведения исследовани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Формулирование тем исследований учеников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Формирование групп для проведения исследований, выдвижение гипотез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ыбор названия проекта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суждение плана работы учащихс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суждение источников информа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амостоятельная работа учащихся по обсуждению и выполнению заданий.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дготовка презентации по отчету о проделанной работ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щита полученных  результат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 помощь учащимс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archive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.1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september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.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ru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/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mat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tp://www.poisknews.ru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tp://www.ug.ru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tp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://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ww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ormik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u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xt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ga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dagog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itl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tp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://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ww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boutstud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u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gazin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t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огарифмы   возникли в связи с необходимостью облегчить работу вычислителей и тем самым оказали большое влияние на развитие приложений математик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05:07:46Z</dcterms:created>
  <dc:creator>_</dc:creator>
  <dc:description/>
  <dc:language>en-US</dc:language>
  <cp:lastModifiedBy>Сугоняев</cp:lastModifiedBy>
  <dcterms:modified xsi:type="dcterms:W3CDTF">2008-10-25T10:51:56Z</dcterms:modified>
  <cp:revision>10</cp:revision>
  <dc:subject/>
  <dc:title>Золотая пропорция  вокруг нас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