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26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12.wmf" ContentType="image/x-wmf"/>
  <Override PartName="/ppt/media/image4.png" ContentType="image/png"/>
  <Override PartName="/ppt/media/image30.wmf" ContentType="image/x-wmf"/>
  <Override PartName="/ppt/media/image28.wmf" ContentType="image/x-wmf"/>
  <Override PartName="/ppt/media/image31.wmf" ContentType="image/x-wmf"/>
  <Override PartName="/ppt/media/image32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9FE-87CF-4D9E-A2ED-90B8FBDF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4485-63E0-4C7B-A405-D6989057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0AE2-3B9F-452B-A7B3-95E6F08F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89B5-1786-448D-A4C1-46241F65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10B0-7871-46B8-9F93-88968FD8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544-10D4-45F9-8D98-C92ACA31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80A3-49D4-4A10-814E-0002CB15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D8B4-74A6-4F44-96AF-1917DF87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3264-6CF9-4CE6-97A4-045F8BAD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62B-7B40-45B4-96EC-227E099C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B9B3-D445-40BD-99E4-3506C2F6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B50D-D505-41CF-B667-22C9477D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A264-14F8-49DC-8CA1-DA265EE710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image" Target="../media/image26.png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7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24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28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29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0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1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1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27.wmf"/><Relationship Id="rId3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3573360"/>
            <a:ext cx="882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нятие обратной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пределение обратных тригонометрических фун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95280" y="55897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лгебра и начала анализа, 10 кла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6156360" y="6237360"/>
            <a:ext cx="29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Tahoma"/>
              </a:rPr>
              <a:t>Касьянова Е.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73"/>
          <p:cNvSpPr/>
          <p:nvPr/>
        </p:nvSpPr>
        <p:spPr>
          <a:xfrm flipV="1">
            <a:off x="3090960" y="1282320"/>
            <a:ext cx="3600360" cy="360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4"/>
          <p:cNvSpPr/>
          <p:nvPr/>
        </p:nvSpPr>
        <p:spPr>
          <a:xfrm rot="18976800">
            <a:off x="5972760" y="120924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=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72"/>
          <p:cNvSpPr/>
          <p:nvPr/>
        </p:nvSpPr>
        <p:spPr>
          <a:xfrm>
            <a:off x="4222800" y="11383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3"/>
          <p:cNvSpPr/>
          <p:nvPr/>
        </p:nvSpPr>
        <p:spPr>
          <a:xfrm>
            <a:off x="6089760" y="217332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=sin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74"/>
          <p:cNvSpPr/>
          <p:nvPr/>
        </p:nvSpPr>
        <p:spPr>
          <a:xfrm>
            <a:off x="4592520" y="2452680"/>
            <a:ext cx="1309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5"/>
          <p:cNvSpPr/>
          <p:nvPr/>
        </p:nvSpPr>
        <p:spPr>
          <a:xfrm flipV="1">
            <a:off x="5529240" y="1985760"/>
            <a:ext cx="0" cy="139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76"/>
          <p:cNvSpPr/>
          <p:nvPr/>
        </p:nvSpPr>
        <p:spPr>
          <a:xfrm flipV="1">
            <a:off x="3659040" y="3384720"/>
            <a:ext cx="0" cy="1396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77"/>
          <p:cNvSpPr/>
          <p:nvPr/>
        </p:nvSpPr>
        <p:spPr>
          <a:xfrm>
            <a:off x="2443320" y="3384720"/>
            <a:ext cx="430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78"/>
          <p:cNvSpPr/>
          <p:nvPr/>
        </p:nvSpPr>
        <p:spPr>
          <a:xfrm>
            <a:off x="4602240" y="2465280"/>
            <a:ext cx="1393920" cy="933480"/>
          </a:xfrm>
          <a:custGeom>
            <a:avLst/>
            <a:gdLst/>
            <a:ahLst/>
            <a:rect l="l" t="t" r="r" b="b"/>
            <a:pathLst>
              <a:path w="878" h="588">
                <a:moveTo>
                  <a:pt x="0" y="588"/>
                </a:moveTo>
                <a:cubicBezTo>
                  <a:pt x="19" y="568"/>
                  <a:pt x="76" y="507"/>
                  <a:pt x="113" y="469"/>
                </a:cubicBezTo>
                <a:cubicBezTo>
                  <a:pt x="150" y="431"/>
                  <a:pt x="191" y="391"/>
                  <a:pt x="221" y="362"/>
                </a:cubicBezTo>
                <a:cubicBezTo>
                  <a:pt x="251" y="333"/>
                  <a:pt x="274" y="315"/>
                  <a:pt x="296" y="295"/>
                </a:cubicBezTo>
                <a:cubicBezTo>
                  <a:pt x="318" y="276"/>
                  <a:pt x="317" y="272"/>
                  <a:pt x="351" y="244"/>
                </a:cubicBezTo>
                <a:cubicBezTo>
                  <a:pt x="384" y="216"/>
                  <a:pt x="453" y="160"/>
                  <a:pt x="496" y="130"/>
                </a:cubicBezTo>
                <a:cubicBezTo>
                  <a:pt x="539" y="99"/>
                  <a:pt x="565" y="82"/>
                  <a:pt x="610" y="62"/>
                </a:cubicBezTo>
                <a:cubicBezTo>
                  <a:pt x="656" y="41"/>
                  <a:pt x="727" y="21"/>
                  <a:pt x="771" y="10"/>
                </a:cubicBezTo>
                <a:cubicBezTo>
                  <a:pt x="816" y="0"/>
                  <a:pt x="856" y="4"/>
                  <a:pt x="878" y="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79"/>
          <p:cNvSpPr/>
          <p:nvPr/>
        </p:nvSpPr>
        <p:spPr>
          <a:xfrm rot="10800000">
            <a:off x="3211560" y="3398400"/>
            <a:ext cx="1380960" cy="925560"/>
          </a:xfrm>
          <a:custGeom>
            <a:avLst/>
            <a:gdLst/>
            <a:ahLst/>
            <a:rect l="l" t="t" r="r" b="b"/>
            <a:pathLst>
              <a:path w="676" h="458">
                <a:moveTo>
                  <a:pt x="0" y="458"/>
                </a:moveTo>
                <a:cubicBezTo>
                  <a:pt x="28" y="428"/>
                  <a:pt x="57" y="398"/>
                  <a:pt x="85" y="369"/>
                </a:cubicBezTo>
                <a:cubicBezTo>
                  <a:pt x="113" y="340"/>
                  <a:pt x="146" y="305"/>
                  <a:pt x="170" y="282"/>
                </a:cubicBezTo>
                <a:cubicBezTo>
                  <a:pt x="194" y="259"/>
                  <a:pt x="211" y="245"/>
                  <a:pt x="228" y="230"/>
                </a:cubicBezTo>
                <a:cubicBezTo>
                  <a:pt x="245" y="215"/>
                  <a:pt x="244" y="212"/>
                  <a:pt x="270" y="190"/>
                </a:cubicBezTo>
                <a:cubicBezTo>
                  <a:pt x="296" y="168"/>
                  <a:pt x="349" y="125"/>
                  <a:pt x="382" y="101"/>
                </a:cubicBezTo>
                <a:cubicBezTo>
                  <a:pt x="415" y="77"/>
                  <a:pt x="435" y="64"/>
                  <a:pt x="470" y="48"/>
                </a:cubicBezTo>
                <a:cubicBezTo>
                  <a:pt x="505" y="32"/>
                  <a:pt x="560" y="16"/>
                  <a:pt x="594" y="8"/>
                </a:cubicBezTo>
                <a:cubicBezTo>
                  <a:pt x="628" y="0"/>
                  <a:pt x="659" y="3"/>
                  <a:pt x="676" y="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80"/>
          <p:cNvSpPr/>
          <p:nvPr/>
        </p:nvSpPr>
        <p:spPr>
          <a:xfrm>
            <a:off x="3284640" y="4316400"/>
            <a:ext cx="1307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81"/>
          <p:cNvSpPr/>
          <p:nvPr/>
        </p:nvSpPr>
        <p:spPr>
          <a:xfrm flipV="1">
            <a:off x="4592520" y="1243080"/>
            <a:ext cx="0" cy="36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82"/>
          <p:cNvSpPr/>
          <p:nvPr/>
        </p:nvSpPr>
        <p:spPr>
          <a:xfrm>
            <a:off x="5059440" y="3292560"/>
            <a:ext cx="0" cy="185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83"/>
          <p:cNvSpPr/>
          <p:nvPr/>
        </p:nvSpPr>
        <p:spPr>
          <a:xfrm>
            <a:off x="5989680" y="3292560"/>
            <a:ext cx="0" cy="185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86"/>
          <p:cNvSpPr/>
          <p:nvPr/>
        </p:nvSpPr>
        <p:spPr>
          <a:xfrm flipH="1">
            <a:off x="4500360" y="2452680"/>
            <a:ext cx="1983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7"/>
          <p:cNvSpPr/>
          <p:nvPr/>
        </p:nvSpPr>
        <p:spPr>
          <a:xfrm>
            <a:off x="4232160" y="224784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88"/>
          <p:cNvSpPr/>
          <p:nvPr/>
        </p:nvSpPr>
        <p:spPr>
          <a:xfrm>
            <a:off x="3195720" y="3292560"/>
            <a:ext cx="0" cy="185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90"/>
          <p:cNvSpPr/>
          <p:nvPr/>
        </p:nvSpPr>
        <p:spPr>
          <a:xfrm>
            <a:off x="4537080" y="3311640"/>
            <a:ext cx="37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91"/>
          <p:cNvSpPr/>
          <p:nvPr/>
        </p:nvSpPr>
        <p:spPr>
          <a:xfrm>
            <a:off x="5465880" y="1920960"/>
            <a:ext cx="918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92"/>
          <p:cNvSpPr/>
          <p:nvPr/>
        </p:nvSpPr>
        <p:spPr>
          <a:xfrm flipV="1">
            <a:off x="5060880" y="2918880"/>
            <a:ext cx="0" cy="373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93"/>
          <p:cNvSpPr/>
          <p:nvPr/>
        </p:nvSpPr>
        <p:spPr>
          <a:xfrm>
            <a:off x="4592520" y="291924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94"/>
          <p:cNvSpPr/>
          <p:nvPr/>
        </p:nvSpPr>
        <p:spPr>
          <a:xfrm flipV="1">
            <a:off x="5991120" y="2465280"/>
            <a:ext cx="0" cy="890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95"/>
          <p:cNvSpPr/>
          <p:nvPr/>
        </p:nvSpPr>
        <p:spPr>
          <a:xfrm>
            <a:off x="5942160" y="2411280"/>
            <a:ext cx="918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96"/>
          <p:cNvSpPr/>
          <p:nvPr/>
        </p:nvSpPr>
        <p:spPr>
          <a:xfrm>
            <a:off x="3714840" y="4802040"/>
            <a:ext cx="884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97"/>
          <p:cNvSpPr/>
          <p:nvPr/>
        </p:nvSpPr>
        <p:spPr>
          <a:xfrm>
            <a:off x="3618000" y="4748040"/>
            <a:ext cx="93600" cy="93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01"/>
          <p:cNvSpPr/>
          <p:nvPr/>
        </p:nvSpPr>
        <p:spPr>
          <a:xfrm>
            <a:off x="4127400" y="3308400"/>
            <a:ext cx="0" cy="183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02"/>
          <p:cNvSpPr/>
          <p:nvPr/>
        </p:nvSpPr>
        <p:spPr>
          <a:xfrm>
            <a:off x="4125960" y="3852720"/>
            <a:ext cx="466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03"/>
          <p:cNvSpPr/>
          <p:nvPr/>
        </p:nvSpPr>
        <p:spPr>
          <a:xfrm flipV="1">
            <a:off x="4125960" y="3478320"/>
            <a:ext cx="0" cy="37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04"/>
          <p:cNvSpPr/>
          <p:nvPr/>
        </p:nvSpPr>
        <p:spPr>
          <a:xfrm flipV="1">
            <a:off x="3191040" y="3386160"/>
            <a:ext cx="0" cy="892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05"/>
          <p:cNvSpPr/>
          <p:nvPr/>
        </p:nvSpPr>
        <p:spPr>
          <a:xfrm flipH="1">
            <a:off x="4599000" y="1962000"/>
            <a:ext cx="84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06"/>
          <p:cNvSpPr/>
          <p:nvPr/>
        </p:nvSpPr>
        <p:spPr>
          <a:xfrm>
            <a:off x="4500720" y="4076640"/>
            <a:ext cx="6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07"/>
          <p:cNvSpPr/>
          <p:nvPr/>
        </p:nvSpPr>
        <p:spPr>
          <a:xfrm>
            <a:off x="6424560" y="30052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208"/>
          <p:cNvSpPr/>
          <p:nvPr/>
        </p:nvSpPr>
        <p:spPr>
          <a:xfrm>
            <a:off x="4591080" y="2022480"/>
            <a:ext cx="919080" cy="1353960"/>
          </a:xfrm>
          <a:custGeom>
            <a:avLst/>
            <a:gdLst/>
            <a:ahLst/>
            <a:rect l="l" t="t" r="r" b="b"/>
            <a:pathLst>
              <a:path w="579" h="853">
                <a:moveTo>
                  <a:pt x="0" y="853"/>
                </a:moveTo>
                <a:cubicBezTo>
                  <a:pt x="12" y="846"/>
                  <a:pt x="54" y="822"/>
                  <a:pt x="75" y="808"/>
                </a:cubicBezTo>
                <a:cubicBezTo>
                  <a:pt x="96" y="794"/>
                  <a:pt x="103" y="788"/>
                  <a:pt x="126" y="766"/>
                </a:cubicBezTo>
                <a:lnTo>
                  <a:pt x="216" y="673"/>
                </a:lnTo>
                <a:cubicBezTo>
                  <a:pt x="240" y="648"/>
                  <a:pt x="252" y="640"/>
                  <a:pt x="270" y="616"/>
                </a:cubicBezTo>
                <a:cubicBezTo>
                  <a:pt x="288" y="592"/>
                  <a:pt x="309" y="550"/>
                  <a:pt x="324" y="529"/>
                </a:cubicBezTo>
                <a:cubicBezTo>
                  <a:pt x="339" y="508"/>
                  <a:pt x="345" y="507"/>
                  <a:pt x="358" y="491"/>
                </a:cubicBezTo>
                <a:cubicBezTo>
                  <a:pt x="371" y="475"/>
                  <a:pt x="385" y="459"/>
                  <a:pt x="405" y="430"/>
                </a:cubicBezTo>
                <a:cubicBezTo>
                  <a:pt x="425" y="401"/>
                  <a:pt x="459" y="354"/>
                  <a:pt x="480" y="319"/>
                </a:cubicBezTo>
                <a:cubicBezTo>
                  <a:pt x="501" y="284"/>
                  <a:pt x="520" y="252"/>
                  <a:pt x="534" y="219"/>
                </a:cubicBezTo>
                <a:cubicBezTo>
                  <a:pt x="548" y="186"/>
                  <a:pt x="558" y="146"/>
                  <a:pt x="565" y="118"/>
                </a:cubicBezTo>
                <a:cubicBezTo>
                  <a:pt x="571" y="89"/>
                  <a:pt x="574" y="64"/>
                  <a:pt x="576" y="44"/>
                </a:cubicBezTo>
                <a:cubicBezTo>
                  <a:pt x="579" y="25"/>
                  <a:pt x="579" y="9"/>
                  <a:pt x="579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209"/>
          <p:cNvSpPr/>
          <p:nvPr/>
        </p:nvSpPr>
        <p:spPr>
          <a:xfrm>
            <a:off x="3660840" y="3376440"/>
            <a:ext cx="931680" cy="1371600"/>
          </a:xfrm>
          <a:custGeom>
            <a:avLst/>
            <a:gdLst/>
            <a:ahLst/>
            <a:rect l="l" t="t" r="r" b="b"/>
            <a:pathLst>
              <a:path w="452" h="668">
                <a:moveTo>
                  <a:pt x="452" y="0"/>
                </a:moveTo>
                <a:cubicBezTo>
                  <a:pt x="428" y="23"/>
                  <a:pt x="348" y="94"/>
                  <a:pt x="302" y="141"/>
                </a:cubicBezTo>
                <a:cubicBezTo>
                  <a:pt x="256" y="188"/>
                  <a:pt x="213" y="234"/>
                  <a:pt x="176" y="279"/>
                </a:cubicBezTo>
                <a:cubicBezTo>
                  <a:pt x="139" y="324"/>
                  <a:pt x="99" y="379"/>
                  <a:pt x="77" y="414"/>
                </a:cubicBezTo>
                <a:cubicBezTo>
                  <a:pt x="55" y="449"/>
                  <a:pt x="51" y="463"/>
                  <a:pt x="41" y="489"/>
                </a:cubicBezTo>
                <a:cubicBezTo>
                  <a:pt x="31" y="515"/>
                  <a:pt x="22" y="545"/>
                  <a:pt x="17" y="567"/>
                </a:cubicBezTo>
                <a:cubicBezTo>
                  <a:pt x="12" y="589"/>
                  <a:pt x="11" y="607"/>
                  <a:pt x="8" y="624"/>
                </a:cubicBezTo>
                <a:cubicBezTo>
                  <a:pt x="5" y="641"/>
                  <a:pt x="2" y="659"/>
                  <a:pt x="0" y="66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1"/>
          <p:cNvSpPr/>
          <p:nvPr/>
        </p:nvSpPr>
        <p:spPr>
          <a:xfrm>
            <a:off x="5349960" y="33336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12"/>
          <p:cNvSpPr/>
          <p:nvPr/>
        </p:nvSpPr>
        <p:spPr>
          <a:xfrm>
            <a:off x="3308400" y="2978280"/>
            <a:ext cx="6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214"/>
          <p:cNvSpPr/>
          <p:nvPr/>
        </p:nvSpPr>
        <p:spPr>
          <a:xfrm>
            <a:off x="5024520" y="2871720"/>
            <a:ext cx="92160" cy="93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215"/>
          <p:cNvSpPr/>
          <p:nvPr/>
        </p:nvSpPr>
        <p:spPr>
          <a:xfrm>
            <a:off x="4073400" y="3803760"/>
            <a:ext cx="93960" cy="93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216"/>
          <p:cNvSpPr/>
          <p:nvPr/>
        </p:nvSpPr>
        <p:spPr>
          <a:xfrm>
            <a:off x="3152880" y="4267080"/>
            <a:ext cx="918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17"/>
          <p:cNvSpPr/>
          <p:nvPr/>
        </p:nvSpPr>
        <p:spPr>
          <a:xfrm>
            <a:off x="4781520" y="1332000"/>
            <a:ext cx="16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99"/>
                </a:solidFill>
                <a:latin typeface="Times New Roman"/>
              </a:rPr>
              <a:t>y=arcsin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18"/>
          <p:cNvSpPr/>
          <p:nvPr/>
        </p:nvSpPr>
        <p:spPr>
          <a:xfrm>
            <a:off x="4549680" y="3343320"/>
            <a:ext cx="936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20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так, есл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=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=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1; 1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то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cs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=[–1; 1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cs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=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К тому же, зная график функц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n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войство графиков взаимно обратных функций, нетрудно получить график функц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csin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226"/>
          <p:cNvGrpSpPr/>
          <p:nvPr/>
        </p:nvGrpSpPr>
        <p:grpSpPr>
          <a:xfrm>
            <a:off x="0" y="5373720"/>
            <a:ext cx="9144000" cy="703800"/>
            <a:chOff x="0" y="5373720"/>
            <a:chExt cx="9144000" cy="703800"/>
          </a:xfrm>
        </p:grpSpPr>
        <p:sp>
          <p:nvSpPr>
            <p:cNvPr id="251" name="Text Box 223"/>
            <p:cNvSpPr/>
            <p:nvPr/>
          </p:nvSpPr>
          <p:spPr>
            <a:xfrm>
              <a:off x="0" y="5373720"/>
              <a:ext cx="914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 определения следует, что </a:t>
              </a:r>
              <a:r>
                <a:rPr b="0" i="1" lang="en-US" sz="2000" spc="-1" strike="noStrike">
                  <a:solidFill>
                    <a:srgbClr val="0066ff"/>
                  </a:solidFill>
                  <a:latin typeface="Times New Roman"/>
                </a:rPr>
                <a:t>sin</a:t>
              </a:r>
              <a:r>
                <a:rPr b="0" lang="en-US" sz="18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66ff"/>
                  </a:solidFill>
                  <a:latin typeface="Times New Roman"/>
                </a:rPr>
                <a:t>arcsiny</a:t>
              </a:r>
              <a:r>
                <a:rPr b="0" lang="en-US" sz="1800" spc="-1" strike="noStrike">
                  <a:solidFill>
                    <a:srgbClr val="0066ff"/>
                  </a:solidFill>
                  <a:latin typeface="Arial"/>
                </a:rPr>
                <a:t>)=</a:t>
              </a:r>
              <a:r>
                <a:rPr b="0" i="1" lang="en-US" sz="2000" spc="-1" strike="noStrike">
                  <a:solidFill>
                    <a:srgbClr val="0066ff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en-US" sz="2000" spc="-1" strike="noStrike">
                  <a:solidFill>
                    <a:srgbClr val="0066ff"/>
                  </a:solidFill>
                  <a:latin typeface="Times New Roman"/>
                </a:rPr>
                <a:t>arcsin</a:t>
              </a:r>
              <a:r>
                <a:rPr b="0" lang="en-US" sz="18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66ff"/>
                  </a:solidFill>
                  <a:latin typeface="Times New Roman"/>
                </a:rPr>
                <a:t>sinx</a:t>
              </a:r>
              <a:r>
                <a:rPr b="0" lang="en-US" sz="1800" spc="-1" strike="noStrike">
                  <a:solidFill>
                    <a:srgbClr val="0066ff"/>
                  </a:solidFill>
                  <a:latin typeface="Arial"/>
                </a:rPr>
                <a:t>)=</a:t>
              </a:r>
              <a:r>
                <a:rPr b="0" i="1" lang="en-US" sz="2000" spc="-1" strike="noStrike">
                  <a:solidFill>
                    <a:srgbClr val="0066ff"/>
                  </a:solidFill>
                  <a:latin typeface="Times New Roman"/>
                </a:rPr>
                <a:t>x</a:t>
              </a:r>
              <a:r>
                <a:rPr b="0" i="1" lang="ru-RU" sz="2000" spc="-1" strike="noStrike">
                  <a:solidFill>
                    <a:srgbClr val="0066ff"/>
                  </a:solidFill>
                  <a:latin typeface="Times New Roman"/>
                </a:rPr>
                <a:t>,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и </a:t>
              </a:r>
              <a:r>
                <a:rPr b="0" i="1" lang="en-US" sz="2000" spc="-1" strike="noStrike">
                  <a:solidFill>
                    <a:srgbClr val="0066ff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 Symbol"/>
                  <a:ea typeface="Euclid Symbol"/>
                </a:rPr>
                <a:t>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–1; 1]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2000" spc="-1" strike="noStrike">
                  <a:solidFill>
                    <a:srgbClr val="0066ff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 Symbol"/>
                  <a:ea typeface="Euclid Symbol"/>
                </a:rPr>
                <a:t>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. Полезно вывести и запомнить также, что 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Times New Roman"/>
                </a:rPr>
                <a:t>arcsin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–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a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)= –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Times New Roman"/>
                </a:rPr>
                <a:t>arcsin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0" descr=""/>
          <p:cNvPicPr/>
          <p:nvPr/>
        </p:nvPicPr>
        <p:blipFill>
          <a:blip r:embed="rId1"/>
          <a:stretch/>
        </p:blipFill>
        <p:spPr>
          <a:xfrm>
            <a:off x="5191200" y="5154480"/>
            <a:ext cx="1427040" cy="962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7" descr=""/>
          <p:cNvPicPr/>
          <p:nvPr/>
        </p:nvPicPr>
        <p:blipFill>
          <a:blip r:embed="rId2"/>
          <a:stretch/>
        </p:blipFill>
        <p:spPr>
          <a:xfrm>
            <a:off x="3780000" y="4208400"/>
            <a:ext cx="1460160" cy="9921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огично можно ввести понят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ккосину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9"/>
          <p:cNvGrpSpPr/>
          <p:nvPr/>
        </p:nvGrpSpPr>
        <p:grpSpPr>
          <a:xfrm>
            <a:off x="0" y="333360"/>
            <a:ext cx="9144000" cy="703800"/>
            <a:chOff x="0" y="333360"/>
            <a:chExt cx="9144000" cy="703800"/>
          </a:xfrm>
        </p:grpSpPr>
        <p:sp>
          <p:nvSpPr>
            <p:cNvPr id="256" name="Text Box 6"/>
            <p:cNvSpPr/>
            <p:nvPr/>
          </p:nvSpPr>
          <p:spPr>
            <a:xfrm>
              <a:off x="0" y="333360"/>
              <a:ext cx="9144000" cy="703800"/>
            </a:xfrm>
            <a:prstGeom prst="rect">
              <a:avLst/>
            </a:prstGeom>
            <a:solidFill>
              <a:srgbClr val="00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9999"/>
                  </a:solidFill>
                  <a:latin typeface="Arial"/>
                </a:rPr>
                <a:t>Определение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   </a:t>
              </a:r>
              <a:r>
                <a:rPr b="1" lang="ru-RU" sz="1800" spc="-1" strike="noStrike">
                  <a:solidFill>
                    <a:srgbClr val="ff3300"/>
                  </a:solidFill>
                  <a:latin typeface="Arial"/>
                </a:rPr>
                <a:t>Арккосинусом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числа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1;1]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зывается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число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еличина угла в радианной мере), косинус которого равен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т.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15"/>
          <p:cNvGrpSpPr/>
          <p:nvPr/>
        </p:nvGrpSpPr>
        <p:grpSpPr>
          <a:xfrm>
            <a:off x="0" y="1415880"/>
            <a:ext cx="9144000" cy="642600"/>
            <a:chOff x="0" y="1415880"/>
            <a:chExt cx="9144000" cy="642600"/>
          </a:xfrm>
        </p:grpSpPr>
        <p:sp>
          <p:nvSpPr>
            <p:cNvPr id="258" name="Text Box 10"/>
            <p:cNvSpPr/>
            <p:nvPr/>
          </p:nvSpPr>
          <p:spPr>
            <a:xfrm>
              <a:off x="0" y="141588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Примечание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 Для значений функции арккосинус выбран отрезок            , т.к. это ближайший к началу отсчета промежуток убывания функции косинус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17"/>
          <p:cNvSpPr/>
          <p:nvPr/>
        </p:nvSpPr>
        <p:spPr>
          <a:xfrm flipV="1">
            <a:off x="3492360" y="2104560"/>
            <a:ext cx="3383280" cy="3382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 rot="18976800">
            <a:off x="5652000" y="24915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=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3492360" y="19368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5867280" y="6127920"/>
            <a:ext cx="9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=cos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3"/>
          <p:cNvSpPr/>
          <p:nvPr/>
        </p:nvSpPr>
        <p:spPr>
          <a:xfrm flipV="1">
            <a:off x="6588000" y="517032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4"/>
          <p:cNvSpPr/>
          <p:nvPr/>
        </p:nvSpPr>
        <p:spPr>
          <a:xfrm>
            <a:off x="2627280" y="5170320"/>
            <a:ext cx="492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7"/>
          <p:cNvSpPr/>
          <p:nvPr/>
        </p:nvSpPr>
        <p:spPr>
          <a:xfrm>
            <a:off x="3851280" y="610236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8"/>
          <p:cNvSpPr/>
          <p:nvPr/>
        </p:nvSpPr>
        <p:spPr>
          <a:xfrm flipV="1">
            <a:off x="3800520" y="2060640"/>
            <a:ext cx="14400" cy="438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9"/>
          <p:cNvSpPr/>
          <p:nvPr/>
        </p:nvSpPr>
        <p:spPr>
          <a:xfrm>
            <a:off x="4749840" y="5083200"/>
            <a:ext cx="0" cy="185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0"/>
          <p:cNvSpPr/>
          <p:nvPr/>
        </p:nvSpPr>
        <p:spPr>
          <a:xfrm>
            <a:off x="5211720" y="5078520"/>
            <a:ext cx="0" cy="185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3"/>
          <p:cNvSpPr/>
          <p:nvPr/>
        </p:nvSpPr>
        <p:spPr>
          <a:xfrm flipH="1">
            <a:off x="3722400" y="4238640"/>
            <a:ext cx="1983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4"/>
          <p:cNvSpPr/>
          <p:nvPr/>
        </p:nvSpPr>
        <p:spPr>
          <a:xfrm>
            <a:off x="3454560" y="40338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5"/>
          <p:cNvSpPr/>
          <p:nvPr/>
        </p:nvSpPr>
        <p:spPr>
          <a:xfrm>
            <a:off x="6588000" y="5078520"/>
            <a:ext cx="0" cy="185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7"/>
          <p:cNvSpPr/>
          <p:nvPr/>
        </p:nvSpPr>
        <p:spPr>
          <a:xfrm>
            <a:off x="3759120" y="5097600"/>
            <a:ext cx="3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9"/>
          <p:cNvSpPr/>
          <p:nvPr/>
        </p:nvSpPr>
        <p:spPr>
          <a:xfrm flipV="1">
            <a:off x="4749840" y="4753080"/>
            <a:ext cx="0" cy="372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0"/>
          <p:cNvSpPr/>
          <p:nvPr/>
        </p:nvSpPr>
        <p:spPr>
          <a:xfrm>
            <a:off x="3814920" y="4705200"/>
            <a:ext cx="90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1"/>
          <p:cNvSpPr/>
          <p:nvPr/>
        </p:nvSpPr>
        <p:spPr>
          <a:xfrm flipV="1">
            <a:off x="3330720" y="3285720"/>
            <a:ext cx="0" cy="1847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2"/>
          <p:cNvSpPr/>
          <p:nvPr/>
        </p:nvSpPr>
        <p:spPr>
          <a:xfrm>
            <a:off x="5159520" y="5126040"/>
            <a:ext cx="918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3"/>
          <p:cNvSpPr/>
          <p:nvPr/>
        </p:nvSpPr>
        <p:spPr>
          <a:xfrm>
            <a:off x="2936880" y="2349360"/>
            <a:ext cx="884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8"/>
          <p:cNvSpPr/>
          <p:nvPr/>
        </p:nvSpPr>
        <p:spPr>
          <a:xfrm>
            <a:off x="5651640" y="5094360"/>
            <a:ext cx="0" cy="183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49"/>
          <p:cNvSpPr/>
          <p:nvPr/>
        </p:nvSpPr>
        <p:spPr>
          <a:xfrm>
            <a:off x="3851280" y="56386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50"/>
          <p:cNvSpPr/>
          <p:nvPr/>
        </p:nvSpPr>
        <p:spPr>
          <a:xfrm flipV="1">
            <a:off x="5651640" y="5191200"/>
            <a:ext cx="0" cy="37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51"/>
          <p:cNvSpPr/>
          <p:nvPr/>
        </p:nvSpPr>
        <p:spPr>
          <a:xfrm flipV="1">
            <a:off x="2843280" y="2349000"/>
            <a:ext cx="0" cy="2738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2"/>
          <p:cNvSpPr/>
          <p:nvPr/>
        </p:nvSpPr>
        <p:spPr>
          <a:xfrm flipH="1">
            <a:off x="3348000" y="3240000"/>
            <a:ext cx="40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3"/>
          <p:cNvSpPr/>
          <p:nvPr/>
        </p:nvSpPr>
        <p:spPr>
          <a:xfrm>
            <a:off x="3276720" y="5862600"/>
            <a:ext cx="6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4"/>
          <p:cNvSpPr/>
          <p:nvPr/>
        </p:nvSpPr>
        <p:spPr>
          <a:xfrm>
            <a:off x="7236000" y="479124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55"/>
          <p:cNvSpPr/>
          <p:nvPr/>
        </p:nvSpPr>
        <p:spPr>
          <a:xfrm>
            <a:off x="2852640" y="2381400"/>
            <a:ext cx="932040" cy="1339560"/>
          </a:xfrm>
          <a:custGeom>
            <a:avLst/>
            <a:gdLst/>
            <a:ahLst/>
            <a:rect l="l" t="t" r="r" b="b"/>
            <a:pathLst>
              <a:path w="587" h="844">
                <a:moveTo>
                  <a:pt x="0" y="0"/>
                </a:moveTo>
                <a:cubicBezTo>
                  <a:pt x="2" y="15"/>
                  <a:pt x="7" y="66"/>
                  <a:pt x="11" y="92"/>
                </a:cubicBezTo>
                <a:cubicBezTo>
                  <a:pt x="15" y="118"/>
                  <a:pt x="19" y="132"/>
                  <a:pt x="27" y="156"/>
                </a:cubicBezTo>
                <a:lnTo>
                  <a:pt x="59" y="236"/>
                </a:lnTo>
                <a:cubicBezTo>
                  <a:pt x="77" y="268"/>
                  <a:pt x="109" y="313"/>
                  <a:pt x="135" y="348"/>
                </a:cubicBezTo>
                <a:cubicBezTo>
                  <a:pt x="161" y="383"/>
                  <a:pt x="182" y="409"/>
                  <a:pt x="215" y="448"/>
                </a:cubicBezTo>
                <a:cubicBezTo>
                  <a:pt x="248" y="487"/>
                  <a:pt x="303" y="549"/>
                  <a:pt x="333" y="582"/>
                </a:cubicBezTo>
                <a:cubicBezTo>
                  <a:pt x="363" y="615"/>
                  <a:pt x="367" y="621"/>
                  <a:pt x="393" y="648"/>
                </a:cubicBezTo>
                <a:cubicBezTo>
                  <a:pt x="419" y="675"/>
                  <a:pt x="459" y="711"/>
                  <a:pt x="491" y="744"/>
                </a:cubicBezTo>
                <a:cubicBezTo>
                  <a:pt x="523" y="777"/>
                  <a:pt x="567" y="823"/>
                  <a:pt x="587" y="844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56"/>
          <p:cNvSpPr/>
          <p:nvPr/>
        </p:nvSpPr>
        <p:spPr>
          <a:xfrm>
            <a:off x="3814920" y="3762360"/>
            <a:ext cx="928440" cy="1371600"/>
          </a:xfrm>
          <a:custGeom>
            <a:avLst/>
            <a:gdLst/>
            <a:ahLst/>
            <a:rect l="l" t="t" r="r" b="b"/>
            <a:pathLst>
              <a:path w="585" h="864">
                <a:moveTo>
                  <a:pt x="585" y="864"/>
                </a:moveTo>
                <a:cubicBezTo>
                  <a:pt x="583" y="848"/>
                  <a:pt x="582" y="802"/>
                  <a:pt x="573" y="766"/>
                </a:cubicBezTo>
                <a:cubicBezTo>
                  <a:pt x="564" y="730"/>
                  <a:pt x="546" y="682"/>
                  <a:pt x="533" y="650"/>
                </a:cubicBezTo>
                <a:cubicBezTo>
                  <a:pt x="520" y="618"/>
                  <a:pt x="514" y="605"/>
                  <a:pt x="497" y="574"/>
                </a:cubicBezTo>
                <a:cubicBezTo>
                  <a:pt x="480" y="543"/>
                  <a:pt x="451" y="496"/>
                  <a:pt x="429" y="462"/>
                </a:cubicBezTo>
                <a:cubicBezTo>
                  <a:pt x="407" y="428"/>
                  <a:pt x="395" y="407"/>
                  <a:pt x="363" y="369"/>
                </a:cubicBezTo>
                <a:cubicBezTo>
                  <a:pt x="331" y="331"/>
                  <a:pt x="271" y="270"/>
                  <a:pt x="237" y="234"/>
                </a:cubicBezTo>
                <a:cubicBezTo>
                  <a:pt x="203" y="198"/>
                  <a:pt x="186" y="181"/>
                  <a:pt x="162" y="156"/>
                </a:cubicBezTo>
                <a:cubicBezTo>
                  <a:pt x="138" y="131"/>
                  <a:pt x="120" y="113"/>
                  <a:pt x="93" y="87"/>
                </a:cubicBezTo>
                <a:cubicBezTo>
                  <a:pt x="66" y="61"/>
                  <a:pt x="19" y="18"/>
                  <a:pt x="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9"/>
          <p:cNvSpPr/>
          <p:nvPr/>
        </p:nvSpPr>
        <p:spPr>
          <a:xfrm>
            <a:off x="2484360" y="5230800"/>
            <a:ext cx="6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60"/>
          <p:cNvGraphicFramePr/>
          <p:nvPr/>
        </p:nvGraphicFramePr>
        <p:xfrm>
          <a:off x="6443640" y="4749840"/>
          <a:ext cx="317520" cy="3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Object 6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43640" y="4749840"/>
                    <a:ext cx="31752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Oval 61"/>
          <p:cNvSpPr/>
          <p:nvPr/>
        </p:nvSpPr>
        <p:spPr>
          <a:xfrm>
            <a:off x="4699080" y="4662360"/>
            <a:ext cx="92160" cy="93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62"/>
          <p:cNvSpPr/>
          <p:nvPr/>
        </p:nvSpPr>
        <p:spPr>
          <a:xfrm>
            <a:off x="5608800" y="5584680"/>
            <a:ext cx="93600" cy="93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63"/>
          <p:cNvSpPr/>
          <p:nvPr/>
        </p:nvSpPr>
        <p:spPr>
          <a:xfrm>
            <a:off x="6537240" y="6046920"/>
            <a:ext cx="92160" cy="91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4"/>
          <p:cNvSpPr/>
          <p:nvPr/>
        </p:nvSpPr>
        <p:spPr>
          <a:xfrm>
            <a:off x="1666800" y="2320920"/>
            <a:ext cx="12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99"/>
                </a:solidFill>
                <a:latin typeface="Times New Roman"/>
              </a:rPr>
              <a:t>y=arccos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71"/>
          <p:cNvSpPr/>
          <p:nvPr/>
        </p:nvSpPr>
        <p:spPr>
          <a:xfrm flipH="1" flipV="1">
            <a:off x="3733560" y="2354040"/>
            <a:ext cx="168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73"/>
          <p:cNvSpPr/>
          <p:nvPr/>
        </p:nvSpPr>
        <p:spPr>
          <a:xfrm flipH="1">
            <a:off x="3726000" y="324324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74"/>
          <p:cNvSpPr/>
          <p:nvPr/>
        </p:nvSpPr>
        <p:spPr>
          <a:xfrm>
            <a:off x="2843280" y="5086440"/>
            <a:ext cx="0" cy="185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8"/>
          <p:cNvSpPr/>
          <p:nvPr/>
        </p:nvSpPr>
        <p:spPr>
          <a:xfrm>
            <a:off x="3768840" y="3701880"/>
            <a:ext cx="918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75"/>
          <p:cNvSpPr/>
          <p:nvPr/>
        </p:nvSpPr>
        <p:spPr>
          <a:xfrm>
            <a:off x="3332160" y="5076720"/>
            <a:ext cx="0" cy="184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Object 76"/>
          <p:cNvGraphicFramePr/>
          <p:nvPr/>
        </p:nvGraphicFramePr>
        <p:xfrm>
          <a:off x="3924360" y="2206800"/>
          <a:ext cx="317520" cy="31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Object 7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2206800"/>
                    <a:ext cx="317520" cy="31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Oval 44"/>
          <p:cNvSpPr/>
          <p:nvPr/>
        </p:nvSpPr>
        <p:spPr>
          <a:xfrm>
            <a:off x="3290760" y="3189240"/>
            <a:ext cx="93960" cy="93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77"/>
          <p:cNvSpPr/>
          <p:nvPr/>
        </p:nvSpPr>
        <p:spPr>
          <a:xfrm>
            <a:off x="2805120" y="2306520"/>
            <a:ext cx="93600" cy="93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78"/>
          <p:cNvSpPr/>
          <p:nvPr/>
        </p:nvSpPr>
        <p:spPr>
          <a:xfrm>
            <a:off x="4703760" y="5122800"/>
            <a:ext cx="9216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1"/>
          <p:cNvSpPr/>
          <p:nvPr/>
        </p:nvSpPr>
        <p:spPr>
          <a:xfrm>
            <a:off x="4275000" y="5084640"/>
            <a:ext cx="0" cy="184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83"/>
          <p:cNvSpPr/>
          <p:nvPr/>
        </p:nvSpPr>
        <p:spPr>
          <a:xfrm flipV="1">
            <a:off x="4275000" y="4221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84"/>
          <p:cNvSpPr/>
          <p:nvPr/>
        </p:nvSpPr>
        <p:spPr>
          <a:xfrm flipH="1">
            <a:off x="3840120" y="4232160"/>
            <a:ext cx="40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82"/>
          <p:cNvSpPr/>
          <p:nvPr/>
        </p:nvSpPr>
        <p:spPr>
          <a:xfrm>
            <a:off x="4227480" y="4194000"/>
            <a:ext cx="9216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65"/>
          <p:cNvSpPr/>
          <p:nvPr/>
        </p:nvSpPr>
        <p:spPr>
          <a:xfrm>
            <a:off x="3767040" y="4195800"/>
            <a:ext cx="936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81481E-006 L 0.12656 0.18959 E">
                                      <p:cBhvr>
                                        <p:cTn id="724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468360" y="1413000"/>
          <a:ext cx="8281800" cy="1319040"/>
        </p:xfrm>
        <a:graphic>
          <a:graphicData uri="http://schemas.openxmlformats.org/drawingml/2006/table">
            <a:tbl>
              <a:tblPr/>
              <a:tblGrid>
                <a:gridCol w="1800000"/>
                <a:gridCol w="721080"/>
                <a:gridCol w="718920"/>
                <a:gridCol w="720720"/>
                <a:gridCol w="720720"/>
                <a:gridCol w="719280"/>
                <a:gridCol w="720720"/>
                <a:gridCol w="718920"/>
                <a:gridCol w="720720"/>
                <a:gridCol w="720720"/>
              </a:tblGrid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co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Text Box 82"/>
          <p:cNvSpPr/>
          <p:nvPr/>
        </p:nvSpPr>
        <p:spPr>
          <a:xfrm>
            <a:off x="0" y="765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Зад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Заполните предложенную таблиц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Object 86"/>
          <p:cNvGraphicFramePr/>
          <p:nvPr/>
        </p:nvGraphicFramePr>
        <p:xfrm>
          <a:off x="7107120" y="3228840"/>
          <a:ext cx="198720" cy="3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8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07120" y="3228840"/>
                    <a:ext cx="19872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96"/>
          <p:cNvGraphicFramePr/>
          <p:nvPr/>
        </p:nvGraphicFramePr>
        <p:xfrm>
          <a:off x="2484360" y="2133720"/>
          <a:ext cx="36216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Object 9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2133720"/>
                    <a:ext cx="3621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97"/>
          <p:cNvGraphicFramePr/>
          <p:nvPr/>
        </p:nvGraphicFramePr>
        <p:xfrm>
          <a:off x="8155080" y="2187720"/>
          <a:ext cx="396720" cy="39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6" name="Object 9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55080" y="2187720"/>
                    <a:ext cx="3967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Text Box 98"/>
          <p:cNvSpPr/>
          <p:nvPr/>
        </p:nvSpPr>
        <p:spPr>
          <a:xfrm>
            <a:off x="0" y="414972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дим теперь определение двум оставшимся обратным тригонометрическим функция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ctg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cctg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106"/>
          <p:cNvGrpSpPr/>
          <p:nvPr/>
        </p:nvGrpSpPr>
        <p:grpSpPr>
          <a:xfrm>
            <a:off x="0" y="2852640"/>
            <a:ext cx="9144000" cy="1333440"/>
            <a:chOff x="0" y="2852640"/>
            <a:chExt cx="9144000" cy="1333440"/>
          </a:xfrm>
        </p:grpSpPr>
        <p:sp>
          <p:nvSpPr>
            <p:cNvPr id="319" name="Text Box 84"/>
            <p:cNvSpPr/>
            <p:nvPr/>
          </p:nvSpPr>
          <p:spPr>
            <a:xfrm>
              <a:off x="0" y="2852640"/>
              <a:ext cx="91440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9999"/>
                  </a:solidFill>
                  <a:latin typeface="Arial"/>
                </a:rPr>
                <a:t>Задание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 Подумайте как обосновать (самостоятельно</a:t>
              </a:r>
              <a:r>
                <a:rPr b="0" lang="ru-RU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или с помощью учителя) следующие тождества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0" name="Object 85"/>
            <p:cNvGraphicFramePr/>
            <p:nvPr/>
          </p:nvGraphicFramePr>
          <p:xfrm>
            <a:off x="2914560" y="3141720"/>
            <a:ext cx="2681280" cy="487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1" name="Object 8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914560" y="3141720"/>
                      <a:ext cx="2681280" cy="4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2" name="Object 104"/>
            <p:cNvGraphicFramePr/>
            <p:nvPr/>
          </p:nvGraphicFramePr>
          <p:xfrm>
            <a:off x="711360" y="3573360"/>
            <a:ext cx="2681280" cy="487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23" name="Object 10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11360" y="3573360"/>
                      <a:ext cx="2681280" cy="4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4" name="Object 105"/>
            <p:cNvGraphicFramePr/>
            <p:nvPr/>
          </p:nvGraphicFramePr>
          <p:xfrm>
            <a:off x="3995640" y="3500280"/>
            <a:ext cx="2659320" cy="685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5" name="Object 10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995640" y="3500280"/>
                      <a:ext cx="26593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26" name="Group 109"/>
          <p:cNvGrpSpPr/>
          <p:nvPr/>
        </p:nvGrpSpPr>
        <p:grpSpPr>
          <a:xfrm>
            <a:off x="0" y="0"/>
            <a:ext cx="9144000" cy="703800"/>
            <a:chOff x="0" y="0"/>
            <a:chExt cx="9144000" cy="703800"/>
          </a:xfrm>
        </p:grpSpPr>
        <p:sp>
          <p:nvSpPr>
            <p:cNvPr id="327" name="Text Box 4"/>
            <p:cNvSpPr/>
            <p:nvPr/>
          </p:nvSpPr>
          <p:spPr>
            <a:xfrm>
              <a:off x="0" y="0"/>
              <a:ext cx="914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 определения следует, что </a:t>
              </a:r>
              <a:r>
                <a:rPr b="0" i="1" lang="en-US" sz="2000" spc="-1" strike="noStrike">
                  <a:solidFill>
                    <a:srgbClr val="0066ff"/>
                  </a:solidFill>
                  <a:latin typeface="Times New Roman"/>
                </a:rPr>
                <a:t>cos</a:t>
              </a:r>
              <a:r>
                <a:rPr b="0" lang="en-US" sz="18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66ff"/>
                  </a:solidFill>
                  <a:latin typeface="Times New Roman"/>
                </a:rPr>
                <a:t>arccosy</a:t>
              </a:r>
              <a:r>
                <a:rPr b="0" lang="en-US" sz="1800" spc="-1" strike="noStrike">
                  <a:solidFill>
                    <a:srgbClr val="0066ff"/>
                  </a:solidFill>
                  <a:latin typeface="Arial"/>
                </a:rPr>
                <a:t>)=</a:t>
              </a:r>
              <a:r>
                <a:rPr b="0" i="1" lang="en-US" sz="2000" spc="-1" strike="noStrike">
                  <a:solidFill>
                    <a:srgbClr val="0066ff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en-US" sz="2000" spc="-1" strike="noStrike">
                  <a:solidFill>
                    <a:srgbClr val="0066ff"/>
                  </a:solidFill>
                  <a:latin typeface="Times New Roman"/>
                </a:rPr>
                <a:t>arccos</a:t>
              </a:r>
              <a:r>
                <a:rPr b="0" lang="en-US" sz="18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66ff"/>
                  </a:solidFill>
                  <a:latin typeface="Times New Roman"/>
                </a:rPr>
                <a:t>cosx</a:t>
              </a:r>
              <a:r>
                <a:rPr b="0" lang="en-US" sz="1800" spc="-1" strike="noStrike">
                  <a:solidFill>
                    <a:srgbClr val="0066ff"/>
                  </a:solidFill>
                  <a:latin typeface="Arial"/>
                </a:rPr>
                <a:t>)=</a:t>
              </a:r>
              <a:r>
                <a:rPr b="0" i="1" lang="en-US" sz="2000" spc="-1" strike="noStrike">
                  <a:solidFill>
                    <a:srgbClr val="0066ff"/>
                  </a:solidFill>
                  <a:latin typeface="Times New Roman"/>
                </a:rPr>
                <a:t>x</a:t>
              </a:r>
              <a:r>
                <a:rPr b="0" i="1" lang="ru-RU" sz="2000" spc="-1" strike="noStrike">
                  <a:solidFill>
                    <a:srgbClr val="0066ff"/>
                  </a:solidFill>
                  <a:latin typeface="Times New Roman"/>
                </a:rPr>
                <a:t>,</a:t>
              </a:r>
              <a:r>
                <a:rPr b="0" i="1" lang="en-US" sz="20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и </a:t>
              </a:r>
              <a:r>
                <a:rPr b="0" i="1" lang="en-US" sz="2000" spc="-1" strike="noStrike">
                  <a:solidFill>
                    <a:srgbClr val="0066ff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 Symbol"/>
                  <a:ea typeface="Euclid Symbol"/>
                </a:rPr>
                <a:t>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–1;1]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2000" spc="-1" strike="noStrike">
                  <a:solidFill>
                    <a:srgbClr val="0066ff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 Symbol"/>
                  <a:ea typeface="Euclid Symbol"/>
                </a:rPr>
                <a:t>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. Полезно вывести и запомнить также, что 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Times New Roman"/>
                </a:rPr>
                <a:t>arccos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–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)= </a:t>
              </a:r>
              <a:r>
                <a:rPr b="0" lang="el-GR" sz="2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–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Times New Roman"/>
                </a:rPr>
                <a:t>arccos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8" name="Object 108"/>
            <p:cNvGraphicFramePr/>
            <p:nvPr/>
          </p:nvGraphicFramePr>
          <p:xfrm>
            <a:off x="8334360" y="0"/>
            <a:ext cx="695520" cy="407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9" name="Object 10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334360" y="0"/>
                      <a:ext cx="69552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0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8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71"/>
          <p:cNvGrpSpPr/>
          <p:nvPr/>
        </p:nvGrpSpPr>
        <p:grpSpPr>
          <a:xfrm>
            <a:off x="4281480" y="3409920"/>
            <a:ext cx="3297240" cy="1442880"/>
            <a:chOff x="4281480" y="3409920"/>
            <a:chExt cx="3297240" cy="1442880"/>
          </a:xfrm>
        </p:grpSpPr>
        <p:sp>
          <p:nvSpPr>
            <p:cNvPr id="331" name="Freeform 72"/>
            <p:cNvSpPr/>
            <p:nvPr/>
          </p:nvSpPr>
          <p:spPr>
            <a:xfrm rot="5400000">
              <a:off x="4744800" y="2946240"/>
              <a:ext cx="721440" cy="1648440"/>
            </a:xfrm>
            <a:custGeom>
              <a:avLst/>
              <a:gdLst/>
              <a:ahLst/>
              <a:rect l="l" t="t" r="r" b="b"/>
              <a:pathLst>
                <a:path w="635" h="1769">
                  <a:moveTo>
                    <a:pt x="635" y="0"/>
                  </a:moveTo>
                  <a:cubicBezTo>
                    <a:pt x="499" y="136"/>
                    <a:pt x="363" y="272"/>
                    <a:pt x="272" y="453"/>
                  </a:cubicBezTo>
                  <a:cubicBezTo>
                    <a:pt x="181" y="634"/>
                    <a:pt x="136" y="869"/>
                    <a:pt x="91" y="1088"/>
                  </a:cubicBezTo>
                  <a:cubicBezTo>
                    <a:pt x="46" y="1307"/>
                    <a:pt x="23" y="1538"/>
                    <a:pt x="0" y="1769"/>
                  </a:cubicBez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73"/>
            <p:cNvSpPr/>
            <p:nvPr/>
          </p:nvSpPr>
          <p:spPr>
            <a:xfrm rot="16200000">
              <a:off x="6393600" y="3667680"/>
              <a:ext cx="721440" cy="1648440"/>
            </a:xfrm>
            <a:custGeom>
              <a:avLst/>
              <a:gdLst/>
              <a:ahLst/>
              <a:rect l="l" t="t" r="r" b="b"/>
              <a:pathLst>
                <a:path w="635" h="1769">
                  <a:moveTo>
                    <a:pt x="635" y="0"/>
                  </a:moveTo>
                  <a:cubicBezTo>
                    <a:pt x="499" y="136"/>
                    <a:pt x="363" y="272"/>
                    <a:pt x="272" y="453"/>
                  </a:cubicBezTo>
                  <a:cubicBezTo>
                    <a:pt x="181" y="634"/>
                    <a:pt x="136" y="869"/>
                    <a:pt x="91" y="1088"/>
                  </a:cubicBezTo>
                  <a:cubicBezTo>
                    <a:pt x="46" y="1307"/>
                    <a:pt x="23" y="1538"/>
                    <a:pt x="0" y="1769"/>
                  </a:cubicBez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Freeform 85"/>
          <p:cNvSpPr/>
          <p:nvPr/>
        </p:nvSpPr>
        <p:spPr>
          <a:xfrm rot="5400000">
            <a:off x="959400" y="3280320"/>
            <a:ext cx="1460520" cy="3170160"/>
          </a:xfrm>
          <a:custGeom>
            <a:avLst/>
            <a:gdLst/>
            <a:ahLst/>
            <a:rect l="l" t="t" r="r" b="b"/>
            <a:pathLst>
              <a:path w="1214" h="3540">
                <a:moveTo>
                  <a:pt x="0" y="0"/>
                </a:moveTo>
                <a:cubicBezTo>
                  <a:pt x="6" y="54"/>
                  <a:pt x="25" y="238"/>
                  <a:pt x="36" y="324"/>
                </a:cubicBezTo>
                <a:cubicBezTo>
                  <a:pt x="47" y="410"/>
                  <a:pt x="56" y="455"/>
                  <a:pt x="66" y="519"/>
                </a:cubicBezTo>
                <a:cubicBezTo>
                  <a:pt x="76" y="583"/>
                  <a:pt x="79" y="629"/>
                  <a:pt x="94" y="708"/>
                </a:cubicBezTo>
                <a:cubicBezTo>
                  <a:pt x="109" y="787"/>
                  <a:pt x="131" y="900"/>
                  <a:pt x="156" y="996"/>
                </a:cubicBezTo>
                <a:cubicBezTo>
                  <a:pt x="181" y="1092"/>
                  <a:pt x="217" y="1212"/>
                  <a:pt x="246" y="1284"/>
                </a:cubicBezTo>
                <a:cubicBezTo>
                  <a:pt x="275" y="1356"/>
                  <a:pt x="299" y="1383"/>
                  <a:pt x="330" y="1431"/>
                </a:cubicBezTo>
                <a:cubicBezTo>
                  <a:pt x="361" y="1479"/>
                  <a:pt x="405" y="1535"/>
                  <a:pt x="432" y="1569"/>
                </a:cubicBezTo>
                <a:cubicBezTo>
                  <a:pt x="459" y="1603"/>
                  <a:pt x="465" y="1605"/>
                  <a:pt x="492" y="1635"/>
                </a:cubicBezTo>
                <a:cubicBezTo>
                  <a:pt x="519" y="1665"/>
                  <a:pt x="573" y="1723"/>
                  <a:pt x="597" y="1749"/>
                </a:cubicBezTo>
                <a:cubicBezTo>
                  <a:pt x="621" y="1775"/>
                  <a:pt x="618" y="1773"/>
                  <a:pt x="633" y="1788"/>
                </a:cubicBezTo>
                <a:cubicBezTo>
                  <a:pt x="648" y="1803"/>
                  <a:pt x="659" y="1811"/>
                  <a:pt x="687" y="1842"/>
                </a:cubicBezTo>
                <a:cubicBezTo>
                  <a:pt x="715" y="1873"/>
                  <a:pt x="762" y="1925"/>
                  <a:pt x="798" y="1971"/>
                </a:cubicBezTo>
                <a:cubicBezTo>
                  <a:pt x="834" y="2017"/>
                  <a:pt x="867" y="2056"/>
                  <a:pt x="903" y="2121"/>
                </a:cubicBezTo>
                <a:cubicBezTo>
                  <a:pt x="939" y="2186"/>
                  <a:pt x="986" y="2275"/>
                  <a:pt x="1017" y="2364"/>
                </a:cubicBezTo>
                <a:cubicBezTo>
                  <a:pt x="1048" y="2453"/>
                  <a:pt x="1070" y="2555"/>
                  <a:pt x="1092" y="2655"/>
                </a:cubicBezTo>
                <a:cubicBezTo>
                  <a:pt x="1114" y="2755"/>
                  <a:pt x="1136" y="2862"/>
                  <a:pt x="1152" y="2964"/>
                </a:cubicBezTo>
                <a:cubicBezTo>
                  <a:pt x="1168" y="3066"/>
                  <a:pt x="1180" y="3172"/>
                  <a:pt x="1190" y="3268"/>
                </a:cubicBezTo>
                <a:cubicBezTo>
                  <a:pt x="1200" y="3364"/>
                  <a:pt x="1212" y="3478"/>
                  <a:pt x="1214" y="3540"/>
                </a:cubicBezTo>
              </a:path>
            </a:pathLst>
          </a:custGeom>
          <a:noFill/>
          <a:ln w="255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1"/>
          <p:cNvGrpSpPr/>
          <p:nvPr/>
        </p:nvGrpSpPr>
        <p:grpSpPr>
          <a:xfrm>
            <a:off x="0" y="0"/>
            <a:ext cx="9144000" cy="703800"/>
            <a:chOff x="0" y="0"/>
            <a:chExt cx="9144000" cy="703800"/>
          </a:xfrm>
        </p:grpSpPr>
        <p:sp>
          <p:nvSpPr>
            <p:cNvPr id="335" name="Text Box 3"/>
            <p:cNvSpPr/>
            <p:nvPr/>
          </p:nvSpPr>
          <p:spPr>
            <a:xfrm>
              <a:off x="0" y="0"/>
              <a:ext cx="9144000" cy="703800"/>
            </a:xfrm>
            <a:prstGeom prst="rect">
              <a:avLst/>
            </a:prstGeom>
            <a:solidFill>
              <a:srgbClr val="00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9999"/>
                  </a:solidFill>
                  <a:latin typeface="Arial"/>
                </a:rPr>
                <a:t>Определение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1" lang="ru-RU" sz="1800" spc="-1" strike="noStrike">
                  <a:solidFill>
                    <a:srgbClr val="ff3300"/>
                  </a:solidFill>
                  <a:latin typeface="Arial"/>
                </a:rPr>
                <a:t>Арктангенсом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числа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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зывается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число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еличина угла в радианной мере), тангенс которого равен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т.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36" name="Object 4"/>
            <p:cNvGraphicFramePr/>
            <p:nvPr/>
          </p:nvGraphicFramePr>
          <p:xfrm>
            <a:off x="7020000" y="0"/>
            <a:ext cx="698400" cy="48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7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020000" y="0"/>
                      <a:ext cx="698400" cy="4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38" name="Object 5"/>
          <p:cNvGraphicFramePr/>
          <p:nvPr/>
        </p:nvGraphicFramePr>
        <p:xfrm>
          <a:off x="2457360" y="704880"/>
          <a:ext cx="2879640" cy="37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Object 5" descr=""/>
                  <p:cNvPicPr/>
                  <p:nvPr/>
                </p:nvPicPr>
                <p:blipFill>
                  <a:blip r:embed="rId4">
                    <a:alphaModFix amt="65000"/>
                  </a:blip>
                  <a:stretch/>
                </p:blipFill>
                <p:spPr>
                  <a:xfrm>
                    <a:off x="2457360" y="704880"/>
                    <a:ext cx="28796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Group 10"/>
          <p:cNvGrpSpPr/>
          <p:nvPr/>
        </p:nvGrpSpPr>
        <p:grpSpPr>
          <a:xfrm>
            <a:off x="0" y="1195560"/>
            <a:ext cx="9144000" cy="703800"/>
            <a:chOff x="0" y="1195560"/>
            <a:chExt cx="9144000" cy="703800"/>
          </a:xfrm>
        </p:grpSpPr>
        <p:sp>
          <p:nvSpPr>
            <p:cNvPr id="341" name="Text Box 7"/>
            <p:cNvSpPr/>
            <p:nvPr/>
          </p:nvSpPr>
          <p:spPr>
            <a:xfrm>
              <a:off x="0" y="1195560"/>
              <a:ext cx="9144000" cy="703800"/>
            </a:xfrm>
            <a:prstGeom prst="rect">
              <a:avLst/>
            </a:prstGeom>
            <a:solidFill>
              <a:srgbClr val="00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9999"/>
                  </a:solidFill>
                  <a:latin typeface="Arial"/>
                </a:rPr>
                <a:t>Определение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1" lang="ru-RU" sz="1800" spc="-1" strike="noStrike">
                  <a:solidFill>
                    <a:srgbClr val="ff3300"/>
                  </a:solidFill>
                  <a:latin typeface="Arial"/>
                </a:rPr>
                <a:t>Арккотангенсом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числа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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зывается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число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еличина угла в радианной мере), котангенс которого равен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т.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42" name="Object 8"/>
            <p:cNvGraphicFramePr/>
            <p:nvPr/>
          </p:nvGraphicFramePr>
          <p:xfrm>
            <a:off x="7164360" y="1197000"/>
            <a:ext cx="596880" cy="353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3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164360" y="1197000"/>
                      <a:ext cx="59688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44" name="Object 9"/>
          <p:cNvGraphicFramePr/>
          <p:nvPr/>
        </p:nvGraphicFramePr>
        <p:xfrm>
          <a:off x="2340000" y="1916280"/>
          <a:ext cx="3176640" cy="37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5" name="Object 9" descr=""/>
                  <p:cNvPicPr/>
                  <p:nvPr/>
                </p:nvPicPr>
                <p:blipFill>
                  <a:blip r:embed="rId8">
                    <a:alphaModFix amt="65000"/>
                  </a:blip>
                  <a:stretch/>
                </p:blipFill>
                <p:spPr>
                  <a:xfrm>
                    <a:off x="2340000" y="1916280"/>
                    <a:ext cx="31766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6" name="Group 15"/>
          <p:cNvGrpSpPr/>
          <p:nvPr/>
        </p:nvGrpSpPr>
        <p:grpSpPr>
          <a:xfrm>
            <a:off x="0" y="2408400"/>
            <a:ext cx="9144000" cy="815760"/>
            <a:chOff x="0" y="2408400"/>
            <a:chExt cx="9144000" cy="815760"/>
          </a:xfrm>
        </p:grpSpPr>
        <p:sp>
          <p:nvSpPr>
            <p:cNvPr id="347" name="Text Box 12"/>
            <p:cNvSpPr/>
            <p:nvPr/>
          </p:nvSpPr>
          <p:spPr>
            <a:xfrm>
              <a:off x="0" y="2492280"/>
              <a:ext cx="914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бязательно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разберитесь, почему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rct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=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rcct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=</a:t>
              </a:r>
              <a:r>
                <a:rPr b="0" lang="en-US" sz="18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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rct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=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rcct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=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48" name="Object 13"/>
            <p:cNvGraphicFramePr/>
            <p:nvPr/>
          </p:nvGraphicFramePr>
          <p:xfrm>
            <a:off x="7740720" y="2408400"/>
            <a:ext cx="893520" cy="569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9" name="Object 1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740720" y="2408400"/>
                      <a:ext cx="893520" cy="5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0" name="Object 14"/>
            <p:cNvGraphicFramePr/>
            <p:nvPr/>
          </p:nvGraphicFramePr>
          <p:xfrm>
            <a:off x="1187280" y="2781360"/>
            <a:ext cx="811440" cy="442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51" name="Object 1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187280" y="2781360"/>
                      <a:ext cx="81144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2" name="Line 16"/>
          <p:cNvSpPr/>
          <p:nvPr/>
        </p:nvSpPr>
        <p:spPr>
          <a:xfrm>
            <a:off x="250920" y="4869000"/>
            <a:ext cx="35290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7"/>
          <p:cNvSpPr/>
          <p:nvPr/>
        </p:nvSpPr>
        <p:spPr>
          <a:xfrm>
            <a:off x="4356000" y="5170320"/>
            <a:ext cx="403236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8"/>
          <p:cNvSpPr/>
          <p:nvPr/>
        </p:nvSpPr>
        <p:spPr>
          <a:xfrm flipV="1">
            <a:off x="1692360" y="3284640"/>
            <a:ext cx="0" cy="32400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9"/>
          <p:cNvSpPr/>
          <p:nvPr/>
        </p:nvSpPr>
        <p:spPr>
          <a:xfrm flipV="1">
            <a:off x="5938920" y="2924280"/>
            <a:ext cx="0" cy="3830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0"/>
          <p:cNvSpPr/>
          <p:nvPr/>
        </p:nvSpPr>
        <p:spPr>
          <a:xfrm>
            <a:off x="3780000" y="4797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1"/>
          <p:cNvSpPr/>
          <p:nvPr/>
        </p:nvSpPr>
        <p:spPr>
          <a:xfrm>
            <a:off x="8386920" y="50990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2"/>
          <p:cNvSpPr/>
          <p:nvPr/>
        </p:nvSpPr>
        <p:spPr>
          <a:xfrm>
            <a:off x="1763640" y="31417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3"/>
          <p:cNvSpPr/>
          <p:nvPr/>
        </p:nvSpPr>
        <p:spPr>
          <a:xfrm>
            <a:off x="5931000" y="27892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4"/>
          <p:cNvSpPr/>
          <p:nvPr/>
        </p:nvSpPr>
        <p:spPr>
          <a:xfrm>
            <a:off x="2771640" y="328464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5"/>
          <p:cNvSpPr/>
          <p:nvPr/>
        </p:nvSpPr>
        <p:spPr>
          <a:xfrm>
            <a:off x="611280" y="335772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6"/>
          <p:cNvSpPr/>
          <p:nvPr/>
        </p:nvSpPr>
        <p:spPr>
          <a:xfrm>
            <a:off x="8083440" y="347184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30"/>
          <p:cNvGraphicFramePr/>
          <p:nvPr/>
        </p:nvGraphicFramePr>
        <p:xfrm>
          <a:off x="324000" y="4869000"/>
          <a:ext cx="279360" cy="39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4" name="Object 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4000" y="4869000"/>
                    <a:ext cx="2793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31"/>
          <p:cNvGraphicFramePr/>
          <p:nvPr/>
        </p:nvGraphicFramePr>
        <p:xfrm>
          <a:off x="2843280" y="4869000"/>
          <a:ext cx="164880" cy="393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6" name="Object 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43280" y="4869000"/>
                    <a:ext cx="1648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32"/>
          <p:cNvSpPr/>
          <p:nvPr/>
        </p:nvSpPr>
        <p:spPr>
          <a:xfrm>
            <a:off x="1647720" y="48182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3"/>
          <p:cNvSpPr/>
          <p:nvPr/>
        </p:nvSpPr>
        <p:spPr>
          <a:xfrm>
            <a:off x="5881680" y="51134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V="1">
            <a:off x="2225520" y="482616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5"/>
          <p:cNvSpPr/>
          <p:nvPr/>
        </p:nvSpPr>
        <p:spPr>
          <a:xfrm flipV="1">
            <a:off x="2224080" y="4149360"/>
            <a:ext cx="0" cy="671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36"/>
          <p:cNvGraphicFramePr/>
          <p:nvPr/>
        </p:nvGraphicFramePr>
        <p:xfrm>
          <a:off x="2124000" y="4869000"/>
          <a:ext cx="165240" cy="393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72" name="Object 3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24000" y="4869000"/>
                    <a:ext cx="1652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Line 37"/>
          <p:cNvSpPr/>
          <p:nvPr/>
        </p:nvSpPr>
        <p:spPr>
          <a:xfrm flipH="1">
            <a:off x="1692000" y="4149720"/>
            <a:ext cx="517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8"/>
          <p:cNvSpPr/>
          <p:nvPr/>
        </p:nvSpPr>
        <p:spPr>
          <a:xfrm>
            <a:off x="1438200" y="38084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9"/>
          <p:cNvSpPr/>
          <p:nvPr/>
        </p:nvSpPr>
        <p:spPr>
          <a:xfrm flipV="1">
            <a:off x="1143000" y="4835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0"/>
          <p:cNvSpPr/>
          <p:nvPr/>
        </p:nvSpPr>
        <p:spPr>
          <a:xfrm flipV="1">
            <a:off x="1146240" y="4916160"/>
            <a:ext cx="0" cy="671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Object 41"/>
          <p:cNvGraphicFramePr/>
          <p:nvPr/>
        </p:nvGraphicFramePr>
        <p:xfrm>
          <a:off x="996840" y="4446720"/>
          <a:ext cx="279360" cy="393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78" name="Object 4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96840" y="4446720"/>
                    <a:ext cx="2793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Line 42"/>
          <p:cNvSpPr/>
          <p:nvPr/>
        </p:nvSpPr>
        <p:spPr>
          <a:xfrm flipH="1">
            <a:off x="1187280" y="5589720"/>
            <a:ext cx="517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3"/>
          <p:cNvSpPr/>
          <p:nvPr/>
        </p:nvSpPr>
        <p:spPr>
          <a:xfrm>
            <a:off x="1763640" y="537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6"/>
          <p:cNvGrpSpPr/>
          <p:nvPr/>
        </p:nvGrpSpPr>
        <p:grpSpPr>
          <a:xfrm>
            <a:off x="966960" y="3225600"/>
            <a:ext cx="1442880" cy="3297240"/>
            <a:chOff x="966960" y="3225600"/>
            <a:chExt cx="1442880" cy="3297240"/>
          </a:xfrm>
        </p:grpSpPr>
        <p:sp>
          <p:nvSpPr>
            <p:cNvPr id="382" name="Freeform 47"/>
            <p:cNvSpPr/>
            <p:nvPr/>
          </p:nvSpPr>
          <p:spPr>
            <a:xfrm>
              <a:off x="966960" y="4874400"/>
              <a:ext cx="721440" cy="1648440"/>
            </a:xfrm>
            <a:custGeom>
              <a:avLst/>
              <a:gdLst/>
              <a:ahLst/>
              <a:rect l="l" t="t" r="r" b="b"/>
              <a:pathLst>
                <a:path w="635" h="1769">
                  <a:moveTo>
                    <a:pt x="635" y="0"/>
                  </a:moveTo>
                  <a:cubicBezTo>
                    <a:pt x="499" y="136"/>
                    <a:pt x="363" y="272"/>
                    <a:pt x="272" y="453"/>
                  </a:cubicBezTo>
                  <a:cubicBezTo>
                    <a:pt x="181" y="634"/>
                    <a:pt x="136" y="869"/>
                    <a:pt x="91" y="1088"/>
                  </a:cubicBezTo>
                  <a:cubicBezTo>
                    <a:pt x="46" y="1307"/>
                    <a:pt x="23" y="1538"/>
                    <a:pt x="0" y="176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48"/>
            <p:cNvSpPr/>
            <p:nvPr/>
          </p:nvSpPr>
          <p:spPr>
            <a:xfrm rot="10800000">
              <a:off x="1688400" y="3225600"/>
              <a:ext cx="721440" cy="1648440"/>
            </a:xfrm>
            <a:custGeom>
              <a:avLst/>
              <a:gdLst/>
              <a:ahLst/>
              <a:rect l="l" t="t" r="r" b="b"/>
              <a:pathLst>
                <a:path w="635" h="1769">
                  <a:moveTo>
                    <a:pt x="635" y="0"/>
                  </a:moveTo>
                  <a:cubicBezTo>
                    <a:pt x="499" y="136"/>
                    <a:pt x="363" y="272"/>
                    <a:pt x="272" y="453"/>
                  </a:cubicBezTo>
                  <a:cubicBezTo>
                    <a:pt x="181" y="634"/>
                    <a:pt x="136" y="869"/>
                    <a:pt x="91" y="1088"/>
                  </a:cubicBezTo>
                  <a:cubicBezTo>
                    <a:pt x="46" y="1307"/>
                    <a:pt x="23" y="1538"/>
                    <a:pt x="0" y="176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52" descr=""/>
          <p:cNvPicPr/>
          <p:nvPr/>
        </p:nvPicPr>
        <p:blipFill>
          <a:blip r:embed="rId21"/>
          <a:stretch/>
        </p:blipFill>
        <p:spPr>
          <a:xfrm>
            <a:off x="6227640" y="3514680"/>
            <a:ext cx="1511280" cy="3343320"/>
          </a:xfrm>
          <a:prstGeom prst="rect">
            <a:avLst/>
          </a:prstGeom>
          <a:ln w="0">
            <a:noFill/>
          </a:ln>
        </p:spPr>
      </p:pic>
      <p:sp>
        <p:nvSpPr>
          <p:cNvPr id="385" name="Line 53"/>
          <p:cNvSpPr/>
          <p:nvPr/>
        </p:nvSpPr>
        <p:spPr>
          <a:xfrm flipV="1">
            <a:off x="250920" y="3428640"/>
            <a:ext cx="2881080" cy="287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54"/>
          <p:cNvSpPr/>
          <p:nvPr/>
        </p:nvSpPr>
        <p:spPr>
          <a:xfrm flipV="1">
            <a:off x="4532400" y="3698640"/>
            <a:ext cx="2881080" cy="287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Object 55"/>
          <p:cNvGraphicFramePr/>
          <p:nvPr/>
        </p:nvGraphicFramePr>
        <p:xfrm>
          <a:off x="6946920" y="5243400"/>
          <a:ext cx="165240" cy="3938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88" name="Object 55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946920" y="5243400"/>
                    <a:ext cx="1652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56"/>
          <p:cNvGraphicFramePr/>
          <p:nvPr/>
        </p:nvGraphicFramePr>
        <p:xfrm>
          <a:off x="6357960" y="5189400"/>
          <a:ext cx="165240" cy="3938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90" name="Object 5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357960" y="5189400"/>
                    <a:ext cx="1652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Line 57"/>
          <p:cNvSpPr/>
          <p:nvPr/>
        </p:nvSpPr>
        <p:spPr>
          <a:xfrm flipV="1">
            <a:off x="6408720" y="4463640"/>
            <a:ext cx="0" cy="671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58"/>
          <p:cNvSpPr/>
          <p:nvPr/>
        </p:nvSpPr>
        <p:spPr>
          <a:xfrm flipH="1">
            <a:off x="5905440" y="4441680"/>
            <a:ext cx="517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9"/>
          <p:cNvSpPr/>
          <p:nvPr/>
        </p:nvSpPr>
        <p:spPr>
          <a:xfrm>
            <a:off x="5651640" y="42148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Object 60"/>
          <p:cNvGraphicFramePr/>
          <p:nvPr/>
        </p:nvGraphicFramePr>
        <p:xfrm>
          <a:off x="7566120" y="5170320"/>
          <a:ext cx="241200" cy="3938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95" name="Object 60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566120" y="5170320"/>
                    <a:ext cx="2412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Line 61"/>
          <p:cNvSpPr/>
          <p:nvPr/>
        </p:nvSpPr>
        <p:spPr>
          <a:xfrm flipV="1">
            <a:off x="7554960" y="5197320"/>
            <a:ext cx="0" cy="67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62"/>
          <p:cNvSpPr/>
          <p:nvPr/>
        </p:nvSpPr>
        <p:spPr>
          <a:xfrm flipH="1">
            <a:off x="5938560" y="58910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3"/>
          <p:cNvSpPr/>
          <p:nvPr/>
        </p:nvSpPr>
        <p:spPr>
          <a:xfrm>
            <a:off x="5435640" y="56754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64"/>
          <p:cNvSpPr/>
          <p:nvPr/>
        </p:nvSpPr>
        <p:spPr>
          <a:xfrm flipV="1">
            <a:off x="6411960" y="51350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65"/>
          <p:cNvSpPr/>
          <p:nvPr/>
        </p:nvSpPr>
        <p:spPr>
          <a:xfrm flipV="1">
            <a:off x="7551720" y="513252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66"/>
          <p:cNvSpPr/>
          <p:nvPr/>
        </p:nvSpPr>
        <p:spPr>
          <a:xfrm>
            <a:off x="108000" y="378936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67"/>
          <p:cNvSpPr/>
          <p:nvPr/>
        </p:nvSpPr>
        <p:spPr>
          <a:xfrm>
            <a:off x="66600" y="593892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68"/>
          <p:cNvGraphicFramePr/>
          <p:nvPr/>
        </p:nvGraphicFramePr>
        <p:xfrm>
          <a:off x="1476360" y="3357720"/>
          <a:ext cx="165240" cy="39348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404" name="Object 68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1476360" y="3357720"/>
                    <a:ext cx="1652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69"/>
          <p:cNvGraphicFramePr/>
          <p:nvPr/>
        </p:nvGraphicFramePr>
        <p:xfrm>
          <a:off x="1692360" y="5950080"/>
          <a:ext cx="279360" cy="39348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406" name="Object 69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1692360" y="5950080"/>
                    <a:ext cx="2793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Line 74"/>
          <p:cNvSpPr/>
          <p:nvPr/>
        </p:nvSpPr>
        <p:spPr>
          <a:xfrm>
            <a:off x="4356000" y="315432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Object 75"/>
          <p:cNvGraphicFramePr/>
          <p:nvPr/>
        </p:nvGraphicFramePr>
        <p:xfrm>
          <a:off x="8101080" y="4869000"/>
          <a:ext cx="266760" cy="26640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409" name="Object 75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8101080" y="4869000"/>
                    <a:ext cx="26676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Object 76"/>
          <p:cNvGraphicFramePr/>
          <p:nvPr/>
        </p:nvGraphicFramePr>
        <p:xfrm>
          <a:off x="5651640" y="3141720"/>
          <a:ext cx="266400" cy="2667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411" name="Object 7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5651640" y="3141720"/>
                    <a:ext cx="2664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77"/>
          <p:cNvGraphicFramePr/>
          <p:nvPr/>
        </p:nvGraphicFramePr>
        <p:xfrm>
          <a:off x="5987880" y="3808440"/>
          <a:ext cx="165240" cy="39384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413" name="Object 77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987880" y="3808440"/>
                    <a:ext cx="1652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Text Box 86"/>
          <p:cNvSpPr/>
          <p:nvPr/>
        </p:nvSpPr>
        <p:spPr>
          <a:xfrm rot="18976800">
            <a:off x="6804360" y="34995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=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87"/>
          <p:cNvSpPr/>
          <p:nvPr/>
        </p:nvSpPr>
        <p:spPr>
          <a:xfrm rot="18976800">
            <a:off x="2675520" y="312876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=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8"/>
          <p:cNvSpPr/>
          <p:nvPr/>
        </p:nvSpPr>
        <p:spPr>
          <a:xfrm>
            <a:off x="971640" y="623736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=tg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9"/>
          <p:cNvSpPr/>
          <p:nvPr/>
        </p:nvSpPr>
        <p:spPr>
          <a:xfrm>
            <a:off x="6732720" y="616572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=ctg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0"/>
          <p:cNvSpPr/>
          <p:nvPr/>
        </p:nvSpPr>
        <p:spPr>
          <a:xfrm>
            <a:off x="2987640" y="4076640"/>
            <a:ext cx="12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Times New Roman"/>
              </a:rPr>
              <a:t>y=arctg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1"/>
          <p:cNvSpPr/>
          <p:nvPr/>
        </p:nvSpPr>
        <p:spPr>
          <a:xfrm>
            <a:off x="6877080" y="4365720"/>
            <a:ext cx="12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Times New Roman"/>
              </a:rPr>
              <a:t>y=arcctg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0" y="0"/>
            <a:ext cx="9144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гонометрические функции связаны между собой различными тригонометрическими формулами (например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братные тригонометрические функции также связаны друг с другом. Полезно вывести и помнить следующие тожде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3"/>
          <p:cNvGraphicFramePr/>
          <p:nvPr/>
        </p:nvGraphicFramePr>
        <p:xfrm>
          <a:off x="1116000" y="2708280"/>
          <a:ext cx="6175440" cy="23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708280"/>
                    <a:ext cx="6175440" cy="23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4"/>
          <p:cNvGraphicFramePr/>
          <p:nvPr/>
        </p:nvGraphicFramePr>
        <p:xfrm>
          <a:off x="1692360" y="5130720"/>
          <a:ext cx="5256000" cy="77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5130720"/>
                    <a:ext cx="52560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AutoShape 5"/>
          <p:cNvSpPr/>
          <p:nvPr/>
        </p:nvSpPr>
        <p:spPr>
          <a:xfrm>
            <a:off x="7453440" y="2851200"/>
            <a:ext cx="144360" cy="2089080"/>
          </a:xfrm>
          <a:custGeom>
            <a:avLst/>
            <a:gdLst>
              <a:gd name="textAreaLeft" fmla="*/ 0 w 144360"/>
              <a:gd name="textAreaRight" fmla="*/ 52200 w 14436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7667640" y="37162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0" y="609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ие об обратных тригонометрических функциях позволяет нам решать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тригонометриче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уравнения и неравен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о это уже тема нового уро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Object 8"/>
          <p:cNvGraphicFramePr/>
          <p:nvPr/>
        </p:nvGraphicFramePr>
        <p:xfrm>
          <a:off x="2411280" y="1341360"/>
          <a:ext cx="2808360" cy="46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1341360"/>
                    <a:ext cx="28083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9"/>
          <p:cNvGraphicFramePr/>
          <p:nvPr/>
        </p:nvGraphicFramePr>
        <p:xfrm>
          <a:off x="2193840" y="1989000"/>
          <a:ext cx="3390840" cy="465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3840" y="1989000"/>
                    <a:ext cx="339084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пример какой-либо функции, заданной в явном виде формулой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усть, для определенности, это будет линейная функция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спомним, как выполняется такая задача: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найти значение функции по заданному значению аргумен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спомнили?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: для этого надо данное значение аргумента подставить в формулу и произвести вычисления. Например, п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, значение функции равно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=–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0" y="198900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у же задачу можно выполнить графическим способом. Для этого нуж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построить график данной фун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5740560" y="3795840"/>
            <a:ext cx="283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 flipH="1" flipV="1">
            <a:off x="6372360" y="3080880"/>
            <a:ext cx="2880" cy="344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V="1">
            <a:off x="6253200" y="3141360"/>
            <a:ext cx="1714320" cy="34002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8396280" y="34336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6372360" y="29368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6087960" y="3240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087960" y="3743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586560" y="34304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6332400" y="3432240"/>
            <a:ext cx="7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 flipV="1">
            <a:off x="6735600" y="375732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8"/>
          <p:cNvSpPr/>
          <p:nvPr/>
        </p:nvSpPr>
        <p:spPr>
          <a:xfrm>
            <a:off x="6324480" y="6305400"/>
            <a:ext cx="907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644364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 flipV="1">
            <a:off x="7639200" y="3735360"/>
            <a:ext cx="0" cy="1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7524720" y="378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0" y="285264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тить на оси абсцисс значение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 flipV="1">
            <a:off x="7097760" y="375732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>
            <a:off x="7093080" y="383544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6"/>
          <p:cNvSpPr/>
          <p:nvPr/>
        </p:nvSpPr>
        <p:spPr>
          <a:xfrm>
            <a:off x="6397560" y="48718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5"/>
          <p:cNvSpPr/>
          <p:nvPr/>
        </p:nvSpPr>
        <p:spPr>
          <a:xfrm>
            <a:off x="7056360" y="4829040"/>
            <a:ext cx="730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7"/>
          <p:cNvSpPr/>
          <p:nvPr/>
        </p:nvSpPr>
        <p:spPr>
          <a:xfrm>
            <a:off x="6332400" y="4870440"/>
            <a:ext cx="7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5796000" y="4653000"/>
            <a:ext cx="504720" cy="3682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6948360" y="3357720"/>
            <a:ext cx="287640" cy="3682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0" y="328464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ть на графике точку с отмеченной абсциссой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0" y="393372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ординату полученной в п.3 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2"/>
          <p:cNvSpPr/>
          <p:nvPr/>
        </p:nvSpPr>
        <p:spPr>
          <a:xfrm>
            <a:off x="179280" y="5373720"/>
            <a:ext cx="5435640" cy="9169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любой другой функции задача нахождения значения функции по заданному значению аргумента решается аналоги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0" y="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еперь вспомним, как решаетс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обрат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дача по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нахождению значения аргумента при заданном значении функ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нашем примере с линейной функцией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 происходит по следующему алгоритму: в формулу, задающую данную функцию подставляют заданное значение функции и решают полученное уравнение с переменной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пример, пр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0" y="162864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у же задачу можно выполнить графическим способом. Для этого нуж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построить график данной фун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0" y="249228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тить на оси ординат знач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0" y="292428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ть на графике точку с отмеченной ординат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0" y="357336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абсциссу полученной в п.3 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5740560" y="3795840"/>
            <a:ext cx="283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 flipH="1" flipV="1">
            <a:off x="6372360" y="3080880"/>
            <a:ext cx="2880" cy="344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 flipV="1">
            <a:off x="6253200" y="3141360"/>
            <a:ext cx="1714320" cy="34002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8396280" y="34336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6087960" y="3240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6087960" y="3743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6586560" y="3430440"/>
            <a:ext cx="287280" cy="3682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6332400" y="3432240"/>
            <a:ext cx="7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 flipV="1">
            <a:off x="6735600" y="375732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6324480" y="6305400"/>
            <a:ext cx="907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644364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0"/>
          <p:cNvSpPr/>
          <p:nvPr/>
        </p:nvSpPr>
        <p:spPr>
          <a:xfrm flipV="1">
            <a:off x="7639200" y="3735360"/>
            <a:ext cx="0" cy="1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7524720" y="378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3"/>
          <p:cNvSpPr/>
          <p:nvPr/>
        </p:nvSpPr>
        <p:spPr>
          <a:xfrm>
            <a:off x="6732720" y="386064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4"/>
          <p:cNvSpPr/>
          <p:nvPr/>
        </p:nvSpPr>
        <p:spPr>
          <a:xfrm flipV="1">
            <a:off x="6372360" y="5589720"/>
            <a:ext cx="334800" cy="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5"/>
          <p:cNvSpPr/>
          <p:nvPr/>
        </p:nvSpPr>
        <p:spPr>
          <a:xfrm>
            <a:off x="6694560" y="5559480"/>
            <a:ext cx="730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>
            <a:off x="6332400" y="5589720"/>
            <a:ext cx="7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7"/>
          <p:cNvSpPr/>
          <p:nvPr/>
        </p:nvSpPr>
        <p:spPr>
          <a:xfrm>
            <a:off x="5796000" y="5373720"/>
            <a:ext cx="504720" cy="3682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179280" y="5373720"/>
            <a:ext cx="5435640" cy="9169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любой другой функции задача нахождения значения аргумента по заданному значению функции решается аналоги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6372360" y="29368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6588000" y="3429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ко, при решении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обрат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дачи можно поступить по-другому. Для этого составляют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обратную зависим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читая заданное значение данной функции аргументом этой зависимости. Сделать это можно двумя способ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79280" y="1052640"/>
            <a:ext cx="896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зить из формулы данной функци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рез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нашем случа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7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0,5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3,5. А теперь записать эту зависимость, как новую функцию, в привычном для нас виде: </a:t>
            </a:r>
            <a:r>
              <a:rPr b="0" i="1" lang="ru-RU" sz="1800" spc="-1" strike="noStrike">
                <a:solidFill>
                  <a:srgbClr val="009999"/>
                </a:solidFill>
                <a:latin typeface="Times New Roman"/>
              </a:rPr>
              <a:t>у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=0,5</a:t>
            </a:r>
            <a:r>
              <a:rPr b="0" i="1" lang="ru-RU" sz="1800" spc="-1" strike="noStrike">
                <a:solidFill>
                  <a:srgbClr val="009999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+3,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79280" y="2205000"/>
            <a:ext cx="896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нять в формуле данной функци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нашем случа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А теперь записать эту зависимость, как новую функцию, в привычном для нас виде, выразив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рез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 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7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9999"/>
                </a:solidFill>
                <a:latin typeface="Times New Roman"/>
              </a:rPr>
              <a:t>у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=0,5</a:t>
            </a:r>
            <a:r>
              <a:rPr b="0" i="1" lang="ru-RU" sz="1800" spc="-1" strike="noStrike">
                <a:solidFill>
                  <a:srgbClr val="009999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+3,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7"/>
          <p:cNvGrpSpPr/>
          <p:nvPr/>
        </p:nvGrpSpPr>
        <p:grpSpPr>
          <a:xfrm>
            <a:off x="1117440" y="3645000"/>
            <a:ext cx="1873440" cy="2232000"/>
            <a:chOff x="1117440" y="3645000"/>
            <a:chExt cx="1873440" cy="2232000"/>
          </a:xfrm>
        </p:grpSpPr>
        <p:sp>
          <p:nvSpPr>
            <p:cNvPr id="102" name="Freeform 8"/>
            <p:cNvSpPr/>
            <p:nvPr/>
          </p:nvSpPr>
          <p:spPr>
            <a:xfrm>
              <a:off x="1117440" y="3645000"/>
              <a:ext cx="1873440" cy="2232000"/>
            </a:xfrm>
            <a:custGeom>
              <a:avLst/>
              <a:gdLst/>
              <a:ahLst/>
              <a:rect l="l" t="t" r="r" b="b"/>
              <a:pathLst>
                <a:path w="1180" h="1406">
                  <a:moveTo>
                    <a:pt x="68" y="371"/>
                  </a:moveTo>
                  <a:cubicBezTo>
                    <a:pt x="128" y="235"/>
                    <a:pt x="264" y="106"/>
                    <a:pt x="385" y="53"/>
                  </a:cubicBezTo>
                  <a:cubicBezTo>
                    <a:pt x="506" y="0"/>
                    <a:pt x="688" y="23"/>
                    <a:pt x="794" y="53"/>
                  </a:cubicBezTo>
                  <a:cubicBezTo>
                    <a:pt x="900" y="83"/>
                    <a:pt x="972" y="156"/>
                    <a:pt x="1021" y="234"/>
                  </a:cubicBezTo>
                  <a:cubicBezTo>
                    <a:pt x="1070" y="312"/>
                    <a:pt x="1073" y="455"/>
                    <a:pt x="1088" y="520"/>
                  </a:cubicBezTo>
                  <a:cubicBezTo>
                    <a:pt x="1103" y="585"/>
                    <a:pt x="1101" y="558"/>
                    <a:pt x="1112" y="624"/>
                  </a:cubicBezTo>
                  <a:cubicBezTo>
                    <a:pt x="1123" y="690"/>
                    <a:pt x="1180" y="836"/>
                    <a:pt x="1157" y="915"/>
                  </a:cubicBezTo>
                  <a:cubicBezTo>
                    <a:pt x="1134" y="994"/>
                    <a:pt x="1073" y="1020"/>
                    <a:pt x="975" y="1096"/>
                  </a:cubicBezTo>
                  <a:cubicBezTo>
                    <a:pt x="877" y="1172"/>
                    <a:pt x="695" y="1330"/>
                    <a:pt x="567" y="1368"/>
                  </a:cubicBezTo>
                  <a:cubicBezTo>
                    <a:pt x="439" y="1406"/>
                    <a:pt x="295" y="1406"/>
                    <a:pt x="204" y="1323"/>
                  </a:cubicBezTo>
                  <a:cubicBezTo>
                    <a:pt x="113" y="1240"/>
                    <a:pt x="46" y="1021"/>
                    <a:pt x="23" y="870"/>
                  </a:cubicBezTo>
                  <a:cubicBezTo>
                    <a:pt x="0" y="719"/>
                    <a:pt x="8" y="507"/>
                    <a:pt x="68" y="371"/>
                  </a:cubicBezTo>
                  <a:close/>
                </a:path>
              </a:pathLst>
            </a:custGeom>
            <a:solidFill>
              <a:srgbClr val="ff00ff">
                <a:alpha val="4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WordArt 10"/>
            <p:cNvSpPr txBox="1"/>
            <p:nvPr/>
          </p:nvSpPr>
          <p:spPr>
            <a:xfrm>
              <a:off x="1476360" y="3860640"/>
              <a:ext cx="1062000" cy="576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ргументы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4" name="Group 13"/>
          <p:cNvGrpSpPr/>
          <p:nvPr/>
        </p:nvGrpSpPr>
        <p:grpSpPr>
          <a:xfrm>
            <a:off x="2050920" y="4365720"/>
            <a:ext cx="360360" cy="431280"/>
            <a:chOff x="2050920" y="4365720"/>
            <a:chExt cx="360360" cy="431280"/>
          </a:xfrm>
        </p:grpSpPr>
        <p:sp>
          <p:nvSpPr>
            <p:cNvPr id="105" name="Oval 11"/>
            <p:cNvSpPr/>
            <p:nvPr/>
          </p:nvSpPr>
          <p:spPr>
            <a:xfrm>
              <a:off x="2195280" y="4725720"/>
              <a:ext cx="73080" cy="71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2050920" y="4365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8"/>
          <p:cNvGrpSpPr/>
          <p:nvPr/>
        </p:nvGrpSpPr>
        <p:grpSpPr>
          <a:xfrm>
            <a:off x="6443640" y="3645000"/>
            <a:ext cx="2027160" cy="2232000"/>
            <a:chOff x="6443640" y="3645000"/>
            <a:chExt cx="2027160" cy="2232000"/>
          </a:xfrm>
        </p:grpSpPr>
        <p:sp>
          <p:nvSpPr>
            <p:cNvPr id="108" name="Freeform 14"/>
            <p:cNvSpPr/>
            <p:nvPr/>
          </p:nvSpPr>
          <p:spPr>
            <a:xfrm>
              <a:off x="6443640" y="3645000"/>
              <a:ext cx="2027160" cy="2232000"/>
            </a:xfrm>
            <a:custGeom>
              <a:avLst/>
              <a:gdLst/>
              <a:ahLst/>
              <a:rect l="l" t="t" r="r" b="b"/>
              <a:pathLst>
                <a:path w="1277" h="1406">
                  <a:moveTo>
                    <a:pt x="68" y="371"/>
                  </a:moveTo>
                  <a:cubicBezTo>
                    <a:pt x="128" y="235"/>
                    <a:pt x="264" y="106"/>
                    <a:pt x="385" y="53"/>
                  </a:cubicBezTo>
                  <a:cubicBezTo>
                    <a:pt x="506" y="0"/>
                    <a:pt x="680" y="33"/>
                    <a:pt x="794" y="53"/>
                  </a:cubicBezTo>
                  <a:cubicBezTo>
                    <a:pt x="908" y="73"/>
                    <a:pt x="997" y="112"/>
                    <a:pt x="1071" y="176"/>
                  </a:cubicBezTo>
                  <a:cubicBezTo>
                    <a:pt x="1145" y="240"/>
                    <a:pt x="1207" y="361"/>
                    <a:pt x="1239" y="440"/>
                  </a:cubicBezTo>
                  <a:cubicBezTo>
                    <a:pt x="1271" y="519"/>
                    <a:pt x="1277" y="569"/>
                    <a:pt x="1263" y="648"/>
                  </a:cubicBezTo>
                  <a:cubicBezTo>
                    <a:pt x="1249" y="727"/>
                    <a:pt x="1205" y="840"/>
                    <a:pt x="1157" y="915"/>
                  </a:cubicBezTo>
                  <a:cubicBezTo>
                    <a:pt x="1109" y="990"/>
                    <a:pt x="1073" y="1020"/>
                    <a:pt x="975" y="1096"/>
                  </a:cubicBezTo>
                  <a:cubicBezTo>
                    <a:pt x="877" y="1172"/>
                    <a:pt x="695" y="1330"/>
                    <a:pt x="567" y="1368"/>
                  </a:cubicBezTo>
                  <a:cubicBezTo>
                    <a:pt x="439" y="1406"/>
                    <a:pt x="295" y="1406"/>
                    <a:pt x="204" y="1323"/>
                  </a:cubicBezTo>
                  <a:cubicBezTo>
                    <a:pt x="113" y="1240"/>
                    <a:pt x="46" y="1021"/>
                    <a:pt x="23" y="870"/>
                  </a:cubicBezTo>
                  <a:cubicBezTo>
                    <a:pt x="0" y="719"/>
                    <a:pt x="8" y="507"/>
                    <a:pt x="68" y="371"/>
                  </a:cubicBezTo>
                  <a:close/>
                </a:path>
              </a:pathLst>
            </a:custGeom>
            <a:solidFill>
              <a:srgbClr val="ff00ff">
                <a:alpha val="4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WordArt 16"/>
            <p:cNvSpPr txBox="1"/>
            <p:nvPr/>
          </p:nvSpPr>
          <p:spPr>
            <a:xfrm>
              <a:off x="6659640" y="3860640"/>
              <a:ext cx="1584360" cy="865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792897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значения функции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0" name="Group 20"/>
          <p:cNvGrpSpPr/>
          <p:nvPr/>
        </p:nvGrpSpPr>
        <p:grpSpPr>
          <a:xfrm>
            <a:off x="6842160" y="4352760"/>
            <a:ext cx="504720" cy="432000"/>
            <a:chOff x="6842160" y="4352760"/>
            <a:chExt cx="504720" cy="432000"/>
          </a:xfrm>
        </p:grpSpPr>
        <p:sp>
          <p:nvSpPr>
            <p:cNvPr id="111" name="Oval 18"/>
            <p:cNvSpPr/>
            <p:nvPr/>
          </p:nvSpPr>
          <p:spPr>
            <a:xfrm>
              <a:off x="6986520" y="4713120"/>
              <a:ext cx="73080" cy="7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9"/>
            <p:cNvSpPr/>
            <p:nvPr/>
          </p:nvSpPr>
          <p:spPr>
            <a:xfrm>
              <a:off x="6842160" y="43527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Freeform 21"/>
          <p:cNvSpPr/>
          <p:nvPr/>
        </p:nvSpPr>
        <p:spPr>
          <a:xfrm>
            <a:off x="2316240" y="4253040"/>
            <a:ext cx="4647960" cy="495000"/>
          </a:xfrm>
          <a:custGeom>
            <a:avLst/>
            <a:gdLst/>
            <a:ahLst/>
            <a:rect l="l" t="t" r="r" b="b"/>
            <a:pathLst>
              <a:path w="2928" h="312">
                <a:moveTo>
                  <a:pt x="0" y="312"/>
                </a:moveTo>
                <a:lnTo>
                  <a:pt x="760" y="72"/>
                </a:lnTo>
                <a:lnTo>
                  <a:pt x="1168" y="24"/>
                </a:lnTo>
                <a:lnTo>
                  <a:pt x="1440" y="0"/>
                </a:lnTo>
                <a:lnTo>
                  <a:pt x="1672" y="16"/>
                </a:lnTo>
                <a:lnTo>
                  <a:pt x="1896" y="32"/>
                </a:lnTo>
                <a:lnTo>
                  <a:pt x="2216" y="88"/>
                </a:lnTo>
                <a:lnTo>
                  <a:pt x="2448" y="144"/>
                </a:lnTo>
                <a:lnTo>
                  <a:pt x="2664" y="200"/>
                </a:lnTo>
                <a:lnTo>
                  <a:pt x="2928" y="30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22"/>
          <p:cNvSpPr txBox="1"/>
          <p:nvPr/>
        </p:nvSpPr>
        <p:spPr>
          <a:xfrm>
            <a:off x="2916360" y="4076640"/>
            <a:ext cx="3598920" cy="961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7607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множить на 2  и вычесть 7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5" name="WordArt 23"/>
          <p:cNvSpPr txBox="1"/>
          <p:nvPr/>
        </p:nvSpPr>
        <p:spPr>
          <a:xfrm>
            <a:off x="755640" y="3500280"/>
            <a:ext cx="2352600" cy="779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(y) - область определения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6" name="WordArt 24"/>
          <p:cNvSpPr txBox="1"/>
          <p:nvPr/>
        </p:nvSpPr>
        <p:spPr>
          <a:xfrm>
            <a:off x="6372360" y="3500280"/>
            <a:ext cx="2352600" cy="779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12885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(y) - область значений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4211640" y="3429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29"/>
          <p:cNvGrpSpPr/>
          <p:nvPr/>
        </p:nvGrpSpPr>
        <p:grpSpPr>
          <a:xfrm>
            <a:off x="7380360" y="4581360"/>
            <a:ext cx="504720" cy="432000"/>
            <a:chOff x="7380360" y="4581360"/>
            <a:chExt cx="504720" cy="432000"/>
          </a:xfrm>
        </p:grpSpPr>
        <p:sp>
          <p:nvSpPr>
            <p:cNvPr id="119" name="Oval 27"/>
            <p:cNvSpPr/>
            <p:nvPr/>
          </p:nvSpPr>
          <p:spPr>
            <a:xfrm>
              <a:off x="7524720" y="4941720"/>
              <a:ext cx="72720" cy="7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8"/>
            <p:cNvSpPr/>
            <p:nvPr/>
          </p:nvSpPr>
          <p:spPr>
            <a:xfrm>
              <a:off x="7380360" y="4581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3"/>
          <p:cNvGrpSpPr/>
          <p:nvPr/>
        </p:nvGrpSpPr>
        <p:grpSpPr>
          <a:xfrm>
            <a:off x="1476360" y="4724280"/>
            <a:ext cx="360360" cy="432000"/>
            <a:chOff x="1476360" y="4724280"/>
            <a:chExt cx="360360" cy="432000"/>
          </a:xfrm>
        </p:grpSpPr>
        <p:sp>
          <p:nvSpPr>
            <p:cNvPr id="122" name="Oval 31"/>
            <p:cNvSpPr/>
            <p:nvPr/>
          </p:nvSpPr>
          <p:spPr>
            <a:xfrm>
              <a:off x="1620720" y="5084640"/>
              <a:ext cx="73080" cy="7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2"/>
            <p:cNvSpPr/>
            <p:nvPr/>
          </p:nvSpPr>
          <p:spPr>
            <a:xfrm>
              <a:off x="1476360" y="4724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Freeform 34"/>
          <p:cNvSpPr/>
          <p:nvPr/>
        </p:nvSpPr>
        <p:spPr>
          <a:xfrm>
            <a:off x="1692360" y="5029200"/>
            <a:ext cx="5800680" cy="495360"/>
          </a:xfrm>
          <a:custGeom>
            <a:avLst/>
            <a:gdLst/>
            <a:ahLst/>
            <a:rect l="l" t="t" r="r" b="b"/>
            <a:pathLst>
              <a:path w="3628" h="322">
                <a:moveTo>
                  <a:pt x="3628" y="0"/>
                </a:moveTo>
                <a:lnTo>
                  <a:pt x="3438" y="90"/>
                </a:lnTo>
                <a:lnTo>
                  <a:pt x="3134" y="170"/>
                </a:lnTo>
                <a:lnTo>
                  <a:pt x="2734" y="250"/>
                </a:lnTo>
                <a:lnTo>
                  <a:pt x="2230" y="314"/>
                </a:lnTo>
                <a:lnTo>
                  <a:pt x="1710" y="322"/>
                </a:lnTo>
                <a:lnTo>
                  <a:pt x="1134" y="314"/>
                </a:lnTo>
                <a:lnTo>
                  <a:pt x="662" y="266"/>
                </a:lnTo>
                <a:lnTo>
                  <a:pt x="246" y="170"/>
                </a:lnTo>
                <a:lnTo>
                  <a:pt x="0" y="91"/>
                </a:lnTo>
              </a:path>
            </a:pathLst>
          </a:custGeom>
          <a:noFill/>
          <a:ln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35"/>
          <p:cNvSpPr txBox="1"/>
          <p:nvPr/>
        </p:nvSpPr>
        <p:spPr>
          <a:xfrm>
            <a:off x="2967120" y="5452920"/>
            <a:ext cx="3311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прибавить 7 и разделить на 2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</p:txBody>
      </p:sp>
      <p:graphicFrame>
        <p:nvGraphicFramePr>
          <p:cNvPr id="126" name="Object 36"/>
          <p:cNvGraphicFramePr/>
          <p:nvPr/>
        </p:nvGraphicFramePr>
        <p:xfrm>
          <a:off x="3949560" y="5927760"/>
          <a:ext cx="1266840" cy="8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9560" y="5927760"/>
                    <a:ext cx="12668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WordArt 39"/>
          <p:cNvSpPr txBox="1"/>
          <p:nvPr/>
        </p:nvSpPr>
        <p:spPr>
          <a:xfrm>
            <a:off x="6588000" y="5877000"/>
            <a:ext cx="1943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D(y) - область определения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</p:txBody>
      </p:sp>
      <p:sp>
        <p:nvSpPr>
          <p:cNvPr id="129" name="WordArt 40"/>
          <p:cNvSpPr txBox="1"/>
          <p:nvPr/>
        </p:nvSpPr>
        <p:spPr>
          <a:xfrm>
            <a:off x="684360" y="5950080"/>
            <a:ext cx="19429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E(y) - область значений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0" y="0"/>
            <a:ext cx="9144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мы получили обратную для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висимость, которая является в свою очередь также функцией </a:t>
            </a:r>
            <a:r>
              <a:rPr b="0" i="1" lang="ru-RU" sz="1800" spc="-1" strike="noStrike">
                <a:solidFill>
                  <a:srgbClr val="009999"/>
                </a:solidFill>
                <a:latin typeface="Times New Roman"/>
              </a:rPr>
              <a:t>у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=0,5</a:t>
            </a:r>
            <a:r>
              <a:rPr b="0" i="1" lang="ru-RU" sz="1800" spc="-1" strike="noStrike">
                <a:solidFill>
                  <a:srgbClr val="009999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+3,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 помощью обратной функции мы можем решать обратную задачу по нахождению значения аргумента при заданном значении данной функции. Только для обратной функции это заданное значение функции является аргументом! Значит, дл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ru-RU" sz="1800" spc="-1" strike="noStrike">
                <a:solidFill>
                  <a:srgbClr val="009999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5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9999"/>
                </a:solidFill>
                <a:latin typeface="Times New Roman"/>
              </a:rPr>
              <a:t>у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=0,5</a:t>
            </a:r>
            <a:r>
              <a:rPr b="0" lang="ru-RU" sz="18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  <a:ea typeface="Arial"/>
              </a:rPr>
              <a:t>–5)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+3,5=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0" y="2349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римечание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сли для данной функции можно составить обратную зависимость, являющуюся такж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унк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говорят , что данная функция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обрати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обратная зависимость является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обратной функ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364500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римечание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сли функция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обратимой 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обратная для неё функция, 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0" y="530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римечание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Графики данной и обратной для неё функций симметричны относительно прямой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ссмотренном нами случае: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=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5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3,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обратные фун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826920" y="342900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 flipV="1">
            <a:off x="4572000" y="836640"/>
            <a:ext cx="0" cy="54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211640" y="28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572000" y="342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859280" y="306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4529160" y="3068640"/>
            <a:ext cx="7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 flipV="1">
            <a:off x="4937040" y="338580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8244000" y="3068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4211640" y="76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 flipV="1">
            <a:off x="4211640" y="333000"/>
            <a:ext cx="3168720" cy="633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 flipV="1">
            <a:off x="611280" y="549000"/>
            <a:ext cx="7200720" cy="360036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 flipV="1">
            <a:off x="1332000" y="549000"/>
            <a:ext cx="6119640" cy="611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 rot="17784000">
            <a:off x="4504320" y="40014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=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 rot="20005800">
            <a:off x="2622960" y="22381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g(</a:t>
            </a:r>
            <a:r>
              <a:rPr b="0" i="1" lang="en-US" sz="18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)=</a:t>
            </a:r>
            <a:r>
              <a:rPr b="0" lang="ru-RU" sz="1800" spc="-1" strike="noStrike">
                <a:solidFill>
                  <a:srgbClr val="009999"/>
                </a:solidFill>
                <a:latin typeface="Times New Roman"/>
              </a:rPr>
              <a:t>0,5</a:t>
            </a:r>
            <a:r>
              <a:rPr b="0" i="1" lang="en-US" sz="18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9999"/>
                </a:solidFill>
                <a:latin typeface="Times New Roman"/>
              </a:rPr>
              <a:t>+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 rot="18976800">
            <a:off x="2345040" y="47109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=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0" y="0"/>
            <a:ext cx="9144000" cy="1465560"/>
          </a:xfrm>
          <a:prstGeom prst="rect">
            <a:avLst/>
          </a:prstGeom>
          <a:solidFill>
            <a:srgbClr val="00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обратная для данной функции зависимость была также функцией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необходимо и достаточ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чтобы каждое свое значение функция принимала только при одном значении аргумента. Значит, чтобы функция была обратимой, данная функция должна быть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монотонно возрастающ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монотонно убывающ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всей своей области опред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0" y="1557360"/>
            <a:ext cx="9144000" cy="1191240"/>
            <a:chOff x="0" y="1557360"/>
            <a:chExt cx="9144000" cy="1191240"/>
          </a:xfrm>
        </p:grpSpPr>
        <p:sp>
          <p:nvSpPr>
            <p:cNvPr id="152" name="Text Box 5"/>
            <p:cNvSpPr/>
            <p:nvPr/>
          </p:nvSpPr>
          <p:spPr>
            <a:xfrm>
              <a:off x="0" y="155736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9999"/>
                  </a:solidFill>
                  <a:latin typeface="Arial"/>
                </a:rPr>
                <a:t>Пример 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 Функция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не является обратимой на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 Math Two"/>
                  <a:ea typeface="Euclid Math Two"/>
                </a:rPr>
                <a:t>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т.к. при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=3 или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3 функция принимает одно и то же значение 9, а значит, обратная зависимость функцией не является. Однако, на области х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[0; +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 Symbol"/>
                  <a:ea typeface="Euclid Symbol"/>
                </a:rPr>
                <a:t>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данная функция обратима и обратной для неё является знакомая Вам функция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Line 8"/>
          <p:cNvSpPr/>
          <p:nvPr/>
        </p:nvSpPr>
        <p:spPr>
          <a:xfrm flipV="1">
            <a:off x="5292720" y="292392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4427640" y="6308640"/>
            <a:ext cx="45766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4932360" y="58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5241960" y="630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5494320" y="63388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8777160" y="58975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4932360" y="2852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5"/>
          <p:cNvSpPr/>
          <p:nvPr/>
        </p:nvSpPr>
        <p:spPr>
          <a:xfrm>
            <a:off x="5251320" y="5948280"/>
            <a:ext cx="7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6"/>
          <p:cNvSpPr/>
          <p:nvPr/>
        </p:nvSpPr>
        <p:spPr>
          <a:xfrm flipV="1">
            <a:off x="5649840" y="626868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7"/>
          <p:cNvSpPr/>
          <p:nvPr/>
        </p:nvSpPr>
        <p:spPr>
          <a:xfrm>
            <a:off x="5292720" y="3068640"/>
            <a:ext cx="1079640" cy="3240000"/>
          </a:xfrm>
          <a:custGeom>
            <a:avLst/>
            <a:gdLst/>
            <a:ahLst/>
            <a:rect l="l" t="t" r="r" b="b"/>
            <a:pathLst>
              <a:path w="680" h="2041">
                <a:moveTo>
                  <a:pt x="0" y="2041"/>
                </a:moveTo>
                <a:cubicBezTo>
                  <a:pt x="6" y="2040"/>
                  <a:pt x="20" y="2040"/>
                  <a:pt x="35" y="2035"/>
                </a:cubicBezTo>
                <a:cubicBezTo>
                  <a:pt x="50" y="2030"/>
                  <a:pt x="69" y="2025"/>
                  <a:pt x="89" y="2009"/>
                </a:cubicBezTo>
                <a:cubicBezTo>
                  <a:pt x="109" y="1993"/>
                  <a:pt x="135" y="1961"/>
                  <a:pt x="153" y="1939"/>
                </a:cubicBezTo>
                <a:cubicBezTo>
                  <a:pt x="171" y="1917"/>
                  <a:pt x="183" y="1897"/>
                  <a:pt x="195" y="1876"/>
                </a:cubicBezTo>
                <a:lnTo>
                  <a:pt x="227" y="1815"/>
                </a:lnTo>
                <a:cubicBezTo>
                  <a:pt x="246" y="1773"/>
                  <a:pt x="271" y="1735"/>
                  <a:pt x="309" y="1621"/>
                </a:cubicBezTo>
                <a:cubicBezTo>
                  <a:pt x="347" y="1507"/>
                  <a:pt x="392" y="1404"/>
                  <a:pt x="454" y="1134"/>
                </a:cubicBezTo>
                <a:cubicBezTo>
                  <a:pt x="516" y="864"/>
                  <a:pt x="605" y="415"/>
                  <a:pt x="68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28"/>
          <p:cNvSpPr/>
          <p:nvPr/>
        </p:nvSpPr>
        <p:spPr>
          <a:xfrm rot="5400000">
            <a:off x="6373080" y="4149000"/>
            <a:ext cx="1079280" cy="3240000"/>
          </a:xfrm>
          <a:custGeom>
            <a:avLst/>
            <a:gdLst/>
            <a:ahLst/>
            <a:rect l="l" t="t" r="r" b="b"/>
            <a:pathLst>
              <a:path w="680" h="2041">
                <a:moveTo>
                  <a:pt x="680" y="2041"/>
                </a:moveTo>
                <a:cubicBezTo>
                  <a:pt x="671" y="2039"/>
                  <a:pt x="643" y="2036"/>
                  <a:pt x="628" y="2029"/>
                </a:cubicBezTo>
                <a:cubicBezTo>
                  <a:pt x="613" y="2022"/>
                  <a:pt x="608" y="2021"/>
                  <a:pt x="588" y="2001"/>
                </a:cubicBezTo>
                <a:cubicBezTo>
                  <a:pt x="568" y="1981"/>
                  <a:pt x="528" y="1942"/>
                  <a:pt x="506" y="1911"/>
                </a:cubicBezTo>
                <a:lnTo>
                  <a:pt x="453" y="1815"/>
                </a:lnTo>
                <a:cubicBezTo>
                  <a:pt x="427" y="1757"/>
                  <a:pt x="388" y="1677"/>
                  <a:pt x="350" y="1563"/>
                </a:cubicBezTo>
                <a:cubicBezTo>
                  <a:pt x="312" y="1449"/>
                  <a:pt x="284" y="1394"/>
                  <a:pt x="226" y="1134"/>
                </a:cubicBezTo>
                <a:cubicBezTo>
                  <a:pt x="168" y="874"/>
                  <a:pt x="75" y="415"/>
                  <a:pt x="0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9"/>
          <p:cNvSpPr/>
          <p:nvPr/>
        </p:nvSpPr>
        <p:spPr>
          <a:xfrm flipV="1">
            <a:off x="4932360" y="3068280"/>
            <a:ext cx="3600360" cy="360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 rot="18825000">
            <a:off x="6933600" y="37548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40"/>
          <p:cNvSpPr/>
          <p:nvPr/>
        </p:nvSpPr>
        <p:spPr>
          <a:xfrm>
            <a:off x="474840" y="2846520"/>
            <a:ext cx="1379520" cy="1635120"/>
          </a:xfrm>
          <a:custGeom>
            <a:avLst/>
            <a:gdLst/>
            <a:ahLst/>
            <a:rect l="l" t="t" r="r" b="b"/>
            <a:pathLst>
              <a:path w="869" h="1030">
                <a:moveTo>
                  <a:pt x="133" y="823"/>
                </a:moveTo>
                <a:cubicBezTo>
                  <a:pt x="106" y="736"/>
                  <a:pt x="0" y="575"/>
                  <a:pt x="21" y="447"/>
                </a:cubicBezTo>
                <a:cubicBezTo>
                  <a:pt x="42" y="319"/>
                  <a:pt x="150" y="110"/>
                  <a:pt x="261" y="55"/>
                </a:cubicBezTo>
                <a:cubicBezTo>
                  <a:pt x="372" y="0"/>
                  <a:pt x="588" y="14"/>
                  <a:pt x="685" y="119"/>
                </a:cubicBezTo>
                <a:cubicBezTo>
                  <a:pt x="782" y="224"/>
                  <a:pt x="869" y="543"/>
                  <a:pt x="845" y="687"/>
                </a:cubicBezTo>
                <a:cubicBezTo>
                  <a:pt x="821" y="831"/>
                  <a:pt x="652" y="936"/>
                  <a:pt x="541" y="983"/>
                </a:cubicBezTo>
                <a:cubicBezTo>
                  <a:pt x="430" y="1030"/>
                  <a:pt x="249" y="994"/>
                  <a:pt x="181" y="967"/>
                </a:cubicBezTo>
                <a:cubicBezTo>
                  <a:pt x="113" y="940"/>
                  <a:pt x="160" y="910"/>
                  <a:pt x="133" y="823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1"/>
          <p:cNvSpPr/>
          <p:nvPr/>
        </p:nvSpPr>
        <p:spPr>
          <a:xfrm>
            <a:off x="2805120" y="2847960"/>
            <a:ext cx="1427040" cy="1635120"/>
          </a:xfrm>
          <a:custGeom>
            <a:avLst/>
            <a:gdLst/>
            <a:ahLst/>
            <a:rect l="l" t="t" r="r" b="b"/>
            <a:pathLst>
              <a:path w="899" h="1030">
                <a:moveTo>
                  <a:pt x="41" y="816"/>
                </a:moveTo>
                <a:cubicBezTo>
                  <a:pt x="14" y="729"/>
                  <a:pt x="0" y="574"/>
                  <a:pt x="40" y="447"/>
                </a:cubicBezTo>
                <a:cubicBezTo>
                  <a:pt x="80" y="320"/>
                  <a:pt x="169" y="110"/>
                  <a:pt x="280" y="55"/>
                </a:cubicBezTo>
                <a:cubicBezTo>
                  <a:pt x="391" y="0"/>
                  <a:pt x="623" y="55"/>
                  <a:pt x="704" y="119"/>
                </a:cubicBezTo>
                <a:cubicBezTo>
                  <a:pt x="785" y="183"/>
                  <a:pt x="742" y="345"/>
                  <a:pt x="769" y="440"/>
                </a:cubicBezTo>
                <a:cubicBezTo>
                  <a:pt x="796" y="535"/>
                  <a:pt x="899" y="597"/>
                  <a:pt x="864" y="687"/>
                </a:cubicBezTo>
                <a:cubicBezTo>
                  <a:pt x="829" y="777"/>
                  <a:pt x="671" y="936"/>
                  <a:pt x="560" y="983"/>
                </a:cubicBezTo>
                <a:cubicBezTo>
                  <a:pt x="449" y="1030"/>
                  <a:pt x="286" y="995"/>
                  <a:pt x="200" y="967"/>
                </a:cubicBezTo>
                <a:cubicBezTo>
                  <a:pt x="114" y="939"/>
                  <a:pt x="68" y="903"/>
                  <a:pt x="41" y="816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2"/>
          <p:cNvSpPr/>
          <p:nvPr/>
        </p:nvSpPr>
        <p:spPr>
          <a:xfrm>
            <a:off x="1120680" y="326376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3"/>
          <p:cNvSpPr/>
          <p:nvPr/>
        </p:nvSpPr>
        <p:spPr>
          <a:xfrm>
            <a:off x="1197000" y="380988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4"/>
          <p:cNvSpPr/>
          <p:nvPr/>
        </p:nvSpPr>
        <p:spPr>
          <a:xfrm>
            <a:off x="3546360" y="36831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5"/>
          <p:cNvSpPr/>
          <p:nvPr/>
        </p:nvSpPr>
        <p:spPr>
          <a:xfrm>
            <a:off x="857160" y="30114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6"/>
          <p:cNvSpPr/>
          <p:nvPr/>
        </p:nvSpPr>
        <p:spPr>
          <a:xfrm>
            <a:off x="806400" y="3773520"/>
            <a:ext cx="5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7"/>
          <p:cNvSpPr/>
          <p:nvPr/>
        </p:nvSpPr>
        <p:spPr>
          <a:xfrm>
            <a:off x="3562200" y="3544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48"/>
          <p:cNvSpPr/>
          <p:nvPr/>
        </p:nvSpPr>
        <p:spPr>
          <a:xfrm>
            <a:off x="1258920" y="3284640"/>
            <a:ext cx="2233440" cy="411120"/>
          </a:xfrm>
          <a:custGeom>
            <a:avLst/>
            <a:gdLst/>
            <a:ahLst/>
            <a:rect l="l" t="t" r="r" b="b"/>
            <a:pathLst>
              <a:path w="1359" h="235">
                <a:moveTo>
                  <a:pt x="0" y="0"/>
                </a:moveTo>
                <a:cubicBezTo>
                  <a:pt x="197" y="2"/>
                  <a:pt x="394" y="5"/>
                  <a:pt x="575" y="27"/>
                </a:cubicBezTo>
                <a:cubicBezTo>
                  <a:pt x="756" y="49"/>
                  <a:pt x="956" y="96"/>
                  <a:pt x="1087" y="131"/>
                </a:cubicBezTo>
                <a:cubicBezTo>
                  <a:pt x="1218" y="166"/>
                  <a:pt x="1313" y="219"/>
                  <a:pt x="1359" y="235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49"/>
          <p:cNvSpPr/>
          <p:nvPr/>
        </p:nvSpPr>
        <p:spPr>
          <a:xfrm>
            <a:off x="1339920" y="3772080"/>
            <a:ext cx="2165400" cy="118800"/>
          </a:xfrm>
          <a:custGeom>
            <a:avLst/>
            <a:gdLst/>
            <a:ahLst/>
            <a:rect l="l" t="t" r="r" b="b"/>
            <a:pathLst>
              <a:path w="1348" h="67">
                <a:moveTo>
                  <a:pt x="0" y="32"/>
                </a:moveTo>
                <a:cubicBezTo>
                  <a:pt x="73" y="37"/>
                  <a:pt x="269" y="61"/>
                  <a:pt x="436" y="64"/>
                </a:cubicBezTo>
                <a:cubicBezTo>
                  <a:pt x="603" y="67"/>
                  <a:pt x="852" y="59"/>
                  <a:pt x="1004" y="48"/>
                </a:cubicBezTo>
                <a:cubicBezTo>
                  <a:pt x="1156" y="37"/>
                  <a:pt x="1276" y="10"/>
                  <a:pt x="1348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0"/>
          <p:cNvSpPr/>
          <p:nvPr/>
        </p:nvSpPr>
        <p:spPr>
          <a:xfrm>
            <a:off x="-36360" y="38768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3932280" y="3068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2"/>
          <p:cNvSpPr/>
          <p:nvPr/>
        </p:nvSpPr>
        <p:spPr>
          <a:xfrm>
            <a:off x="1251000" y="3301920"/>
            <a:ext cx="2233440" cy="411120"/>
          </a:xfrm>
          <a:custGeom>
            <a:avLst/>
            <a:gdLst/>
            <a:ahLst/>
            <a:rect l="l" t="t" r="r" b="b"/>
            <a:pathLst>
              <a:path w="1359" h="235">
                <a:moveTo>
                  <a:pt x="0" y="0"/>
                </a:moveTo>
                <a:cubicBezTo>
                  <a:pt x="197" y="2"/>
                  <a:pt x="394" y="5"/>
                  <a:pt x="575" y="27"/>
                </a:cubicBezTo>
                <a:cubicBezTo>
                  <a:pt x="756" y="49"/>
                  <a:pt x="956" y="96"/>
                  <a:pt x="1087" y="131"/>
                </a:cubicBezTo>
                <a:cubicBezTo>
                  <a:pt x="1218" y="166"/>
                  <a:pt x="1313" y="219"/>
                  <a:pt x="1359" y="235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53"/>
          <p:cNvSpPr/>
          <p:nvPr/>
        </p:nvSpPr>
        <p:spPr>
          <a:xfrm>
            <a:off x="1332000" y="3789360"/>
            <a:ext cx="2165400" cy="119160"/>
          </a:xfrm>
          <a:custGeom>
            <a:avLst/>
            <a:gdLst/>
            <a:ahLst/>
            <a:rect l="l" t="t" r="r" b="b"/>
            <a:pathLst>
              <a:path w="1348" h="67">
                <a:moveTo>
                  <a:pt x="0" y="32"/>
                </a:moveTo>
                <a:cubicBezTo>
                  <a:pt x="73" y="37"/>
                  <a:pt x="269" y="61"/>
                  <a:pt x="436" y="64"/>
                </a:cubicBezTo>
                <a:cubicBezTo>
                  <a:pt x="603" y="67"/>
                  <a:pt x="852" y="59"/>
                  <a:pt x="1004" y="48"/>
                </a:cubicBezTo>
                <a:cubicBezTo>
                  <a:pt x="1156" y="37"/>
                  <a:pt x="1276" y="10"/>
                  <a:pt x="1348" y="0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6457E-006 L 0.43715 -0.15102 E">
                                      <p:cBhvr>
                                        <p:cTn id="519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22017E-007 L -0.4342 0.14847 E">
                                      <p:cBhvr>
                                        <p:cTn id="521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6"/>
          <p:cNvGrpSpPr/>
          <p:nvPr/>
        </p:nvGrpSpPr>
        <p:grpSpPr>
          <a:xfrm>
            <a:off x="0" y="0"/>
            <a:ext cx="9144000" cy="642600"/>
            <a:chOff x="0" y="0"/>
            <a:chExt cx="9144000" cy="642600"/>
          </a:xfrm>
        </p:grpSpPr>
        <p:sp>
          <p:nvSpPr>
            <p:cNvPr id="181" name="Text Box 4"/>
            <p:cNvSpPr/>
            <p:nvPr/>
          </p:nvSpPr>
          <p:spPr>
            <a:xfrm>
              <a:off x="0" y="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9999"/>
                  </a:solidFill>
                  <a:latin typeface="Arial"/>
                </a:rPr>
                <a:t>Пример </a:t>
              </a:r>
              <a:r>
                <a:rPr b="0" i="1" lang="en-US" sz="1800" spc="-1" strike="noStrike">
                  <a:solidFill>
                    <a:srgbClr val="009999"/>
                  </a:solidFill>
                  <a:latin typeface="Arial"/>
                </a:rPr>
                <a:t>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Любая степенная функция            с нечетным натуральным показателем является обратимой (проверьте самостоятельно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Line 7"/>
          <p:cNvSpPr/>
          <p:nvPr/>
        </p:nvSpPr>
        <p:spPr>
          <a:xfrm>
            <a:off x="324000" y="378936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 flipV="1">
            <a:off x="4572000" y="907920"/>
            <a:ext cx="0" cy="554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4572000" y="378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8459640" y="3860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4211640" y="76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5"/>
          <p:cNvGrpSpPr/>
          <p:nvPr/>
        </p:nvGrpSpPr>
        <p:grpSpPr>
          <a:xfrm>
            <a:off x="3132000" y="1341360"/>
            <a:ext cx="2878200" cy="4898880"/>
            <a:chOff x="3132000" y="1341360"/>
            <a:chExt cx="2878200" cy="4898880"/>
          </a:xfrm>
        </p:grpSpPr>
        <p:sp>
          <p:nvSpPr>
            <p:cNvPr id="188" name="Freeform 16"/>
            <p:cNvSpPr/>
            <p:nvPr/>
          </p:nvSpPr>
          <p:spPr>
            <a:xfrm>
              <a:off x="4572000" y="1341360"/>
              <a:ext cx="1438200" cy="2449440"/>
            </a:xfrm>
            <a:custGeom>
              <a:avLst/>
              <a:gdLst/>
              <a:ahLst/>
              <a:rect l="l" t="t" r="r" b="b"/>
              <a:pathLst>
                <a:path w="906" h="1543">
                  <a:moveTo>
                    <a:pt x="906" y="0"/>
                  </a:moveTo>
                  <a:cubicBezTo>
                    <a:pt x="883" y="151"/>
                    <a:pt x="860" y="302"/>
                    <a:pt x="815" y="453"/>
                  </a:cubicBezTo>
                  <a:cubicBezTo>
                    <a:pt x="771" y="604"/>
                    <a:pt x="711" y="756"/>
                    <a:pt x="635" y="907"/>
                  </a:cubicBezTo>
                  <a:cubicBezTo>
                    <a:pt x="559" y="1058"/>
                    <a:pt x="442" y="1260"/>
                    <a:pt x="362" y="1361"/>
                  </a:cubicBezTo>
                  <a:cubicBezTo>
                    <a:pt x="282" y="1462"/>
                    <a:pt x="200" y="1485"/>
                    <a:pt x="157" y="1514"/>
                  </a:cubicBezTo>
                  <a:lnTo>
                    <a:pt x="103" y="1532"/>
                  </a:lnTo>
                  <a:cubicBezTo>
                    <a:pt x="77" y="1537"/>
                    <a:pt x="21" y="1541"/>
                    <a:pt x="0" y="154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 rot="10800000">
              <a:off x="3132000" y="3790440"/>
              <a:ext cx="1438560" cy="2449800"/>
            </a:xfrm>
            <a:custGeom>
              <a:avLst/>
              <a:gdLst/>
              <a:ahLst/>
              <a:rect l="l" t="t" r="r" b="b"/>
              <a:pathLst>
                <a:path w="906" h="1543">
                  <a:moveTo>
                    <a:pt x="906" y="0"/>
                  </a:moveTo>
                  <a:cubicBezTo>
                    <a:pt x="883" y="151"/>
                    <a:pt x="860" y="302"/>
                    <a:pt x="815" y="453"/>
                  </a:cubicBezTo>
                  <a:cubicBezTo>
                    <a:pt x="771" y="604"/>
                    <a:pt x="711" y="756"/>
                    <a:pt x="635" y="907"/>
                  </a:cubicBezTo>
                  <a:cubicBezTo>
                    <a:pt x="559" y="1058"/>
                    <a:pt x="442" y="1260"/>
                    <a:pt x="362" y="1361"/>
                  </a:cubicBezTo>
                  <a:cubicBezTo>
                    <a:pt x="282" y="1462"/>
                    <a:pt x="200" y="1485"/>
                    <a:pt x="157" y="1514"/>
                  </a:cubicBezTo>
                  <a:lnTo>
                    <a:pt x="103" y="1532"/>
                  </a:lnTo>
                  <a:cubicBezTo>
                    <a:pt x="77" y="1537"/>
                    <a:pt x="21" y="1541"/>
                    <a:pt x="0" y="154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Freeform 21"/>
          <p:cNvSpPr/>
          <p:nvPr/>
        </p:nvSpPr>
        <p:spPr>
          <a:xfrm>
            <a:off x="2124000" y="2349360"/>
            <a:ext cx="4899240" cy="2867040"/>
          </a:xfrm>
          <a:custGeom>
            <a:avLst/>
            <a:gdLst/>
            <a:ahLst/>
            <a:rect l="l" t="t" r="r" b="b"/>
            <a:pathLst>
              <a:path w="3086" h="1806">
                <a:moveTo>
                  <a:pt x="0" y="1806"/>
                </a:moveTo>
                <a:cubicBezTo>
                  <a:pt x="56" y="1805"/>
                  <a:pt x="112" y="1805"/>
                  <a:pt x="190" y="1792"/>
                </a:cubicBezTo>
                <a:cubicBezTo>
                  <a:pt x="268" y="1779"/>
                  <a:pt x="374" y="1757"/>
                  <a:pt x="470" y="1728"/>
                </a:cubicBezTo>
                <a:cubicBezTo>
                  <a:pt x="566" y="1699"/>
                  <a:pt x="665" y="1660"/>
                  <a:pt x="766" y="1616"/>
                </a:cubicBezTo>
                <a:cubicBezTo>
                  <a:pt x="867" y="1572"/>
                  <a:pt x="997" y="1508"/>
                  <a:pt x="1078" y="1464"/>
                </a:cubicBezTo>
                <a:cubicBezTo>
                  <a:pt x="1159" y="1420"/>
                  <a:pt x="1197" y="1391"/>
                  <a:pt x="1254" y="1352"/>
                </a:cubicBezTo>
                <a:cubicBezTo>
                  <a:pt x="1311" y="1313"/>
                  <a:pt x="1381" y="1271"/>
                  <a:pt x="1422" y="1232"/>
                </a:cubicBezTo>
                <a:cubicBezTo>
                  <a:pt x="1463" y="1193"/>
                  <a:pt x="1483" y="1153"/>
                  <a:pt x="1502" y="1120"/>
                </a:cubicBezTo>
                <a:cubicBezTo>
                  <a:pt x="1521" y="1087"/>
                  <a:pt x="1526" y="1057"/>
                  <a:pt x="1534" y="1032"/>
                </a:cubicBezTo>
                <a:cubicBezTo>
                  <a:pt x="1542" y="1007"/>
                  <a:pt x="1547" y="991"/>
                  <a:pt x="1550" y="968"/>
                </a:cubicBezTo>
                <a:cubicBezTo>
                  <a:pt x="1553" y="945"/>
                  <a:pt x="1546" y="929"/>
                  <a:pt x="1550" y="896"/>
                </a:cubicBezTo>
                <a:cubicBezTo>
                  <a:pt x="1554" y="863"/>
                  <a:pt x="1561" y="806"/>
                  <a:pt x="1574" y="768"/>
                </a:cubicBezTo>
                <a:cubicBezTo>
                  <a:pt x="1587" y="730"/>
                  <a:pt x="1603" y="701"/>
                  <a:pt x="1626" y="666"/>
                </a:cubicBezTo>
                <a:cubicBezTo>
                  <a:pt x="1649" y="631"/>
                  <a:pt x="1664" y="602"/>
                  <a:pt x="1714" y="560"/>
                </a:cubicBezTo>
                <a:cubicBezTo>
                  <a:pt x="1764" y="518"/>
                  <a:pt x="1859" y="458"/>
                  <a:pt x="1926" y="416"/>
                </a:cubicBezTo>
                <a:cubicBezTo>
                  <a:pt x="1993" y="374"/>
                  <a:pt x="2038" y="347"/>
                  <a:pt x="2114" y="308"/>
                </a:cubicBezTo>
                <a:cubicBezTo>
                  <a:pt x="2190" y="269"/>
                  <a:pt x="2297" y="219"/>
                  <a:pt x="2382" y="184"/>
                </a:cubicBezTo>
                <a:cubicBezTo>
                  <a:pt x="2467" y="149"/>
                  <a:pt x="2543" y="120"/>
                  <a:pt x="2622" y="96"/>
                </a:cubicBezTo>
                <a:cubicBezTo>
                  <a:pt x="2701" y="72"/>
                  <a:pt x="2777" y="56"/>
                  <a:pt x="2854" y="40"/>
                </a:cubicBezTo>
                <a:cubicBezTo>
                  <a:pt x="2931" y="24"/>
                  <a:pt x="3008" y="12"/>
                  <a:pt x="308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2"/>
          <p:cNvSpPr/>
          <p:nvPr/>
        </p:nvSpPr>
        <p:spPr>
          <a:xfrm flipV="1">
            <a:off x="2003400" y="1323720"/>
            <a:ext cx="5041800" cy="504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5"/>
          <p:cNvSpPr/>
          <p:nvPr/>
        </p:nvSpPr>
        <p:spPr>
          <a:xfrm rot="18825000">
            <a:off x="6390720" y="10339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0" y="0"/>
            <a:ext cx="91440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теперь знакомую Вам тригонометрическую функцию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n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 всей области определ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Euclid Extra"/>
                <a:ea typeface="Euclid Extra"/>
              </a:rPr>
              <a:t>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она обратимой не является (самостоятельно объясните почему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ерем ближайший к началу отсчета промежуток возрастания данной функции – отрезок          . На данном промежутке функция обратима и обратной для неё является функц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7"/>
          <p:cNvGraphicFramePr/>
          <p:nvPr/>
        </p:nvGraphicFramePr>
        <p:xfrm>
          <a:off x="3470400" y="1557360"/>
          <a:ext cx="1050840" cy="33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0400" y="1557360"/>
                    <a:ext cx="105084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Text Box 8"/>
          <p:cNvSpPr/>
          <p:nvPr/>
        </p:nvSpPr>
        <p:spPr>
          <a:xfrm>
            <a:off x="0" y="1989000"/>
            <a:ext cx="9144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ерь перед нами стоит задача выразить эту зависимость в привычном для нас виде, т.е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рез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Это можно сделать с помощью нового для Вас понятия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csin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4788000" y="285264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тают – «арксинус числа икс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7"/>
          <p:cNvGrpSpPr/>
          <p:nvPr/>
        </p:nvGrpSpPr>
        <p:grpSpPr>
          <a:xfrm>
            <a:off x="0" y="3429000"/>
            <a:ext cx="9144000" cy="703800"/>
            <a:chOff x="0" y="3429000"/>
            <a:chExt cx="9144000" cy="703800"/>
          </a:xfrm>
        </p:grpSpPr>
        <p:sp>
          <p:nvSpPr>
            <p:cNvPr id="199" name="Text Box 10"/>
            <p:cNvSpPr/>
            <p:nvPr/>
          </p:nvSpPr>
          <p:spPr>
            <a:xfrm>
              <a:off x="0" y="3429000"/>
              <a:ext cx="9144000" cy="703800"/>
            </a:xfrm>
            <a:prstGeom prst="rect">
              <a:avLst/>
            </a:prstGeom>
            <a:solidFill>
              <a:srgbClr val="00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9999"/>
                  </a:solidFill>
                  <a:latin typeface="Arial"/>
                </a:rPr>
                <a:t>Определение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1" lang="ru-RU" sz="1800" spc="-1" strike="noStrike">
                  <a:solidFill>
                    <a:srgbClr val="ff3300"/>
                  </a:solidFill>
                  <a:latin typeface="Arial"/>
                </a:rPr>
                <a:t>Арксинусом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числа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1;1]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зывается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число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еличина угла в радианной мере), синус которого равен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6"/>
          <p:cNvGrpSpPr/>
          <p:nvPr/>
        </p:nvGrpSpPr>
        <p:grpSpPr>
          <a:xfrm>
            <a:off x="0" y="4149720"/>
            <a:ext cx="4211640" cy="398880"/>
            <a:chOff x="0" y="4149720"/>
            <a:chExt cx="4211640" cy="398880"/>
          </a:xfrm>
        </p:grpSpPr>
        <p:sp>
          <p:nvSpPr>
            <p:cNvPr id="201" name="Text Box 14"/>
            <p:cNvSpPr/>
            <p:nvPr/>
          </p:nvSpPr>
          <p:spPr>
            <a:xfrm>
              <a:off x="0" y="4149720"/>
              <a:ext cx="421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Пример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i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=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 Symbol"/>
                  <a:ea typeface="Euclid Symbol"/>
                </a:rPr>
                <a:t>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csi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6"/>
          <p:cNvGrpSpPr/>
          <p:nvPr/>
        </p:nvGrpSpPr>
        <p:grpSpPr>
          <a:xfrm>
            <a:off x="0" y="4702320"/>
            <a:ext cx="9144000" cy="1121040"/>
            <a:chOff x="0" y="4702320"/>
            <a:chExt cx="9144000" cy="1121040"/>
          </a:xfrm>
        </p:grpSpPr>
        <p:sp>
          <p:nvSpPr>
            <p:cNvPr id="203" name="Text Box 19"/>
            <p:cNvSpPr/>
            <p:nvPr/>
          </p:nvSpPr>
          <p:spPr>
            <a:xfrm>
              <a:off x="0" y="4702320"/>
              <a:ext cx="9144000" cy="11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Пример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in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.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Но записать тождественное равенство в виде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csin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ельзя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.к.                  . Применив свойство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nx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</a:t>
              </a: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,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лучим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9"/>
          <p:cNvGrpSpPr/>
          <p:nvPr/>
        </p:nvGrpSpPr>
        <p:grpSpPr>
          <a:xfrm>
            <a:off x="4572000" y="5661000"/>
            <a:ext cx="2808360" cy="368280"/>
            <a:chOff x="4572000" y="5661000"/>
            <a:chExt cx="2808360" cy="368280"/>
          </a:xfrm>
        </p:grpSpPr>
        <p:sp>
          <p:nvSpPr>
            <p:cNvPr id="205" name="Text Box 27"/>
            <p:cNvSpPr/>
            <p:nvPr/>
          </p:nvSpPr>
          <p:spPr>
            <a:xfrm>
              <a:off x="4572000" y="566100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, значит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30"/>
          <p:cNvSpPr/>
          <p:nvPr/>
        </p:nvSpPr>
        <p:spPr>
          <a:xfrm>
            <a:off x="0" y="6308640"/>
            <a:ext cx="66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еперь ответьте на вопрос: синус какого угла равен 0,1?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1"/>
          <p:cNvSpPr/>
          <p:nvPr/>
        </p:nvSpPr>
        <p:spPr>
          <a:xfrm>
            <a:off x="6588000" y="6300720"/>
            <a:ext cx="25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cs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14:30:52Z</dcterms:created>
  <dc:creator>V</dc:creator>
  <dc:description/>
  <dc:language>en-US</dc:language>
  <cp:lastModifiedBy>дом</cp:lastModifiedBy>
  <dcterms:modified xsi:type="dcterms:W3CDTF">2012-01-24T19:33:32Z</dcterms:modified>
  <cp:revision>136</cp:revision>
  <dc:subject/>
  <dc:title>Слайд 1</dc:title>
</cp:coreProperties>
</file>