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04FF-7F16-4800-BEDC-4F4B65A9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8397-6586-4898-BBFD-8C9628A5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D270-734F-44B8-B1E5-A32AD6CF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480A-A024-474B-8E85-18EF2DC9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DA48-54C7-47F1-B5D4-7237A5EC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9EF3-BEEE-404A-9DAB-F65401B4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0541-021D-4E49-8643-C800B437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3F0B-4622-40C3-B8AC-67CA17F5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3965-4504-4133-A1CC-F79B216C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1F5C-9289-470C-8F2D-F45D9B9B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7DEF-69A4-4827-BE05-167FD664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7BB6-ED68-452A-8B87-FEB390CB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2515-AB27-4B4B-A5DC-DBC92B7E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90D4-8658-463A-B3CA-420AEF46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058D-5A5C-43D7-AABB-DDF0F552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01C7-F428-4F1C-B063-6D34087F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E6CD-BD0F-4ABB-86C9-460E2EDF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6F70-E09E-4FC7-99CF-DB25701C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D650F-8EBA-482A-BA25-0D777BA6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D21F-6FC2-4BFF-B5FC-102E3A1F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5126-C7EE-43BA-8A6C-45C64692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DB50-0D72-4285-A2E5-D4D8ECEC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DA34-3466-4A72-9C85-8DEFDE0C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F0CC-0962-4AE6-87AB-75F6FB37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450-86AB-4879-8804-51F2E5C609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A6D8-ABF8-4F2B-B29D-8AD88651BA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 Black"/>
              </a:rPr>
              <a:t>ЗИМНИЕ ЗАБАВ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зентация логопеда ГДО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Кудесница» Вдовенко М.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 Black"/>
              </a:rPr>
              <a:t>Дети слепили снежную крепость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Ребята играют в снежк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97160" y="1792440"/>
            <a:ext cx="634968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 Black"/>
              </a:rPr>
              <a:t>Мальчик катается на лыжах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 Black"/>
              </a:rPr>
              <a:t>Мальчик катается на санках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19160" y="2097000"/>
            <a:ext cx="5305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 Black"/>
              </a:rPr>
              <a:t>Девочка едет на санках с горы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 Black"/>
              </a:rPr>
              <a:t>Девочки катаются на ватрушке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17600" y="1600200"/>
            <a:ext cx="650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Дети катаются на горке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68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Дети катаются на коньк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705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Мальчики играют в хоккей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472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Дети лепят снеговик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54360" y="1600200"/>
            <a:ext cx="363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6:10:14Z</dcterms:created>
  <dc:creator>Марина</dc:creator>
  <dc:description/>
  <dc:language>en-US</dc:language>
  <cp:lastModifiedBy>Марина</cp:lastModifiedBy>
  <dcterms:modified xsi:type="dcterms:W3CDTF">2012-01-24T16:26:01Z</dcterms:modified>
  <cp:revision>2</cp:revision>
  <dc:subject/>
  <dc:title>ЗИМНИЕ ЗАБАВЫ</dc:title>
</cp:coreProperties>
</file>