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9A2B-4EDE-44E3-8B30-83F8BB932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436E-30A6-4F94-8396-1B7948A2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756D-B86E-4311-9F24-478ABA976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29A9-ECE6-40D7-8D36-BBCD4336F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F43B-7BA7-4B28-9FA4-7C31AF07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9F41-4822-4A97-8202-A0D53A4C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4FDB-B9D9-4476-BDA8-52745F6E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6AD2-FCD1-4829-AC8E-7347CC89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5A8D-7DB7-4E38-86D7-28191DAC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3F0D-7450-4B83-BDBF-85C5DB21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E921-FAFF-4D16-B3A1-B01ADC71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BDB4-84F8-4519-9567-111C02B0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40AC-5DE5-4E2D-B71D-B793835B1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Arial"/>
              </a:rPr>
              <a:t>Колокольные звон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резвон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одновременный звон во все колок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ерезвон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– медленный звон в каждый колокол по очереди, начиная с самого большого, и кончая самым маленьким, а затем – удар одновременно во все колок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ребор – это медленный звон поочередно в каждый колокол по одному разу, начиная с самого малого и до большого, а после удара в большой колокол, ударяют во все колокола вместе сраз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5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росмотр видеолекции «Колокольный звон Рус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дним из талантливейших звонарей и авторов колокольной музыки был Константин Константинович Сараджа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Стихотворение А.Толстого «Благовест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4105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еди дубра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лестит крес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рам пятигла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колоко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х звон призыв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рез моги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удит так ди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так уны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 себе он тян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одолим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овет и ман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 в край родим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рай благодат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бытый мною,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00720" y="1052280"/>
            <a:ext cx="4248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, непонят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мим тоско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юсь, и каюсь 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плачу сно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отрекаюсь 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 дела зло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леко странству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чтой чудесно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рез пространства 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чу небесны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сердце радос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ожит и т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ка звон благос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замирае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Выполнение тренировочных тестов и упраж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. 8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Звон колокола был голосом Родины.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Он воспевал ее силу и красоту, он напоминал о долге перед ней. А если колокол умолкал – это значило, что Родину постигло несчастье.</a:t>
            </a:r>
            <a:br>
              <a:rPr sz="40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Ю.Пухнач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Единственным музыкальным инструментом в православном храме является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лок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веке в итальянской области Кампании появились первые колокола, поэтому колокола имеют второе название –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кампаны»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Для колоколов стали строить специальные невысокие башенки, которые назывались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звонницами» или «бильницами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Выражение «малиновый звон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происходит от названия бельгийского города Мехлин, по-французски – Малин, где отливали колок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Руси стали строить церкви «иже под колоколы», т.е. с высокими колокольнями.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ервым храмом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такого типа была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локольня Ивана Лествичника в Московском Кремл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мым знаменитым колоколом в России является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Царь-колоко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, отлитый известными русскими мастерами И.Ф. и М.И.Моториными в 1735 году. Он весит свыше 200 тон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Типы колокольного звон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Благов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Трезв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Перезв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Переб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лаговес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звон в один колоко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6:55:51Z</dcterms:created>
  <dc:creator>user</dc:creator>
  <dc:description/>
  <dc:language>en-US</dc:language>
  <cp:lastModifiedBy>user</cp:lastModifiedBy>
  <dcterms:modified xsi:type="dcterms:W3CDTF">2010-01-27T16:00:01Z</dcterms:modified>
  <cp:revision>5</cp:revision>
  <dc:subject/>
  <dc:title>Колокольные звоны</dc:title>
</cp:coreProperties>
</file>