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21.png" ContentType="image/png"/>
  <Override PartName="/ppt/media/image4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2BA7-A7B8-4980-95E5-5CE18ECF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32C9-9401-471A-B83B-BCFEC3A6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CA55-E8D1-4B14-98E4-04599F94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7EE1-CB45-4B36-B2AE-04A9BA2A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73222-DC9D-4A4B-AE5D-EFEB64943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8F806-008A-4689-A4BD-07605391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A7733-6757-4FC5-AB15-F7CE2F21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415FD-FB53-45F2-BAFB-95A8599A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0B249-F3A1-4DED-8894-1D4A3F45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455D0-0C11-4C7D-ABA7-DB181D2D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7121A-C85A-42B4-83A5-6418B1F6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89EE-063C-4DA1-8C48-E6B670AF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12349-3045-4C0A-AF66-339CB80A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84B59-B45A-42C6-8DA7-7A9474B6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C8685-9AAF-43AE-88A3-998C44A8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938FF-C7A7-4BC8-9ADF-B45502F7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0459C-F953-48D9-81E5-2031EA533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6CC4C-D73C-4AC0-B279-0D5D837E4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E103E-964A-492C-90CA-717BA3DA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47DEB-DA03-41FC-8E51-B26796BB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AF661-F2E7-4B61-B675-9101C69E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2271A-99F6-423A-AC7D-F321CC44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FB17-23D7-4E23-9089-298DB281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FEDC1-33E2-4A8A-B4CC-344702C5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B371A-D095-4B2E-AE0D-4E623182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944F9-D248-4C22-9F77-00D83859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0F1C7-09DB-4C18-A339-6BD89603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BBB8E-1EC1-49F5-A285-9EF7F394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D93B8-6043-4905-969D-BC4BC812F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8E3DA-87FF-4E12-9836-17B24F30A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8B6F13-77BC-4D1E-9D4F-3D685F910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E77C5D-EAA6-4DD5-8599-BFE2B2F6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553C7E-8620-46FF-9165-543C0753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7C29-2A00-4B0C-8A37-3C5DCCC6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76EA6F-C114-420B-8E73-211DE110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D87485-F9CD-43EC-B584-810A9498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07698D-6E40-44E4-944D-06477374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2C46C6-8457-4F51-9AC6-F940D43C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D67DF1-D454-4BBF-A20C-9E05FD61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AE1832-F952-4C72-A610-3C4B2CC6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893F3D-C2E4-486F-96DA-950CB4EC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A684BD-1EDF-45E6-8B13-78299D3A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D42DE1-54B6-4AA0-BC4C-7894899D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6443-5328-4AAB-8DE4-A3A7A7CD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5170-C0DC-4310-93F5-B51698F7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119C-488A-47CD-B950-6BC248FF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A6BB-93C9-48F4-955F-822C7902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3495-0425-4B2B-85BB-953105DA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04E2-3BC3-492B-A444-626800F07FC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EFA8-D4E4-4F47-ADB3-28AAC45B82F2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9D91-2811-40BD-B3D5-72266FE039E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ACF0-5225-4D98-AEDC-3C1E2A83CC2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eoples.ru/science/founder/lomonosov/lomonosov-11242007044918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upload.wikimedia.org/wikipedia/commons/2/2f/Lomonosov_SGLAcademy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upload.wikimedia.org/wikipedia/commons/2/22/Lomonosov-house_marburg1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hyperlink" Target="http://ru.wikipedia.org/wiki/&#1060;&#1072;&#1081;&#1083;:Lomonosov_Academicus_1745.jpg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ru.wikipedia.org/wiki/&#1054;&#1076;&#1072;" TargetMode="External"/><Relationship Id="rId3" Type="http://schemas.openxmlformats.org/officeDocument/2006/relationships/hyperlink" Target="http://ru.wikipedia.org/wiki/&#1058;&#1088;&#1072;&#1075;&#1077;&#1076;&#1080;&#1103;" TargetMode="External"/><Relationship Id="rId4" Type="http://schemas.openxmlformats.org/officeDocument/2006/relationships/hyperlink" Target="http://ru.wikipedia.org/wiki/&#1069;&#1083;&#1077;&#1075;&#1080;&#1103;" TargetMode="External"/><Relationship Id="rId5" Type="http://schemas.openxmlformats.org/officeDocument/2006/relationships/hyperlink" Target="http://ru.wikipedia.org/wiki/&#1044;&#1088;&#1072;&#1084;&#1072;_(&#1078;&#1072;&#1085;&#1088;)" TargetMode="External"/><Relationship Id="rId6" Type="http://schemas.openxmlformats.org/officeDocument/2006/relationships/hyperlink" Target="http://ru.wikipedia.org/wiki/&#1057;&#1072;&#1090;&#1080;&#1088;&#1072;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5076360" y="2133360"/>
            <a:ext cx="35989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1711 - 1765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Rectangle 2" descr=""/>
          <p:cNvPicPr/>
          <p:nvPr/>
        </p:nvPicPr>
        <p:blipFill>
          <a:blip r:embed="rId1"/>
          <a:stretch/>
        </p:blipFill>
        <p:spPr>
          <a:xfrm>
            <a:off x="4780080" y="-128520"/>
            <a:ext cx="4192560" cy="2206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lomonosov-1124200704491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549360"/>
            <a:ext cx="4334040" cy="59767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Rectangle 4" descr=""/>
          <p:cNvPicPr/>
          <p:nvPr/>
        </p:nvPicPr>
        <p:blipFill>
          <a:blip r:embed="rId1"/>
          <a:stretch/>
        </p:blipFill>
        <p:spPr>
          <a:xfrm>
            <a:off x="262080" y="396720"/>
            <a:ext cx="8431200" cy="1030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selo"/>
          <p:cNvPicPr/>
          <p:nvPr/>
        </p:nvPicPr>
        <p:blipFill>
          <a:blip r:embed="rId2"/>
          <a:stretch/>
        </p:blipFill>
        <p:spPr>
          <a:xfrm>
            <a:off x="395280" y="1413000"/>
            <a:ext cx="8497800" cy="507204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Rectangle 4" descr=""/>
          <p:cNvPicPr/>
          <p:nvPr/>
        </p:nvPicPr>
        <p:blipFill>
          <a:blip r:embed="rId1"/>
          <a:stretch/>
        </p:blipFill>
        <p:spPr>
          <a:xfrm>
            <a:off x="291960" y="146160"/>
            <a:ext cx="8401320" cy="1231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zal3_img1"/>
          <p:cNvPicPr/>
          <p:nvPr/>
        </p:nvPicPr>
        <p:blipFill>
          <a:blip r:embed="rId2"/>
          <a:stretch/>
        </p:blipFill>
        <p:spPr>
          <a:xfrm>
            <a:off x="395280" y="1341360"/>
            <a:ext cx="4032360" cy="50403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177" name="Picture 6" descr="map"/>
          <p:cNvPicPr/>
          <p:nvPr/>
        </p:nvPicPr>
        <p:blipFill>
          <a:blip r:embed="rId3"/>
          <a:stretch/>
        </p:blipFill>
        <p:spPr>
          <a:xfrm>
            <a:off x="5508720" y="1557360"/>
            <a:ext cx="3014640" cy="47512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Rectangle 4" descr=""/>
          <p:cNvPicPr/>
          <p:nvPr/>
        </p:nvPicPr>
        <p:blipFill>
          <a:blip r:embed="rId1"/>
          <a:stretch/>
        </p:blipFill>
        <p:spPr>
          <a:xfrm>
            <a:off x="291960" y="146160"/>
            <a:ext cx="8602920" cy="1231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Файл:Lomonosov SGLAcademy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1341360"/>
            <a:ext cx="3958920" cy="48960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Rectangle 4" descr=""/>
          <p:cNvPicPr/>
          <p:nvPr/>
        </p:nvPicPr>
        <p:blipFill>
          <a:blip r:embed="rId1"/>
          <a:stretch/>
        </p:blipFill>
        <p:spPr>
          <a:xfrm>
            <a:off x="231840" y="146160"/>
            <a:ext cx="8461440" cy="1231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Файл:Lomonosov-house marburg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1700280"/>
            <a:ext cx="6337440" cy="48067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182" name="Text Box 11"/>
          <p:cNvSpPr/>
          <p:nvPr/>
        </p:nvSpPr>
        <p:spPr>
          <a:xfrm>
            <a:off x="3995640" y="57340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ом, в котором жил Ломоносов в Марбург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Rectangle 4" descr=""/>
          <p:cNvPicPr/>
          <p:nvPr/>
        </p:nvPicPr>
        <p:blipFill>
          <a:blip r:embed="rId1"/>
          <a:stretch/>
        </p:blipFill>
        <p:spPr>
          <a:xfrm>
            <a:off x="4797360" y="-6480"/>
            <a:ext cx="4029120" cy="2432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kat100176psmall"/>
          <p:cNvPicPr/>
          <p:nvPr/>
        </p:nvPicPr>
        <p:blipFill>
          <a:blip r:embed="rId2"/>
          <a:stretch/>
        </p:blipFill>
        <p:spPr>
          <a:xfrm>
            <a:off x="611280" y="549360"/>
            <a:ext cx="4118040" cy="56163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185" name="Picture 7" descr="250px-Lomonosov_Academicus_174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565360"/>
            <a:ext cx="3743640" cy="31431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8"/>
          <p:cNvSpPr/>
          <p:nvPr/>
        </p:nvSpPr>
        <p:spPr>
          <a:xfrm>
            <a:off x="4932360" y="5877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иплом профессора хим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Rectangle 4" descr=""/>
          <p:cNvPicPr/>
          <p:nvPr/>
        </p:nvPicPr>
        <p:blipFill>
          <a:blip r:embed="rId1"/>
          <a:stretch/>
        </p:blipFill>
        <p:spPr>
          <a:xfrm>
            <a:off x="231840" y="146160"/>
            <a:ext cx="8461440" cy="1231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539640" y="2060640"/>
            <a:ext cx="6912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33"/>
                </a:solidFill>
                <a:latin typeface="Constantia"/>
              </a:rPr>
              <a:t>Ломоносов выделял три «штиля»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33"/>
                </a:solidFill>
                <a:latin typeface="Constantia"/>
              </a:rPr>
              <a:t>Высокий штиль — высокий, торжественный, величавый (церковно-славянские слова и русские); жанры: </a:t>
            </a:r>
            <a:r>
              <a:rPr b="0" lang="ru-RU" sz="2000" spc="-1" strike="noStrike" u="sng">
                <a:solidFill>
                  <a:srgbClr val="8e58b6"/>
                </a:solidFill>
                <a:uFillTx/>
                <a:latin typeface="Constantia"/>
                <a:hlinkClick r:id="rId2"/>
              </a:rPr>
              <a:t>ода</a:t>
            </a:r>
            <a:r>
              <a:rPr b="1" lang="ru-RU" sz="2000" spc="-1" strike="noStrike">
                <a:solidFill>
                  <a:srgbClr val="ccff33"/>
                </a:solidFill>
                <a:latin typeface="Constantia"/>
              </a:rPr>
              <a:t>, героические поэмы, </a:t>
            </a:r>
            <a:r>
              <a:rPr b="0" lang="ru-RU" sz="2000" spc="-1" strike="noStrike" u="sng">
                <a:solidFill>
                  <a:srgbClr val="8e58b6"/>
                </a:solidFill>
                <a:uFillTx/>
                <a:latin typeface="Constantia"/>
                <a:hlinkClick r:id="rId3"/>
              </a:rPr>
              <a:t>трагедии</a:t>
            </a:r>
            <a:r>
              <a:rPr b="1" lang="ru-RU" sz="2000" spc="-1" strike="noStrike">
                <a:solidFill>
                  <a:srgbClr val="ccff33"/>
                </a:solidFill>
                <a:latin typeface="Constantia"/>
              </a:rPr>
              <a:t>, ораторская речь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33"/>
                </a:solidFill>
                <a:latin typeface="Constantia"/>
              </a:rPr>
              <a:t>Средний штиль — русские слова с небольшой примесью церковно-славянских; жанры: </a:t>
            </a:r>
            <a:r>
              <a:rPr b="0" lang="ru-RU" sz="2000" spc="-1" strike="noStrike" u="sng">
                <a:solidFill>
                  <a:srgbClr val="8e58b6"/>
                </a:solidFill>
                <a:uFillTx/>
                <a:latin typeface="Constantia"/>
                <a:hlinkClick r:id="rId4"/>
              </a:rPr>
              <a:t>элегии</a:t>
            </a:r>
            <a:r>
              <a:rPr b="1" lang="ru-RU" sz="2000" spc="-1" strike="noStrike">
                <a:solidFill>
                  <a:srgbClr val="ccff33"/>
                </a:solidFill>
                <a:latin typeface="Constantia"/>
              </a:rPr>
              <a:t>, </a:t>
            </a:r>
            <a:r>
              <a:rPr b="0" lang="ru-RU" sz="2000" spc="-1" strike="noStrike" u="sng">
                <a:solidFill>
                  <a:srgbClr val="8e58b6"/>
                </a:solidFill>
                <a:uFillTx/>
                <a:latin typeface="Constantia"/>
                <a:hlinkClick r:id="rId5"/>
              </a:rPr>
              <a:t>драмы</a:t>
            </a:r>
            <a:r>
              <a:rPr b="1" lang="ru-RU" sz="2000" spc="-1" strike="noStrike">
                <a:solidFill>
                  <a:srgbClr val="ccff33"/>
                </a:solidFill>
                <a:latin typeface="Constantia"/>
              </a:rPr>
              <a:t>, </a:t>
            </a:r>
            <a:r>
              <a:rPr b="0" lang="ru-RU" sz="2000" spc="-1" strike="noStrike" u="sng">
                <a:solidFill>
                  <a:srgbClr val="8e58b6"/>
                </a:solidFill>
                <a:uFillTx/>
                <a:latin typeface="Constantia"/>
                <a:hlinkClick r:id="rId6"/>
              </a:rPr>
              <a:t>сатиры</a:t>
            </a:r>
            <a:r>
              <a:rPr b="1" lang="ru-RU" sz="2000" spc="-1" strike="noStrike">
                <a:solidFill>
                  <a:srgbClr val="ccff33"/>
                </a:solidFill>
                <a:latin typeface="Constantia"/>
              </a:rPr>
              <a:t>, эклоги, дружеские сочинения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33"/>
                </a:solidFill>
                <a:latin typeface="Constantia"/>
              </a:rPr>
              <a:t>Низкий штиль — русский разговорный с добавлением простонародных слов и малого числа церковно-славянских; жанры: комедии, письма, песни, басни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Rectangle 4" descr=""/>
          <p:cNvPicPr/>
          <p:nvPr/>
        </p:nvPicPr>
        <p:blipFill>
          <a:blip r:embed="rId1"/>
          <a:stretch/>
        </p:blipFill>
        <p:spPr>
          <a:xfrm>
            <a:off x="347760" y="85680"/>
            <a:ext cx="8358120" cy="12924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lomonosov-11242007044824"/>
          <p:cNvPicPr/>
          <p:nvPr/>
        </p:nvPicPr>
        <p:blipFill>
          <a:blip r:embed="rId2"/>
          <a:stretch/>
        </p:blipFill>
        <p:spPr>
          <a:xfrm>
            <a:off x="5076720" y="1628640"/>
            <a:ext cx="3856320" cy="49690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191" name="Picture 12" descr="Картинка 5 из 1235"/>
          <p:cNvPicPr/>
          <p:nvPr/>
        </p:nvPicPr>
        <p:blipFill>
          <a:blip r:embed="rId3"/>
          <a:stretch/>
        </p:blipFill>
        <p:spPr>
          <a:xfrm>
            <a:off x="611280" y="1746360"/>
            <a:ext cx="3816360" cy="47782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192" name="01 - М.В. Ломоносов - Ода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7190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«Литература» 7 класс. ч.1  для общеобразовательных учебных заведений – В.П.Журавлев и др., М. «Просвещение», 2009г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4" name="Rectangle 2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8480520" cy="1238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0:51:02Z</dcterms:created>
  <dc:creator>*</dc:creator>
  <dc:description/>
  <dc:language>en-US</dc:language>
  <cp:lastModifiedBy>андреф</cp:lastModifiedBy>
  <dcterms:modified xsi:type="dcterms:W3CDTF">2012-01-25T04:36:34Z</dcterms:modified>
  <cp:revision>15</cp:revision>
  <dc:subject/>
  <dc:title>Михаил Васильевич Ломоносов</dc:title>
</cp:coreProperties>
</file>