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A67F-396C-4954-9B10-F9109DB0A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FFB0-16E3-4520-90EF-404CE1A1C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A568-1079-4E36-A3D7-387A11E8F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E2BF-2DB2-4103-BE95-08112085E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BF9F-15E2-4A8F-B8A5-8C9006907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812A-4946-4E9F-9102-0011A4BDB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EE3B-A1B7-4131-9D46-E7B1476DD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4D13-8651-4662-898E-E22F8E42C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E68C-97F1-413F-AA88-3343D3A06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2168-6899-4960-8F45-53AF0F68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F240-04F8-4494-9526-37584789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53B8-3E0D-452D-93FE-D8C196B4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23479-8930-43CB-B12C-0FF25368E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26920" y="692280"/>
            <a:ext cx="7490160" cy="53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Догмат о Св.Троиц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и его художественно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воплощение в икона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Ветхозаветной Троиц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и в "Троице" Андрея Рубле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1125360"/>
            <a:ext cx="835164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вятая Троица –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это не количественная характеристика, а качество Бога, непостижимое человеком, но данное ему в откровен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51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Троицей» в христианском искусстве называется композиция, символизирующая Триединую Сущность Бога: Бог Отец, Бог Сын, Бог Святой Дух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57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ог в виде трех ангелов, явившихся Аврааму, имеет еще одно название – Троица Ветхозаветная.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цена приема Саррой и Авраамом трех ангелов и стала основой раннехристианских изображений Св.Троиц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59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Рублев на иконе «Троица» изобразил не сам момент явления Св.Троицы Аврааму, а предвечный Совет Св.Троицы о том, что Христос предопределен как искупительная жертва за грехи человеческие еще до начала мира.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На иконе Рублева запечатлен момент молчаливой беседы Трех Лиц Бога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53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Троицу» Андрей Рублев создавал в память о Преподобном Сергии Радонежском и предназначалась она для росписи Троицкого собора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56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кона «Троица» Андрея Рублева является символом погружения в таинство божественного бытия и служит для преображения и духовного возрождения русского человека и Росси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54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 Стоглавом Соборе 1551 г. иконописцам было предписано писать «Троицу» «так, как Рублев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9:05:01Z</dcterms:created>
  <dc:creator>user</dc:creator>
  <dc:description/>
  <dc:language>en-US</dc:language>
  <cp:lastModifiedBy>user</cp:lastModifiedBy>
  <dcterms:modified xsi:type="dcterms:W3CDTF">2009-02-02T19:13:56Z</dcterms:modified>
  <cp:revision>2</cp:revision>
  <dc:subject/>
  <dc:title>Слайд 1</dc:title>
</cp:coreProperties>
</file>