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1EC-049B-4836-B386-32163320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0B6-3C59-4881-AB2D-C7C4A235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508-BBBC-44E0-BFC2-F27E67BE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1B1-EDF9-44A0-BDB7-56DE6CD8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74F0-3DFB-4828-9A45-86D6F5EB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95D2-68EB-48E6-A785-40D6E00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956F-52B0-4A0C-9997-B430D35F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B42-DB09-416A-A718-34ED5B2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589-6D86-461C-8016-54200E92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8B15-9D8F-444D-B953-59BFBC0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E49E-F139-401B-9E00-B723C02D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172-149E-4EFD-8BBC-68A2B89E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B77D-AD9D-4DB7-A429-F37400B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D899-995E-4D7D-A1E3-59F5BB7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9E13-A00F-4B74-9771-F8560B4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D701-5E2B-4B84-9707-6A46E082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F96E-05A2-4FE5-A8C4-9456B889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065-04DE-40BE-9432-1232A94C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FB5-55C3-4379-8A63-0D660985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9B5-A14D-430A-80C4-AA2C7DA7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9D1-FA41-4311-AFA2-F4B1DCA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9D3-60D1-450E-A110-F312347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33B-3773-4284-B0EF-D15C8DB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88D-904C-4122-B597-A59D00A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244B-3B38-4BE8-A622-1FB451B30FE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A554-FE28-4557-8403-23A84B8F154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Bodoni MT Black"/>
              </a:rPr>
              <a:t>«Поиграй-ка, угадай-ка!»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Литературная викторина для младших школьников и для всех, кто любит сказки Андерсена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Выполнил ученик 1 «б» класса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МОУ «ООШ № 3»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Губин Данил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Руководитель Кривошеина Ирина Николаевна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Так всё начиналос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еред тобой начальные строчки сказок. Как они называютс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Жил-был принц, и хотелось ему взять за себя тоже принцессу, только настоящу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Жила-была женщина; очень ей хотелось иметь ребёнка, да где его взя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Крылатые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е литературное произведение дало жизнь крылатому выражению? Что оно озна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А король-то голый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тветы к викторин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лебедей. «Дикие лебеди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лебедя. «Гадкий утёнок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гниво. «Огниво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онтик и волшебная спринцовка. «Оле-Лукойе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лшебные калоши. «Калоши счастья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ласточке. «Дюймовочк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й. «Снежная королев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 снежной королеве. «Снежная королев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 волшебнике Оле-Лукойе. «Оле-Лукойе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Ответы к викторин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лшебник. Бог сновидений. «Оле-Лукойе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ратья Петерсен. «Пейтер, Петер, Пер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ашмаки. «Красные башмак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Принцесса на горошине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Дюймовочк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Новое платье короля». Когда люди выдают за очевидное то, чего нет на самом дел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-5317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Bodoni MT Black"/>
              </a:rPr>
              <a:t>Милый чудак и поэт Андерсен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62440" y="350028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Вы обладаете драгоценной способностью находить жемчуг в любой сточной канаве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Ингеман</a:t>
            </a:r>
            <a:r>
              <a:rPr b="1" lang="ru-RU" sz="1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9160" y="1413000"/>
            <a:ext cx="28684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Удивительные превращения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кого превращались и были заколдован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Одиннадцать братьев- принце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Гадкий утён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Волшебное средств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бы ты попросил у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Солда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Оле-Лукой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Феи Счасть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521964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-603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Трудный пу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чём или н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м совершил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обыкновенно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утешестви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Из норы крота 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ёплые кр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4324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Друзь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то из литературных персонажей были друзьям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Герд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82840" y="2830680"/>
            <a:ext cx="5753160" cy="38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Волшебники, маги, чародеи, кудесни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 ком говорится в следующих строках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Как она была хороша! Лицо умней и прелестней он не мог себе представить. Теперь она не казалась ему ледяною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Одет он чудесно: на нём шёлковый кафтан, только нельзя сказать, какого цвета,- он отливает то голубым, то зелёным, то красны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то это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помни, кто есть кто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Оле-Лукой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Пейтер, Петер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62480" y="2490840"/>
            <a:ext cx="445752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Красный, синий, чёрны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е слово нужно поставить вместо многоточи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Красные…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5:01:42Z</dcterms:created>
  <dc:creator>1</dc:creator>
  <dc:description/>
  <dc:language>en-US</dc:language>
  <cp:lastModifiedBy>Администратор</cp:lastModifiedBy>
  <dcterms:modified xsi:type="dcterms:W3CDTF">2010-05-04T09:13:56Z</dcterms:modified>
  <cp:revision>8</cp:revision>
  <dc:subject/>
  <dc:title>«Поиграй-ка, угадай-ка!»</dc:title>
</cp:coreProperties>
</file>