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chimes.wav" ContentType="audio/x-wav"/>
  <Override PartName="/ppt/media/image6.jpeg" ContentType="image/jpeg"/>
  <Override PartName="/ppt/media/image3.jpeg" ContentType="image/jpeg"/>
  <Override PartName="/ppt/media/image4.jpeg" ContentType="image/jpeg"/>
  <Override PartName="/ppt/media/image5.jpeg" ContentType="image/jpeg"/>
  <Override PartName="/ppt/media/wind.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C334A-25FD-4896-8557-9922FBBB9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433D4-04D8-412B-A2CC-4B9EF035A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6F219-3629-4571-80E7-BD1D777E2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13E90-CB4D-49ED-A023-6C8BC9DB8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36F77-F462-4DE3-A786-62D491AE6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6B338-ADE4-4BBA-A3BF-445235A8F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DFEA9-EBB3-443E-8212-758C80234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920B7-712F-434D-A8F5-5EE9D9BDB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A55AA-BAF4-4067-A77E-0F25D492F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E8E19-78EB-4779-A6B6-D269F9AEA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56444-B58A-48D8-9E62-B0DADD5B9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6E4F3-4161-461E-A754-48D427DAB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B9CD-95F8-4747-B1EA-1ACF424A6F2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очинение шло с лёгкостью и быстротой</a:t>
            </a:r>
            <a:endParaRPr b="0" lang="en-US" sz="2800" spc="-1" strike="noStrike">
              <a:solidFill>
                <a:srgbClr val="000000"/>
              </a:solidFill>
              <a:latin typeface="Arial"/>
            </a:endParaRPr>
          </a:p>
        </p:txBody>
      </p:sp>
      <p:sp>
        <p:nvSpPr>
          <p:cNvPr id="42" name="PlaceHolder 2"/>
          <p:cNvSpPr>
            <a:spLocks noGrp="1"/>
          </p:cNvSpPr>
          <p:nvPr>
            <p:ph/>
          </p:nvPr>
        </p:nvSpPr>
        <p:spPr>
          <a:xfrm>
            <a:off x="4648320" y="1599840"/>
            <a:ext cx="4038480" cy="1600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втор(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бретто Николай Римский-Корсаков</a:t>
            </a:r>
            <a:endParaRPr b="0" lang="en-US" sz="2800" spc="-1" strike="noStrike">
              <a:solidFill>
                <a:srgbClr val="000000"/>
              </a:solidFill>
              <a:latin typeface="Arial"/>
            </a:endParaRPr>
          </a:p>
        </p:txBody>
      </p:sp>
      <p:pic>
        <p:nvPicPr>
          <p:cNvPr id="43" name="Picture 8" descr="1RHRVCAMI90KVCA63DR19CASANOA0CA5248FACAQEAHR9CAPGE8RFCAAJ0KCYCAKN900JCA4OB4LQCAOMKKTECAX0K5FRCADKFE74CAW70DNWCAQGNUVKCAV09B4RCAS64JDSCAUD2G2R"/>
          <p:cNvPicPr/>
          <p:nvPr/>
        </p:nvPicPr>
        <p:blipFill>
          <a:blip r:embed="rId1"/>
          <a:stretch/>
        </p:blipFill>
        <p:spPr>
          <a:xfrm>
            <a:off x="7697880" y="0"/>
            <a:ext cx="1446120" cy="2133720"/>
          </a:xfrm>
          <a:prstGeom prst="rect">
            <a:avLst/>
          </a:prstGeom>
          <a:ln w="0">
            <a:noFill/>
          </a:ln>
        </p:spPr>
      </p:pic>
      <p:sp>
        <p:nvSpPr>
          <p:cNvPr id="44" name="Rectangle 10"/>
          <p:cNvSpPr/>
          <p:nvPr/>
        </p:nvSpPr>
        <p:spPr>
          <a:xfrm>
            <a:off x="380880" y="35812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ая постановка 29 января (11 февраля) 1882 го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сто первой постановки Петербург, Мариинский театр</a:t>
            </a:r>
            <a:endParaRPr b="0" lang="en-US" sz="1800" spc="-1" strike="noStrike">
              <a:solidFill>
                <a:srgbClr val="000000"/>
              </a:solidFill>
              <a:latin typeface="Arial"/>
            </a:endParaRPr>
          </a:p>
        </p:txBody>
      </p:sp>
      <p:sp>
        <p:nvSpPr>
          <p:cNvPr id="45" name="Rectangle 12"/>
          <p:cNvSpPr/>
          <p:nvPr/>
        </p:nvSpPr>
        <p:spPr>
          <a:xfrm>
            <a:off x="230760" y="5257800"/>
            <a:ext cx="45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озитор писал оперу летом 1880 года</a:t>
            </a:r>
            <a:endParaRPr b="0" lang="en-US" sz="1800" spc="-1" strike="noStrike">
              <a:solidFill>
                <a:srgbClr val="000000"/>
              </a:solidFill>
              <a:latin typeface="Arial"/>
            </a:endParaRPr>
          </a:p>
        </p:txBody>
      </p:sp>
      <p:sp>
        <p:nvSpPr>
          <p:cNvPr id="46" name="Rectangle 13"/>
          <p:cNvSpPr/>
          <p:nvPr/>
        </p:nvSpPr>
        <p:spPr>
          <a:xfrm>
            <a:off x="360" y="5562720"/>
            <a:ext cx="540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ехав из Петербурга в глухую русскую деревню.</a:t>
            </a:r>
            <a:endParaRPr b="0" lang="en-US" sz="1800" spc="-1" strike="noStrike">
              <a:solidFill>
                <a:srgbClr val="000000"/>
              </a:solidFill>
              <a:latin typeface="Arial"/>
            </a:endParaRPr>
          </a:p>
        </p:txBody>
      </p:sp>
      <p:sp>
        <p:nvSpPr>
          <p:cNvPr id="47" name="Rectangle 14"/>
          <p:cNvSpPr/>
          <p:nvPr/>
        </p:nvSpPr>
        <p:spPr>
          <a:xfrm>
            <a:off x="308160" y="6019920"/>
            <a:ext cx="46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ез год, в 1881, опера была закончена.</a:t>
            </a:r>
            <a:endParaRPr b="0" lang="en-US" sz="1800" spc="-1" strike="noStrike">
              <a:solidFill>
                <a:srgbClr val="000000"/>
              </a:solidFill>
              <a:latin typeface="Arial"/>
            </a:endParaRPr>
          </a:p>
        </p:txBody>
      </p:sp>
      <p:sp>
        <p:nvSpPr>
          <p:cNvPr id="48"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пера «Снегурочка»</a:t>
            </a:r>
            <a:endParaRPr b="0" lang="en-US" sz="4400" spc="-1" strike="noStrike">
              <a:solidFill>
                <a:srgbClr val="000000"/>
              </a:solidFill>
              <a:latin typeface="Arial"/>
            </a:endParaRPr>
          </a:p>
        </p:txBody>
      </p:sp>
      <p:sp>
        <p:nvSpPr>
          <p:cNvPr id="49" name="TextBox 12"/>
          <p:cNvSpPr/>
          <p:nvPr/>
        </p:nvSpPr>
        <p:spPr>
          <a:xfrm>
            <a:off x="6248520" y="4495680"/>
            <a:ext cx="2438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зентацию выполнил Тарасов Сергей 8 клас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Дик О.А.</a:t>
            </a:r>
            <a:endParaRPr b="0" lang="en-US" sz="18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Рисунок 4" descr="2_0016.jpg"/>
          <p:cNvPicPr/>
          <p:nvPr/>
        </p:nvPicPr>
        <p:blipFill>
          <a:blip r:embed="rId1"/>
          <a:stretch/>
        </p:blipFill>
        <p:spPr>
          <a:xfrm>
            <a:off x="990720" y="1219320"/>
            <a:ext cx="7219800" cy="4800600"/>
          </a:xfrm>
          <a:prstGeom prst="rect">
            <a:avLst/>
          </a:prstGeom>
          <a:ln w="0">
            <a:noFill/>
          </a:ln>
        </p:spPr>
      </p:pic>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Рисунок 4" descr="6bd9f3012738049c70ce2000c4902b1f4b7c25c6.jpg"/>
          <p:cNvPicPr/>
          <p:nvPr/>
        </p:nvPicPr>
        <p:blipFill>
          <a:blip r:embed="rId1"/>
          <a:stretch/>
        </p:blipFill>
        <p:spPr>
          <a:xfrm>
            <a:off x="685800" y="609480"/>
            <a:ext cx="3733920" cy="5594400"/>
          </a:xfrm>
          <a:prstGeom prst="rect">
            <a:avLst/>
          </a:prstGeom>
          <a:ln w="0">
            <a:noFill/>
          </a:ln>
        </p:spPr>
      </p:pic>
      <p:pic>
        <p:nvPicPr>
          <p:cNvPr id="69" name="Рисунок 5" descr="pic0148_800.jpg"/>
          <p:cNvPicPr/>
          <p:nvPr/>
        </p:nvPicPr>
        <p:blipFill>
          <a:blip r:embed="rId2"/>
          <a:stretch/>
        </p:blipFill>
        <p:spPr>
          <a:xfrm>
            <a:off x="5105520" y="655560"/>
            <a:ext cx="3467160" cy="5592960"/>
          </a:xfrm>
          <a:prstGeom prst="rect">
            <a:avLst/>
          </a:prstGeom>
          <a:ln w="0">
            <a:noFill/>
          </a:ln>
        </p:spPr>
      </p:pic>
    </p:spTree>
  </p:cSld>
  <p:transition>
    <p:blinds dir="vert"/>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Рисунок 5" descr="0519cq.jpg"/>
          <p:cNvPicPr/>
          <p:nvPr/>
        </p:nvPicPr>
        <p:blipFill>
          <a:blip r:embed="rId1"/>
          <a:stretch/>
        </p:blipFill>
        <p:spPr>
          <a:xfrm>
            <a:off x="1143000" y="1143000"/>
            <a:ext cx="7121520" cy="4724280"/>
          </a:xfrm>
          <a:prstGeom prst="rect">
            <a:avLst/>
          </a:prstGeom>
          <a:ln w="0">
            <a:noFill/>
          </a:ln>
        </p:spPr>
      </p:pic>
    </p:spTree>
  </p:cSld>
  <p:transition>
    <p:blinds dir="vert"/>
    <p:sndAc>
      <p:stSnd>
        <p:snd r:embed="rId2" name="wind.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есеняя сказка</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bbe0e3"/>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НЕГУРОЧК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есенняя сказк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пера в четырех действиях с прологом Н. А. Римского-Корсакова на либретто композитора,  основанном на одноименной пьесе А. Н. Островского.</a:t>
            </a:r>
            <a:endParaRPr b="0" lang="en-US" sz="3200" spc="-1" strike="noStrike">
              <a:solidFill>
                <a:srgbClr val="000000"/>
              </a:solidFill>
              <a:latin typeface="Arial"/>
            </a:endParaRPr>
          </a:p>
        </p:txBody>
      </p:sp>
      <p:pic>
        <p:nvPicPr>
          <p:cNvPr id="52" name="Picture 20" descr="01M3YCAXY71DPCAUFG9MKCA0VJG2OCAN9PWHGCAAE3LAACADJZ8Z9CAT2D7EACAP648OCCACSFKTWCAPV9S5VCAY70YECCAM1NZ8FCALMB340CA7EDGIICACXW972CAA1RH87CAUJX284"/>
          <p:cNvPicPr/>
          <p:nvPr/>
        </p:nvPicPr>
        <p:blipFill>
          <a:blip r:embed="rId1"/>
          <a:stretch/>
        </p:blipFill>
        <p:spPr>
          <a:xfrm>
            <a:off x="6172200" y="1447920"/>
            <a:ext cx="2057400" cy="1377720"/>
          </a:xfrm>
          <a:prstGeom prst="rect">
            <a:avLst/>
          </a:prstGeom>
          <a:ln w="0">
            <a:noFill/>
          </a:ln>
        </p:spPr>
      </p:pic>
    </p:spTree>
  </p:cSld>
  <p:transition>
    <p:blinds dir="vert"/>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ЕЙСТВУЮЩИЕ ЛИЦА:</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йствующие лиц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ролог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есна-красна                                              Меццо-сопрано</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ед-Мороз                                                   Бас</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евушка-Снегурочка                               Сопрано</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еший                                                          Тенор</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сленица (соломенное чучело)              Бас</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обыль Бакула                                          Тенор</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обылиха, его жена                                   Меццо-сопрано</a:t>
            </a:r>
            <a:endParaRPr b="0" lang="en-US" sz="1800" spc="-1" strike="noStrike">
              <a:solidFill>
                <a:srgbClr val="000000"/>
              </a:solidFill>
              <a:latin typeface="Arial"/>
            </a:endParaRPr>
          </a:p>
        </p:txBody>
      </p:sp>
    </p:spTree>
  </p:cSld>
  <p:transition>
    <p:blinds dir="vert"/>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Б ОПЕРЕ</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99cc00"/>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яре, боярыни и свита царя, гусляры слепые, скоморохи, гудочники, волынщики, пастухи, парни и девки, берендеи всякого звания, обоего пола, лешие, цветы - свита Весны.</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ремя действия: доисторические времен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сто действия: страна берендеев.</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ое исполнение: Санкт-Петербург, 29 января (10 февраля) 1882 год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vert"/>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РИЯ СОЗДАНИЯ</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тория создани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стоятельства создания «Снегурочки» хорошо известны. Н. А. Римский-Корсаков сам рассказал о них в «Летописи моей музыкальной жизни». Сказка А. Н. Островского «Снегурочка» была первый раз прочитана Римским-Корсаковым около 1874 года, когда она только что появилась в печати. Композитор вспоминал впоследствии, что тогда она ему мало понравилась, а царство берендеев показалось странным. Зимой 1879/80 годов он снова ее прочитал и на сей раз «точно прозрел на ее удивительную красоту». У композитора была толстая книга из нотной бумаги и он стал записывать в нее в виде набросков приходившие в голову музыкальные мысли. Воодушевленный новым сюжетом, Римский-Корсаков отправился в Москву, чтобы встретиться с Островским и испросить у него разрешения воспользоваться его произведением как либретто с правом внести в драму необходимые при работе над оперой изменения. Драматург принял композитора очень любезно, предоставил право должным образом распоряжаться текстом и даже подарил экземпляр своей сказки.</a:t>
            </a:r>
            <a:endParaRPr b="0" lang="en-US" sz="1800" spc="-1" strike="noStrike">
              <a:solidFill>
                <a:srgbClr val="000000"/>
              </a:solidFill>
              <a:latin typeface="Arial"/>
            </a:endParaRPr>
          </a:p>
        </p:txBody>
      </p:sp>
    </p:spTree>
  </p:cSld>
  <p:transition>
    <p:blinds dir="vert"/>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0099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РИЯ СОЗДАНИЯ</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то 1880 года Римский-Корсаков провел в деревне Стелёво. Это было его первое лето в настоящей русской деревне. И все - пейзаж, пение птиц, обстановка - необычайно вдохновляли его на эту работу. Он работал целыми днями, «музыкальные мысли и их обработка преследовали меня неотступно» - писал впоследствии композитор. Он зафиксировал ход работы буквально по дням: начало 1 июня (написано вступление к прологу), окончание - 12 августа (заключительный хор). Ни одно произведение не давалось ему с такой легкостью и скоростью, как «Снегурочка». «О сочинении «Снегурочки» никто не знал, - писал композитор, - ибо дело это я держал в тайне, и, объявив по приезде в Петербург своим близким об окончании эскиза, я тем самым немало их удивил». Еще полгода композитор затратил на инструментовку оперы, и, наконец, 10 февраля опера была дана на сцене Мариинского театра в Петербурге. С тех пор она остается одним из самых любимых публикой творений композитора.</a:t>
            </a:r>
            <a:endParaRPr b="0" lang="en-US" sz="2000" spc="-1" strike="noStrike">
              <a:solidFill>
                <a:srgbClr val="000000"/>
              </a:solidFill>
              <a:latin typeface="Arial"/>
            </a:endParaRPr>
          </a:p>
        </p:txBody>
      </p:sp>
    </p:spTree>
  </p:cSld>
  <p:transition>
    <p:blinds dir="vert"/>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80808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РИЯ СОЗДАНИЯ</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Снегурочке» Н. Римский-Корсаков очень тонко передал народный характер музыки. Из подлинно народных мелодий, звучащих в «Снегурочке», можно назвать «Орел воевода, перепел подьячий» (в пляске птиц), в хоре «Веселенько тебя встречать, привечать» (в проводах масленицы) использован напев песни «А мы масленицу дожидаем», песня «Ай, во поле липенька» звучит в хорах I и III  действий, песня Бобыля «Купался бобер» заимствована из народной песни «Ой, пала, припала молодая пороша».</a:t>
            </a:r>
            <a:endParaRPr b="0" lang="en-US" sz="2800" spc="-1" strike="noStrike">
              <a:solidFill>
                <a:srgbClr val="000000"/>
              </a:solidFill>
              <a:latin typeface="Arial"/>
            </a:endParaRPr>
          </a:p>
        </p:txBody>
      </p:sp>
    </p:spTree>
  </p:cSld>
  <p:transition>
    <p:blinds dir="vert"/>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9360">
            <a:solidFill>
              <a:srgbClr val="0099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РИЯ СОЗДАНИЯ</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мимо цитирования русских народных песен и мелодий, композитор сочинил много собственных мотивов, которые очень естественно воспринимаются «как народные». Известны даже упреки некоторых современных критиков, утверждавших, что тот или иной мотив есть народный, тогда как это была выдумка самого Римского-Корсакова. Доходило даже до того, что высказывалось мнение, будто композитор не в состоянии сам написать в таком стиле. Эти упреки раздражали композитора своей несправедливостью. В ответ на один из них, в котором критик утверждал, что третья песня Леля написана на народный мотив, композитор не удержался и письменно ответил (в той же газете «Новое время», в которой была напечатана статья критика): «Мелодия “Песни Леля” не народная, а моего сочинения, но если автору рецензии известен народный мотив, тождественный с нею, то я просил бы указать его мне, что для меня, как занимавшегося много народными песнями, было бы крайне интересно».</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blinds dir="vert"/>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9360">
            <a:solidFill>
              <a:srgbClr val="99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РИЯ СОЗДАНИЯ</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связи с этим уместно  привести высказывание Римского-Корсакова, имеющее принципиальный характер: «Что  касается до создания мелодий в народном духе, то несомненно, что таковые должны заключать в себе попевки и обороты, заключающиеся и разбросанные в различных подлинных народных мелодиях. Могут ли  две  вещи напоминать в целом одна другую, если ни одна составная часть первой не походит ни на одну составную часть второй? Спрашивается: если ни одна частица созданной мелодии не будет походить ни на одну частицу подлинной народной песни, то  может ли целое  напоминать собою народное творчество?».</a:t>
            </a:r>
            <a:endParaRPr b="0" lang="en-US" sz="2400" spc="-1" strike="noStrike">
              <a:solidFill>
                <a:srgbClr val="000000"/>
              </a:solidFill>
              <a:latin typeface="Arial"/>
            </a:endParaRPr>
          </a:p>
        </p:txBody>
      </p:sp>
    </p:spTree>
  </p:cSld>
  <p:transition>
    <p:blinds dir="vert"/>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учитель</cp:lastModifiedBy>
  <dcterms:modified xsi:type="dcterms:W3CDTF">2012-01-25T09:10:09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