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9EF-BFFE-4BA9-84C9-0E4BB8B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E8D-592F-44C8-B665-097A01F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880-68A3-417A-BD91-01160D6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FCE-3CDB-4CA5-A3D0-53EF8E9B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8AF-6DD9-4904-9815-801F8160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477-C666-4229-8484-11566BC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F2C-4FA5-4C07-86AA-A8DBBB3A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48B8-2688-4743-BEA1-4839E5F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D445-EF35-442B-9B63-2E3A1B43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F783-0EE4-4C0C-8BCD-109A834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B84B-8839-40E8-B887-667EE2A6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5E6-252D-40E9-A537-E534FB04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87D-C5D5-4CA6-9DCF-A8ED049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37B-7F89-48B0-B991-A447832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E7B6-8C8A-4D6F-955F-662DC3B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2D5-313F-4025-A127-867037F8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460-8FB0-4ABF-99B4-706446AC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30C-CB31-4F43-92E7-14EB7EED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03C-3D6B-4EC3-B24D-14FA692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D50-2793-4A08-8515-28DE0C07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0DF-3259-47F8-A0E3-5772B36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123-5141-4A72-AD4C-1B07EDC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329-CE62-415C-A6D5-76477CA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318-0848-4525-8707-FD8422F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D7DB-3786-417E-92D0-5A025231AF0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842E-26C5-46E6-A236-F5D09161CC8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Картинка 65 из 189"/>
          <p:cNvPicPr/>
          <p:nvPr/>
        </p:nvPicPr>
        <p:blipFill>
          <a:blip r:embed="rId1"/>
          <a:stretch/>
        </p:blipFill>
        <p:spPr>
          <a:xfrm>
            <a:off x="3780000" y="260280"/>
            <a:ext cx="2520720" cy="20322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0" name="WordArt 14"/>
          <p:cNvSpPr txBox="1"/>
          <p:nvPr/>
        </p:nvSpPr>
        <p:spPr>
          <a:xfrm>
            <a:off x="1403280" y="2781360"/>
            <a:ext cx="712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Снятие мерок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и их запис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402000"/>
                </a:solidFill>
                <a:latin typeface="Times New Roman"/>
              </a:rPr>
              <a:t>Чем отличаются детали чертежа фартука?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Times New Roman"/>
              </a:rPr>
              <a:t>Назовите отрезок на чертеже, который                     соответствует линии талии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Times New Roman"/>
              </a:rPr>
              <a:t>Почему чертеж построен на                                                          половину  фигуры?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Times New Roman"/>
              </a:rPr>
              <a:t>Назовите отрезок на                                                                     чертеже, который                                                                                    соответствует линии                                                                           бока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Чтение чертеж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2411280" y="263700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Text Box 80"/>
          <p:cNvSpPr/>
          <p:nvPr/>
        </p:nvSpPr>
        <p:spPr>
          <a:xfrm>
            <a:off x="6012000" y="3141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Line 81"/>
          <p:cNvSpPr/>
          <p:nvPr/>
        </p:nvSpPr>
        <p:spPr>
          <a:xfrm>
            <a:off x="6299280" y="3500280"/>
            <a:ext cx="0" cy="2880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Line 82"/>
          <p:cNvSpPr/>
          <p:nvPr/>
        </p:nvSpPr>
        <p:spPr>
          <a:xfrm flipH="1">
            <a:off x="6298920" y="6380280"/>
            <a:ext cx="2089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Line 83"/>
          <p:cNvSpPr/>
          <p:nvPr/>
        </p:nvSpPr>
        <p:spPr>
          <a:xfrm>
            <a:off x="6299280" y="3500280"/>
            <a:ext cx="2089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Text Box 84"/>
          <p:cNvSpPr/>
          <p:nvPr/>
        </p:nvSpPr>
        <p:spPr>
          <a:xfrm>
            <a:off x="8459640" y="1771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Text Box 85"/>
          <p:cNvSpPr/>
          <p:nvPr/>
        </p:nvSpPr>
        <p:spPr>
          <a:xfrm>
            <a:off x="8388360" y="32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86"/>
          <p:cNvSpPr/>
          <p:nvPr/>
        </p:nvSpPr>
        <p:spPr>
          <a:xfrm>
            <a:off x="8388360" y="616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87"/>
          <p:cNvSpPr/>
          <p:nvPr/>
        </p:nvSpPr>
        <p:spPr>
          <a:xfrm>
            <a:off x="7380360" y="17715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В</a:t>
            </a:r>
            <a:r>
              <a:rPr b="0" i="1" lang="en-US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Text Box 88"/>
          <p:cNvSpPr/>
          <p:nvPr/>
        </p:nvSpPr>
        <p:spPr>
          <a:xfrm>
            <a:off x="7091280" y="3139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Line 89"/>
          <p:cNvSpPr/>
          <p:nvPr/>
        </p:nvSpPr>
        <p:spPr>
          <a:xfrm>
            <a:off x="7812000" y="191628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Line 90"/>
          <p:cNvSpPr/>
          <p:nvPr/>
        </p:nvSpPr>
        <p:spPr>
          <a:xfrm flipH="1">
            <a:off x="7667280" y="1916280"/>
            <a:ext cx="144360" cy="1584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Text Box 91"/>
          <p:cNvSpPr/>
          <p:nvPr/>
        </p:nvSpPr>
        <p:spPr>
          <a:xfrm>
            <a:off x="5867280" y="6237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Н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Text Box 92"/>
          <p:cNvSpPr/>
          <p:nvPr/>
        </p:nvSpPr>
        <p:spPr>
          <a:xfrm>
            <a:off x="759636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К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Line 93"/>
          <p:cNvSpPr/>
          <p:nvPr/>
        </p:nvSpPr>
        <p:spPr>
          <a:xfrm>
            <a:off x="7740720" y="4076640"/>
            <a:ext cx="0" cy="1224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Line 94"/>
          <p:cNvSpPr/>
          <p:nvPr/>
        </p:nvSpPr>
        <p:spPr>
          <a:xfrm flipH="1">
            <a:off x="6515280" y="4076640"/>
            <a:ext cx="1225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Line 95"/>
          <p:cNvSpPr/>
          <p:nvPr/>
        </p:nvSpPr>
        <p:spPr>
          <a:xfrm flipH="1">
            <a:off x="6515280" y="5300640"/>
            <a:ext cx="1225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Line 96"/>
          <p:cNvSpPr/>
          <p:nvPr/>
        </p:nvSpPr>
        <p:spPr>
          <a:xfrm>
            <a:off x="6515280" y="4076640"/>
            <a:ext cx="0" cy="1224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Text Box 97"/>
          <p:cNvSpPr/>
          <p:nvPr/>
        </p:nvSpPr>
        <p:spPr>
          <a:xfrm>
            <a:off x="7667640" y="508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К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Text Box 98"/>
          <p:cNvSpPr/>
          <p:nvPr/>
        </p:nvSpPr>
        <p:spPr>
          <a:xfrm>
            <a:off x="629928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К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Text Box 99"/>
          <p:cNvSpPr/>
          <p:nvPr/>
        </p:nvSpPr>
        <p:spPr>
          <a:xfrm>
            <a:off x="6227640" y="52275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К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Rectangle 100"/>
          <p:cNvSpPr/>
          <p:nvPr/>
        </p:nvSpPr>
        <p:spPr>
          <a:xfrm>
            <a:off x="4211640" y="3789360"/>
            <a:ext cx="433440" cy="2521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01"/>
          <p:cNvSpPr/>
          <p:nvPr/>
        </p:nvSpPr>
        <p:spPr>
          <a:xfrm>
            <a:off x="5362560" y="3932280"/>
            <a:ext cx="431640" cy="2232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Text Box 102"/>
          <p:cNvSpPr/>
          <p:nvPr/>
        </p:nvSpPr>
        <p:spPr>
          <a:xfrm>
            <a:off x="4716360" y="35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Text Box 103"/>
          <p:cNvSpPr/>
          <p:nvPr/>
        </p:nvSpPr>
        <p:spPr>
          <a:xfrm>
            <a:off x="3708360" y="35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П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Text Box 104"/>
          <p:cNvSpPr/>
          <p:nvPr/>
        </p:nvSpPr>
        <p:spPr>
          <a:xfrm>
            <a:off x="4643280" y="6021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П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Text Box 105"/>
          <p:cNvSpPr/>
          <p:nvPr/>
        </p:nvSpPr>
        <p:spPr>
          <a:xfrm>
            <a:off x="3708360" y="6021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П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Text Box 106"/>
          <p:cNvSpPr/>
          <p:nvPr/>
        </p:nvSpPr>
        <p:spPr>
          <a:xfrm>
            <a:off x="5794200" y="3716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Text Box 107"/>
          <p:cNvSpPr/>
          <p:nvPr/>
        </p:nvSpPr>
        <p:spPr>
          <a:xfrm>
            <a:off x="4930920" y="3716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Б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Text Box 108"/>
          <p:cNvSpPr/>
          <p:nvPr/>
        </p:nvSpPr>
        <p:spPr>
          <a:xfrm>
            <a:off x="5722920" y="5877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Б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Text Box 109"/>
          <p:cNvSpPr/>
          <p:nvPr/>
        </p:nvSpPr>
        <p:spPr>
          <a:xfrm>
            <a:off x="4930920" y="5877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Б </a:t>
            </a:r>
            <a:r>
              <a:rPr b="1" i="1" lang="en-US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Line 110"/>
          <p:cNvSpPr/>
          <p:nvPr/>
        </p:nvSpPr>
        <p:spPr>
          <a:xfrm>
            <a:off x="8388360" y="1916280"/>
            <a:ext cx="0" cy="446400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Text Box 111"/>
          <p:cNvSpPr/>
          <p:nvPr/>
        </p:nvSpPr>
        <p:spPr>
          <a:xfrm>
            <a:off x="8172360" y="3068640"/>
            <a:ext cx="505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р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д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Text Box 112"/>
          <p:cNvSpPr/>
          <p:nvPr/>
        </p:nvSpPr>
        <p:spPr>
          <a:xfrm>
            <a:off x="6659640" y="5587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Нижняя част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Text Box 113"/>
          <p:cNvSpPr/>
          <p:nvPr/>
        </p:nvSpPr>
        <p:spPr>
          <a:xfrm>
            <a:off x="6659640" y="4508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Карман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Text Box 114"/>
          <p:cNvSpPr/>
          <p:nvPr/>
        </p:nvSpPr>
        <p:spPr>
          <a:xfrm>
            <a:off x="7380360" y="2492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Нагрудник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Text Box 115"/>
          <p:cNvSpPr/>
          <p:nvPr/>
        </p:nvSpPr>
        <p:spPr>
          <a:xfrm>
            <a:off x="4284720" y="414972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Пояс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Text Box 116"/>
          <p:cNvSpPr/>
          <p:nvPr/>
        </p:nvSpPr>
        <p:spPr>
          <a:xfrm>
            <a:off x="5435640" y="4076640"/>
            <a:ext cx="28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Бретел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http://school-sewing.narod.ru/kurs/bruk.h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http://masterskayaotanyutki.narod.ru/Polesno.htm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1619280" y="476280"/>
            <a:ext cx="63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Источники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 rot="180600">
            <a:off x="6156360" y="2636640"/>
            <a:ext cx="2467080" cy="376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Из каких деталей состоит фартук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Какие размеры надо знать, чтобы построить чертеж нагрудника? Нижней части фартука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По какому месту фигуры проходит                                                            пояс и  что надо обмерить для                                                          определения его  длины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Можно ли сделать бретели                                            одинаковой  длины  для всех                                             размеров, если они   шьются  в                                                    виде завязок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332000" y="476280"/>
            <a:ext cx="684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Актуализация  знаний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Изобрел в 1810 году французский портной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Изготавливается лента из полотна или клеенк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Длина – 150 см, ширина – 1,5-2 с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 концах ленты имеются металлические заклепки, предохраняющие ее от износ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Чтобы избежать неточност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при измерении, нужно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пользоваться одной  и той ж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сантиметровой лентой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332000" y="476280"/>
            <a:ext cx="712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Сантиметровая лен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96" name="Picture 5" descr="Картинка 40 из 189"/>
          <p:cNvPicPr/>
          <p:nvPr/>
        </p:nvPicPr>
        <p:blipFill>
          <a:blip r:embed="rId3"/>
          <a:stretch/>
        </p:blipFill>
        <p:spPr>
          <a:xfrm>
            <a:off x="1116000" y="4292640"/>
            <a:ext cx="3311640" cy="21859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Мерки снимают по правой стороне фигуры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Сначала снимают мерки обхватов, затем мерки длин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Стоять надо прямо без напря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Одежда должна быть легкой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Талию предварительно опоясать  шнур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При измерении сантиметровую ленту не                                натягивать и не ослабля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Мерки длины записывают полностью,                                       мерки ширины и обхватов в половинном размере, так как чертеж строят на половину фигуры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332000" y="476280"/>
            <a:ext cx="712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Правила снятия меро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99" name="Picture 5" descr="Картинка 143 из 189"/>
          <p:cNvPicPr/>
          <p:nvPr/>
        </p:nvPicPr>
        <p:blipFill>
          <a:blip r:embed="rId3"/>
          <a:stretch/>
        </p:blipFill>
        <p:spPr>
          <a:xfrm>
            <a:off x="7164360" y="2852640"/>
            <a:ext cx="1790640" cy="23814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Снятие меро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6000" y="1773360"/>
          <a:ext cx="7559640" cy="4765680"/>
        </p:xfrm>
        <a:graphic>
          <a:graphicData uri="http://schemas.openxmlformats.org/drawingml/2006/table">
            <a:tbl>
              <a:tblPr/>
              <a:tblGrid>
                <a:gridCol w="1635120"/>
                <a:gridCol w="858960"/>
                <a:gridCol w="641160"/>
                <a:gridCol w="1868400"/>
                <a:gridCol w="2556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звание мерок 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Усл.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боз.             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пр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равила снятия мерок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Длина нагрудника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н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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пределение длины нагрудника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т линии талии </a:t>
                      </a: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 через </a:t>
                      </a:r>
                      <a:r>
                        <a:rPr b="0" lang="el-GR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·</a:t>
                      </a: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1 до желаемой длины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Длина нижней части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нч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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пределение длины нижней части фартука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т линии талии</a:t>
                      </a: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 до желаемой длины,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олуобхват талии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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пределение длины пояса   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Гориз-но вокруг   туловища через </a:t>
                      </a:r>
                      <a:r>
                        <a:rPr b="0" lang="el-GR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·</a:t>
                      </a: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2 на полном выдохе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олуобхват бедер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б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Wingdings 3"/>
                          <a:ea typeface="Wingdings 3"/>
                        </a:rPr>
                        <a:t>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определение  ширины н. части фартука     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горизонтально вокруг   туловища через </a:t>
                      </a:r>
                      <a:r>
                        <a:rPr b="0" lang="el-GR" sz="2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·</a:t>
                      </a:r>
                      <a:r>
                        <a:rPr b="0" lang="ru-R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76720" y="2204640"/>
            <a:ext cx="54720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Чертеж строится только на половину фигуры, так как вторая половина такая же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ерки обхватов записывают в половинном размере и называют «полуобхват». Условно обозначают буквой «С» (половина от буквы «О»)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ерки длин записывают полностью и обозначают буквой «Д»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Снятие меро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195640" y="28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4"/>
          <a:stretch/>
        </p:blipFill>
        <p:spPr>
          <a:xfrm>
            <a:off x="1476360" y="1773360"/>
            <a:ext cx="800280" cy="478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1332000" y="1773360"/>
            <a:ext cx="1514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514160" cy="47624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Снятие меро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11640" y="364500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284720" y="364500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4836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луобхват талии   </a:t>
            </a:r>
            <a:r>
              <a:rPr b="0" lang="ru-RU" sz="2400" spc="-1" strike="noStrike">
                <a:solidFill>
                  <a:srgbClr val="cd3333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4140360" y="414972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332000" y="3933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3333"/>
                </a:solidFill>
                <a:latin typeface="Times New Roman"/>
              </a:rPr>
              <a:t>Сб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Полуобхват бедер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 flipV="1">
            <a:off x="4427640" y="3213000"/>
            <a:ext cx="0" cy="4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116000" y="306864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cd3333"/>
                </a:solidFill>
                <a:latin typeface="Times New Roman"/>
              </a:rPr>
              <a:t>Дн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Длина нагрудник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427640" y="3645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788000" y="4724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Длина нижней части   </a:t>
            </a:r>
            <a:r>
              <a:rPr b="0" lang="ru-RU" sz="2400" spc="-1" strike="noStrike">
                <a:solidFill>
                  <a:srgbClr val="cd3333"/>
                </a:solidFill>
                <a:latin typeface="Times New Roman"/>
              </a:rPr>
              <a:t>Дн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Снятие мерок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актическая работа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«Снятие мерок и их запись»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т -                        Дн 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 -                        Днч 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0" name="Picture 9" descr="people082"/>
          <p:cNvPicPr/>
          <p:nvPr/>
        </p:nvPicPr>
        <p:blipFill>
          <a:blip r:embed="rId3"/>
          <a:stretch/>
        </p:blipFill>
        <p:spPr>
          <a:xfrm>
            <a:off x="6804000" y="1844640"/>
            <a:ext cx="1871640" cy="176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Картинка 27 из 189"/>
          <p:cNvPicPr/>
          <p:nvPr/>
        </p:nvPicPr>
        <p:blipFill>
          <a:blip r:embed="rId4"/>
          <a:stretch/>
        </p:blipFill>
        <p:spPr>
          <a:xfrm>
            <a:off x="6948360" y="4005360"/>
            <a:ext cx="16178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18"/>
          <p:cNvSpPr txBox="1"/>
          <p:nvPr/>
        </p:nvSpPr>
        <p:spPr>
          <a:xfrm>
            <a:off x="1258920" y="476280"/>
            <a:ext cx="712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Самостоятельная рабо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1332000" y="1844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Заполните графу таблицы, поставив буквы, соответствующие правильным ответам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332000" y="3068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7280" y="3284640"/>
          <a:ext cx="3456000" cy="2760480"/>
        </p:xfrm>
        <a:graphic>
          <a:graphicData uri="http://schemas.openxmlformats.org/drawingml/2006/table">
            <a:tbl>
              <a:tblPr/>
              <a:tblGrid>
                <a:gridCol w="1152720"/>
                <a:gridCol w="23032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Мерки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Их назначение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т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б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Дн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Днч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2"/>
          <p:cNvSpPr/>
          <p:nvPr/>
        </p:nvSpPr>
        <p:spPr>
          <a:xfrm>
            <a:off x="4932360" y="299736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Варианты ответа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 – определение длины нагрудник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Б – определение длины пояс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В – определение длины нижней части фартук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Г – определение ширины нижней части фартук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5:53:50Z</dcterms:created>
  <dc:creator>максимова</dc:creator>
  <dc:description/>
  <dc:language>en-US</dc:language>
  <cp:lastModifiedBy>Марина</cp:lastModifiedBy>
  <dcterms:modified xsi:type="dcterms:W3CDTF">2011-10-19T09:47:01Z</dcterms:modified>
  <cp:revision>38</cp:revision>
  <dc:subject/>
  <dc:title>Изобразительные средства языка</dc:title>
</cp:coreProperties>
</file>