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CB2-3BC7-4461-9E7D-48D1AE07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A70-62A9-4367-9B64-C5AE9D51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C34-3FC2-4D16-8299-DF1D267E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A0E-EE2A-4ECC-B062-AD01CDA6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044-262A-4512-A0D0-16C4E0EE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F74-AE61-4E66-9F78-AD288838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F94-B837-460E-B446-EE779967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682-CBFA-40AB-A1E6-2614C3FF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E26-32FB-49EF-9251-3686DEB6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A32-6299-4D37-B239-982507F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1CA-E4E9-4AC7-A062-F8A8D71B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4C1-A086-4328-89C3-D6820EC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B7E-AB12-45BE-A47B-82479AABCD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404640"/>
            <a:ext cx="7848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е русские писатели: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стор-летописец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.1.6 (стр.73 - 7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исхождение и жизнь Нестора до монашеского пострига неизвестны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70-х годах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века стал монахом Киево-Печерского монастыря и вскоре получил диаконский с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писал труды о Борисе и Глебе и Феодосии Печерском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о главным делом его жизни было написание «Повести временных лет», составленного около 1113 года и не дошедшего до нашего време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еподобный Нестор погребен в Ближних пещерах Киево-Печерского монастыр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пишите значение следующих сло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к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ево-Печерская лав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ыполните тестовые зада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то из русских композиторов создавал хоровую церковную музы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йк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.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и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мский-Корс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С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ртня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казать имя знаменитого иконописца, чья икона «Троица» стала образцом для других мастеров-иконописцев, писавших иконы Тро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ипий Пече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он Уш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дрей Рубл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55640" y="0"/>
            <a:ext cx="7570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ановить соответствие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ежду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менами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второв и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х творен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341360"/>
          <a:ext cx="8785440" cy="5456160"/>
        </p:xfrm>
        <a:graphic>
          <a:graphicData uri="http://schemas.openxmlformats.org/drawingml/2006/table">
            <a:tbl>
              <a:tblPr/>
              <a:tblGrid>
                <a:gridCol w="2610000"/>
                <a:gridCol w="61754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.А. Т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кона Пресвятой Богородицы с Младенцем Спасителем и с предстоящими преподобными Антонием и Феодоси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пий Печер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кона «Троиц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тор Летопис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ам Христа Спас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.С. Бортнян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овесть временных лет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дрей Рубле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церт «Гласом моим ко Господу воззвах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362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казать имена знаменитых русских иконопис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ипий Пече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дрей Рубл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афим Сар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40:27Z</dcterms:created>
  <dc:creator>user</dc:creator>
  <dc:description/>
  <dc:language>en-US</dc:language>
  <cp:lastModifiedBy>user</cp:lastModifiedBy>
  <dcterms:modified xsi:type="dcterms:W3CDTF">2009-02-09T19:52:51Z</dcterms:modified>
  <cp:revision>2</cp:revision>
  <dc:subject/>
  <dc:title>Слайд 1</dc:title>
</cp:coreProperties>
</file>