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251-3688-4AAF-BAE3-88CB4F6E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FE6-5AFF-4673-99B9-E4FDCA03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B9E-0F4A-484A-99F5-0C3F74D7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171-A533-49B5-A7B4-EAEB599E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F64E-0245-47B8-A370-F8058E32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FAC0-C5FB-44F4-8B25-5670A6DB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9E9B-2F35-49CD-A766-2822EE61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9F3A-AC20-4C16-BFAF-5BA6A461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10F9-58A2-44CB-8208-F6EA3F04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431C-B7EA-4FB5-A2FF-49FCC911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6043-5826-40FE-AEB9-E399893E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1F6-5493-4D4D-8461-A46A93FF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82EC-A609-4AEB-A1A2-A78A3380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29A0-B8CE-4450-B184-FBF72B8D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137B-CD96-4A19-8562-043B8225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CB30-7531-4CA7-AC51-E12CAB47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2648-568C-4F88-934B-28258CB5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0C7-6C3A-42DD-8178-197FDE1F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253-8CAD-4163-98EC-C309C877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572-917C-40E6-997A-006611BB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578-6D5A-46F3-BA3D-C80EC611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D3D-459C-471C-BDBE-1ABBB945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71E-E2D0-40C5-8FFA-1880BD21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E52-3273-4FE5-8D7A-9B403D17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B730-B592-4F19-BFA0-AC6C98F24F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7680-A1BD-4935-A02A-0D5F9BD4D41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итаев Николай Алексеевич</a:t>
            </a:r>
            <a:br>
              <a:rPr sz="4000"/>
            </a:br>
            <a:r>
              <a:rPr b="0" lang="ru-RU" sz="4000" spc="-1" strike="noStrike">
                <a:solidFill>
                  <a:srgbClr val="00b0f0"/>
                </a:solidFill>
                <a:latin typeface="Arial"/>
              </a:rPr>
              <a:t>Мастер производственного обучения (автодело</a:t>
            </a:r>
            <a:r>
              <a:rPr b="0" lang="ru-RU" sz="3200" spc="-1" strike="noStrike">
                <a:solidFill>
                  <a:srgbClr val="00b0f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МОУ Игримская средняя общеобразовательная 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школа №1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0" y="2643120"/>
            <a:ext cx="4357800" cy="4214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4357800" y="2643120"/>
            <a:ext cx="47862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ХОД УРО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Прямоугольник 105"/>
          <p:cNvSpPr/>
          <p:nvPr/>
        </p:nvSpPr>
        <p:spPr>
          <a:xfrm>
            <a:off x="1428840" y="1000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Arial"/>
              </a:rPr>
              <a:t>3. Актуализация зна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214200" y="1500120"/>
            <a:ext cx="8501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c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Заслушиваю сообщение учащегося о домашнем задании – повторение темы «начало движения, трогание  автомобиля с места» и его анализ собственных ошиб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Заслушиваю, а при необходимости объясняю, в чём разница и какие субъективные ощущения возникают у водителя  при движении задним ходом и что надо делать, чтобы это не создавало дискомфортные условия управления автомобил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ХОД УРО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428760" y="57168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66"/>
                </a:solidFill>
                <a:latin typeface="Arial"/>
              </a:rPr>
              <a:t>4. Изучение нового материала, его места в системе знаний учащихся, его осмысление и обобщ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357120" y="1785960"/>
            <a:ext cx="8786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водное слово учителя: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изучение предыдущего материала показало вам,  что при управлении автомобилем у водителя  в различных, но порой схожих ситуациях, возникает необходимость ставить автомобиль на стоянку определённым образом. В том числе и с применением заднего хода .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ы сегодня в основном  сконцентрируем внимание на въезде автомобиля задним ходом  в бокс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,  рассмотрим технику исполнения, возможные и индивидуальные ошибки, допускаемые про выполнении этого упражнения и конечно же научимся его выполня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66"/>
                </a:solidFill>
                <a:latin typeface="Arial"/>
              </a:rPr>
              <a:t>ХОД УРОКА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14200" y="500040"/>
            <a:ext cx="8501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вод очевиде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тобы стать профессиональным водителем категории «С»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 необходимо в совершенстве овладеть навыками управления автомобилем в различных дорожных условиях.                                                    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Напомню, что навык- это определённый алгоритм действий доведённый до автоматизма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.                                                                   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Разучиваемое сегодня упражнение позволит  без особого напряжения при управлении автомобилем совершать следующие действия: ставить автомобиль в гараж на стоянку, припарковаться на стоянке, когда дополнительная табличка (8.6.4) указывает, что  на стоянку необходимо поставить автомобиль именно так, а не как иначе, и в совершенстве выполнять аналогичные маневры в случае необходимости всегда, когда в этом будет возникать необход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928800"/>
            <a:ext cx="9144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пражнение №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ЪЕЗД В БОК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Picture 4" descr="image056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одержание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64296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ъезд в бокс задним ход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Задание курсан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1.Занять место в ТС, подготовится к движению, запустить ДВ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2.Тронуться с места в стартовых ворот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3.Въез в бокс по заданной траекто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33"/>
                </a:solidFill>
                <a:latin typeface="Arial"/>
              </a:rPr>
              <a:t>4.Останавиться перед линией «СТОП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66"/>
                </a:solidFill>
                <a:latin typeface="Arial"/>
              </a:rPr>
              <a:t>Типичные ошибк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500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РУБ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бил элементы разметочного оборудования или пересёк горизонтальной разметки площад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пересёк линию «СТОП» ( по проекции переднего габарита Т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РЕД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Не смог въехать в бокс  при одноразовом включении задней перед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Arial"/>
              </a:rPr>
              <a:t>Не включил нейтральную передачу  после остановки при работающем ДВ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Arial"/>
              </a:rPr>
              <a:t>Не включил стояночный тормоз после остановки перед линией «СТОП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МЕЛ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 выполнении упражнения ДВС загло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5. Закрепление и проверка </a:t>
            </a:r>
            <a:r>
              <a:rPr b="1" lang="ru-RU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РЕЗУЛЬТАТОВ</a:t>
            </a:r>
            <a:r>
              <a:rPr b="1" lang="ru-RU" sz="4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 работы на уроке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835200" y="1928880"/>
            <a:ext cx="761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Пояснение:                                         </a:t>
            </a:r>
            <a:r>
              <a:rPr b="1" i="1" lang="ru-RU" sz="3600" spc="-1" strike="noStrike">
                <a:solidFill>
                  <a:srgbClr val="99ff33"/>
                </a:solidFill>
                <a:latin typeface="Arial"/>
              </a:rPr>
              <a:t>контрольное самостоятельное выполнение упражнения. Общение с курсантом  по рации. Главные критерии - правильный алгоритм действий и отсутствие средних и грубых ошиб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3429000" y="3286080"/>
            <a:ext cx="29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6. Итоги урока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500040" y="428760"/>
            <a:ext cx="84297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Arial"/>
              </a:rPr>
              <a:t>Сегодня мы с тобой  изучили  тему                               </a:t>
            </a:r>
            <a:r>
              <a:rPr b="1" lang="ru-RU" sz="2400" spc="-1" strike="noStrike">
                <a:solidFill>
                  <a:srgbClr val="fc0427"/>
                </a:solidFill>
                <a:latin typeface="Arial"/>
              </a:rPr>
              <a:t>«ВЪЕЗД В БОКС»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                                                             Ты вспомнил что мы изучали на прошлом занятии и лишний раз убедился, что выполнить новое упражнение гораздо легче если был хорошо усвоен предыдущий материал. Условно наши уроки можно сравнить с лестницей, каждая ступенька которой ведёт тебя к твоей цели – получение водительского удостоверения категории «С» . Сегодня ты сделал очередной успешный шаг и преодолел ещё одну ступеньку  наверх. </a:t>
            </a:r>
            <a:r>
              <a:rPr b="1" lang="ru-RU" sz="2400" spc="-1" strike="noStrike">
                <a:solidFill>
                  <a:srgbClr val="66ff66"/>
                </a:solidFill>
                <a:latin typeface="Arial"/>
              </a:rPr>
              <a:t>Ты показал заинтересованное отношение к предмету, а это верный показатель того, что из тебя получится хорошие специалист.                   Сегодня ты был  </a:t>
            </a:r>
            <a:r>
              <a:rPr b="1" i="1" lang="ru-RU" sz="48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Arial"/>
              </a:rPr>
              <a:t>7. Задание на дом и инструктаж по его выполнению: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428760" y="1071720"/>
            <a:ext cx="871524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Arial"/>
              </a:rPr>
              <a:t>учащихся выполняет самоанализ занятия по данному упражнению. В нём необходимо раскрыть следующие вопрос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Есть ли связь данного упражнения с предыдущими упражнения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акие ошибки ты больше не допускаешь при вождении автомобил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Какие трудности вызывает у тебя  вождение автомобиля на задней передач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Дома необходимо порядок выполнения упражнения  несколько раз «проговорить» про себя с целью запоминания  последовательности выполнения  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4396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57120" y="928800"/>
            <a:ext cx="878688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66"/>
                </a:solidFill>
                <a:latin typeface="Arial"/>
              </a:rPr>
              <a:t>Китаев Николай Алексеевич</a:t>
            </a:r>
            <a:br>
              <a:rPr sz="3200"/>
            </a:br>
            <a:r>
              <a:rPr b="1" i="1" lang="ru-RU" sz="2800" spc="-1" strike="noStrike">
                <a:solidFill>
                  <a:srgbClr val="00b0f0"/>
                </a:solidFill>
                <a:latin typeface="Arial"/>
              </a:rPr>
              <a:t>Мастер производственного обучения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 (автодело)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У Игримская средняя общеобразовательная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школа №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428760" y="3000240"/>
            <a:ext cx="84294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29040" y="-360"/>
            <a:ext cx="5214960" cy="328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Тема урока </a:t>
            </a:r>
            <a:br>
              <a:rPr sz="5400"/>
            </a:br>
            <a:r>
              <a:rPr b="1" i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Въезд в бокс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428720" y="2571840"/>
            <a:ext cx="47149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Въезд в бокс задним ходом</a:t>
            </a:r>
            <a:r>
              <a:rPr b="1" lang="ru-RU" sz="3600" spc="-1" strike="noStrike">
                <a:solidFill>
                  <a:srgbClr val="ff99ff"/>
                </a:solidFill>
                <a:latin typeface="Arial"/>
              </a:rPr>
              <a:t> грузового автомобиля                                  </a:t>
            </a:r>
            <a:r>
              <a:rPr b="1" lang="ru-RU" sz="3600" spc="-1" strike="noStrike">
                <a:solidFill>
                  <a:srgbClr val="66ff66"/>
                </a:solidFill>
                <a:latin typeface="Arial"/>
              </a:rPr>
              <a:t>11класс 2-й год обуч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179280" y="5969160"/>
            <a:ext cx="6572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400032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712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b050"/>
                </a:solidFill>
                <a:uFillTx/>
                <a:latin typeface="Arial"/>
              </a:rPr>
              <a:t>Цели</a:t>
            </a:r>
            <a:r>
              <a:rPr b="0" i="1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Сф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рмировать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у учащихся понимание сущности такого  действия как техника руления автомобилем при движении задним ходом 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звить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умение  правильного пространственного  ориентирования при  управлении автомобилем задним ходом, «чувство габаритов» автомобил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 соизмерения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скорости  движения, обзорности и безопасности движения</a:t>
            </a:r>
            <a:br>
              <a:rPr sz="2000"/>
            </a:b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Задачи</a:t>
            </a:r>
            <a:br>
              <a:rPr sz="2000"/>
            </a:br>
            <a:r>
              <a:rPr b="0" i="1" lang="ru-RU" sz="2000" spc="-1" strike="noStrike">
                <a:solidFill>
                  <a:srgbClr val="99ff33"/>
                </a:solidFill>
                <a:latin typeface="Arial"/>
              </a:rPr>
              <a:t>Ознакомить  с упражнением</a:t>
            </a:r>
            <a:br>
              <a:rPr sz="2000"/>
            </a:br>
            <a:r>
              <a:rPr b="0" i="1" lang="ru-RU" sz="2000" spc="-1" strike="noStrike">
                <a:solidFill>
                  <a:srgbClr val="99ff33"/>
                </a:solidFill>
                <a:latin typeface="Arial"/>
              </a:rPr>
              <a:t> Ознакомить  курсанта с  порядком действий при выполнении упражнения   </a:t>
            </a:r>
            <a:br>
              <a:rPr sz="2000"/>
            </a:br>
            <a:r>
              <a:rPr b="0" i="1" lang="ru-RU" sz="2000" spc="-1" strike="noStrike">
                <a:solidFill>
                  <a:srgbClr val="99ff33"/>
                </a:solidFill>
                <a:latin typeface="Arial"/>
              </a:rPr>
              <a:t> Продемонстрировать заезд в бокс с акцентированием  внимания на каждом элементе упражнения</a:t>
            </a:r>
            <a:br>
              <a:rPr sz="2000"/>
            </a:br>
            <a:r>
              <a:rPr b="0" i="1" lang="ru-RU" sz="2000" spc="-1" strike="noStrike">
                <a:solidFill>
                  <a:srgbClr val="99ff33"/>
                </a:solidFill>
                <a:latin typeface="Arial"/>
              </a:rPr>
              <a:t>Заострить внимание курсанта на вопросах безопасности  для дорожного движения при выполнении данного упражнения</a:t>
            </a:r>
            <a:br>
              <a:rPr sz="2000"/>
            </a:br>
            <a:r>
              <a:rPr b="0" i="1" lang="ru-RU" sz="2000" spc="-1" strike="noStrike">
                <a:solidFill>
                  <a:srgbClr val="99ff33"/>
                </a:solidFill>
                <a:latin typeface="Arial"/>
              </a:rPr>
              <a:t>Объяснить необходимость приобретения данного  практического навыка для дальнейшего безопасного и комфортного управления транспортным средством</a:t>
            </a:r>
            <a:br>
              <a:rPr sz="2000"/>
            </a:b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</a:t>
            </a: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b050"/>
                </a:solidFill>
                <a:uFillTx/>
                <a:latin typeface="Arial"/>
              </a:rPr>
              <a:t>Тип урока комбинированный: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0" y="7142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Данный урок имеет несколько дидактических целей и включает в себя все задачи учебного процесса: повторение пройденного материала, изучение нового, его осмысление и анализ, а также закрепление, запоминание и применение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Наиболее эффективно его применение при изучении объемных тем, когда новый материал является логическим продолжением и развитием ранее полученной информации учащими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14200" y="478620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борудование и материа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33"/>
                </a:solidFill>
                <a:latin typeface="Arial"/>
              </a:rPr>
              <a:t>Автодром, учебный автомобиль, габаритные стойки, мультимедийный показ техники выполнения данного упраж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Приемы достижения цели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Разъяснение сути проблемы через эмоционально-образную сцену, создание и демонстрация средств наглядности, самостоятельный поиск, анализ и представление информации</a:t>
            </a:r>
            <a:br>
              <a:rPr sz="2400"/>
            </a:b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Межпредметные связи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Физика, законы механики, динамики, психологические основы управления  водителем транспортным средством, основы безопасного управления транспортным средством</a:t>
            </a:r>
            <a:br>
              <a:rPr sz="2400"/>
            </a:br>
            <a:br>
              <a:rPr sz="2400"/>
            </a:br>
            <a:r>
              <a:rPr b="1" i="1" lang="ru-RU" sz="2800" spc="-1" strike="noStrike" u="sng">
                <a:solidFill>
                  <a:srgbClr val="009900"/>
                </a:solidFill>
                <a:uFillTx/>
                <a:latin typeface="Arial"/>
              </a:rPr>
              <a:t>Данное упражнение изучается на втором году обучения  практическому  вождению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рактическое пособие по практическому вождению автомобиля</a:t>
            </a:r>
            <a:br>
              <a:rPr sz="24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0f0"/>
                </a:solidFill>
                <a:uFillTx/>
                <a:latin typeface="Arial"/>
              </a:rPr>
              <a:t>Структура урока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285840" y="642960"/>
            <a:ext cx="885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готовительный этап – постановка задач урока, проверка готовности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c0427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становление взаимосвязей между предшествующими темами и разделами и новым материа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c0427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верка домашнего зад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c0427"/>
                </a:solidFill>
                <a:latin typeface="Times New Roman"/>
                <a:ea typeface="Times New Roman"/>
              </a:rPr>
              <a:t>4.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зучение нового материала, его места в системе знаний учащихся, его осмысление и обобщ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c0427"/>
                </a:solidFill>
                <a:latin typeface="Times New Roman"/>
                <a:ea typeface="Times New Roman"/>
              </a:rPr>
              <a:t>5.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крепление и проверка результатов работы на уро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c0427"/>
                </a:solidFill>
                <a:latin typeface="Times New Roman"/>
                <a:ea typeface="Times New Roman"/>
              </a:rPr>
              <a:t>6.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ек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c0427"/>
                </a:solidFill>
                <a:latin typeface="Times New Roman"/>
                <a:ea typeface="Times New Roman"/>
              </a:rPr>
              <a:t>7.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 на дом и инструктаж по его выполн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42148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b0f0"/>
                </a:solidFill>
                <a:uFillTx/>
                <a:latin typeface="Arial"/>
              </a:rPr>
              <a:t>Формы организации познаватель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33"/>
                </a:solidFill>
                <a:latin typeface="Arial"/>
              </a:rPr>
              <a:t>Убеждение, внушение, беседа, лекция, дискуссия, метод примера, метод определения проблемы, поиск вариантов решения пробл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Методы,</a:t>
            </a:r>
            <a:r>
              <a:rPr b="1" i="1" lang="ru-RU" sz="4000" spc="-1" strike="noStrike" u="sng">
                <a:solidFill>
                  <a:srgbClr val="66ff66"/>
                </a:solidFill>
                <a:uFillTx/>
                <a:latin typeface="Arial"/>
              </a:rPr>
              <a:t> приемы работы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ловесные, наглядные, практические</a:t>
            </a:r>
            <a:br>
              <a:rPr sz="3200"/>
            </a:br>
            <a:r>
              <a:rPr b="1" lang="ru-RU" sz="3200" spc="-1" strike="noStrike">
                <a:solidFill>
                  <a:srgbClr val="66ff66"/>
                </a:solidFill>
                <a:latin typeface="Arial"/>
              </a:rPr>
              <a:t>формирование сознания личности;</a:t>
            </a:r>
            <a:br>
              <a:rPr sz="3200"/>
            </a:br>
            <a:r>
              <a:rPr b="1" lang="ru-RU" sz="3200" spc="-1" strike="noStrike">
                <a:solidFill>
                  <a:srgbClr val="66ff66"/>
                </a:solidFill>
                <a:latin typeface="Arial"/>
              </a:rPr>
              <a:t>создание комфортной морально-психологической обстановки и доверительных отношений,</a:t>
            </a:r>
            <a:br>
              <a:rPr sz="3200"/>
            </a:br>
            <a:r>
              <a:rPr b="1" lang="ru-RU" sz="3200" spc="-1" strike="noStrike">
                <a:solidFill>
                  <a:srgbClr val="66ff66"/>
                </a:solidFill>
                <a:latin typeface="Arial"/>
              </a:rPr>
              <a:t>стимулирования деятельности и поведен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ХОД УРО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285840" y="121428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1. Организационный момент – постановка целей и задач урока, проверка готовности учащего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ff33"/>
                </a:solidFill>
                <a:latin typeface="Arial"/>
              </a:rPr>
              <a:t>Встреча курсанта, заполнение журнала, сообщение темы уро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ХОД УРО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214200" y="1143000"/>
            <a:ext cx="857268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Arial"/>
              </a:rPr>
              <a:t>2.  Установление взаимосвязей между предшествующими темами,  разделами и новым материа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Упражнение «Заезд  в бокс»  является логическим продолжением  совершенствования техники управления автомобилем- это то упражнение которое органично включает в себя ранее изучение элементы и приёмы управления  и является продолжением изучения практического вождения автомобиля. Оно позволит в будущем при самостоятельном управлении автомобилем стать  полноправным и  профессиональным участником  дорожного дви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5:00:57Z</dcterms:created>
  <dc:creator>Фадеев</dc:creator>
  <dc:description/>
  <dc:language>en-US</dc:language>
  <cp:lastModifiedBy>*</cp:lastModifiedBy>
  <dcterms:modified xsi:type="dcterms:W3CDTF">2012-01-23T10:40:10Z</dcterms:modified>
  <cp:revision>216</cp:revision>
  <dc:subject/>
  <dc:title>Двигатель внутреннего сгор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10000000000001024140</vt:lpwstr>
  </property>
</Properties>
</file>