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C9D-A7DA-4ABC-B0EF-E050B3ED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7C6-6B41-459E-B336-C88E12B1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254-1E42-4A70-BB6F-6B34E57F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CC9-2729-43C9-A15C-C2C5234D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C2A3E-1530-46FD-BB16-708A2C3A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0621E-7EE7-4C88-B04A-3D273EC2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A22D5-1A5E-456B-AAD0-C9293748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5ECEF-1132-404B-B6D2-E6F8A4E0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25B2F-DBB5-47E8-BD76-4F1DF0E6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99570-99C7-452A-8E94-6456534C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B3872-A8E3-461E-B95C-EE8A0773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C1F-6127-4E5B-B6BB-FEAE9513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F8A43-33D0-4EC8-B60F-0C010BC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DA613-E77E-4BCC-9441-1F413A1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A6EA2-F3BE-4936-9076-4FECBA03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87232-572D-4B4A-A08F-A7DC25AD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EA5C7-CA7D-4449-B94A-F78E87EF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37E-D88D-46AA-BD04-78197BCD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24B-5550-4BE3-945D-81DE7D06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439-E577-4E5A-99C2-373D6FBB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719-1164-41C4-A617-55B746B6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380-5DC3-4595-BFF9-F4031F4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DB4-8FB6-4668-A313-2A7FC30F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EB2-B168-4CE7-B215-8F67A4BB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D879-3FBC-4225-98CE-78EDBD5C39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2C17-7F8D-4BB6-ABCE-C8BF914556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484360" y="4221000"/>
            <a:ext cx="5614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тицы зимо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8000" y="404640"/>
            <a:ext cx="6985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сти с севера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оробе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2951280" cy="252072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Это маленькая подвижная птичка с округлой головкой, короткой шеей</a:t>
            </a:r>
            <a:r>
              <a:rPr b="0" lang="en-US" sz="2000" spc="-1" strike="noStrike">
                <a:solidFill>
                  <a:srgbClr val="000074"/>
                </a:solidFill>
                <a:latin typeface="Times New Roman"/>
              </a:rPr>
              <a:t>,  В</a:t>
            </a: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 холодную пору птицы сидят, плотно прижавшись друг к другу, нахохливши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907920"/>
            <a:ext cx="4933800" cy="347040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55640" y="4643640"/>
            <a:ext cx="7777080" cy="16185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Воробьи спокойно переносят холод. Когда им холодно, они прячут одну лапку в пушистое оперение своего брюшка, а на другой ноге стоят. Чаще воробьи сидят, прижавшись друг к другу, нахохлившись. Воробьи чистоплотные, постоянно охорашиваются, охотно купаются зимой в сне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4824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иниц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887640" cy="172728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Это красивая птица. У нее на голове черная шапочка, щеки белые, на горле черная полоса -галстучек, крылья и хвост серые, спина желто-зеленая, а брюшко - желт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3760920" cy="609300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39640" y="4023000"/>
            <a:ext cx="3816360" cy="222840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Синицы очень подвижные птицы. Перепархивая с ветки на ветку, они подвешиваются к ним вниз головой, качаются, держатся на самых тонких веточках. В этом им помогают их длинные и острые ког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262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ятел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3241440" cy="21603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8"/>
                </a:solidFill>
                <a:latin typeface="Times New Roman"/>
              </a:rPr>
              <a:t>У этой птицы красивое пестрое оперение: верх тела - черный, на голове и шее белые пятна, на сложенных крыльях белые полосы, подхвостье и темя красные. Клюв прочный и остр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780000" cy="290196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292720" y="3446280"/>
            <a:ext cx="3564000" cy="31431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В наших лесах чаще всего встречается большой пестрый дятел. Он - украшение нашего леса. Дятел - труженик. Расклюет дятел в своей «кузнице» шишку и летит за новой. Нередко стайки синичек и других маленьких птичек летают вслед за дят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3241800" cy="314496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520" y="-360"/>
            <a:ext cx="4182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лёст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384720" cy="136872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8"/>
                </a:solidFill>
                <a:latin typeface="Times New Roman"/>
              </a:rPr>
              <a:t>Это небольшая птичка красного цвета, с цепкими лапками и характерным крестообразным клювом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968640" cy="378612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9640" y="4310280"/>
            <a:ext cx="8136000" cy="222840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Клестов называют «северными попугайчиками». Такое прозвище они получили за то, искусно лазают по деревьям. Клюв у клеста имеет особую форму: верхняя и нижняя части изогнуты в разные стороны. Клесты срывают спелые шишки и, усевшись на ветку, придерживают шишку цепкими ноготками, достают из нее семена. Клесты единственные птицы, которые зимой выводят птенцов, даже при 28 градусах мо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3174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негир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3313080" cy="23763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8"/>
                </a:solidFill>
                <a:latin typeface="Times New Roman"/>
              </a:rPr>
              <a:t>У этой птицы верх головы, крылья, хвост - черные; спина голубовато-серая, а брюшко -красное. Клюв короткий, толстый, конической формы, черного цв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281480" cy="428148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826920" y="4815000"/>
            <a:ext cx="7790040" cy="16185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Снегири - нарядные птицы. Самцы красно­грудые, а у самочек наряд более скромный. Снегири держатся обычно небольшими стайками (7—10 птичек). Чем сильнее мороз, тем спокойнее сидит стайка, изредка передвигаясь, чтобы сорвать ягодку. С приходом темноты вся стайка улетает на кусты или деревья, где и ноч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5904000" cy="15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виристель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3313080" cy="345600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Питаются зимой ягодами рябины, глотая их целик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В распространении семян состоит полезная роль свиристелей в жизни л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967200" cy="431964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Загадки о птица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4738680" cy="4151520"/>
          </a:xfrm>
          <a:prstGeom prst="rect">
            <a:avLst/>
          </a:prstGeom>
          <a:solidFill>
            <a:srgbClr val="afd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Кто там прыгает, шурш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Клювом шишки тормошит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(клёс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Чернокрылый, красногруд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И зимой найдёт при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Не боится он прост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-С первым снегом тут как тут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58"/>
                </a:solidFill>
                <a:latin typeface="Times New Roman"/>
              </a:rPr>
              <a:t>(снегир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9:14Z</dcterms:created>
  <dc:creator>User</dc:creator>
  <dc:description/>
  <dc:language>en-US</dc:language>
  <cp:lastModifiedBy>User</cp:lastModifiedBy>
  <dcterms:modified xsi:type="dcterms:W3CDTF">2008-01-20T20:21:56Z</dcterms:modified>
  <cp:revision>5</cp:revision>
  <dc:subject/>
  <dc:title>Слайд 1</dc:title>
</cp:coreProperties>
</file>