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4B03-70C9-44A5-8D71-C42ADE0D6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831D-679B-4E26-B1C3-D33F71A6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1DA1-3237-4AF4-AF2D-9EA817138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65A0-D49C-4952-BB13-0E0457789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3A1CE0-E709-4F46-AE71-298867109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DBD45-26FA-404D-A5D3-64B632BD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D2979A-7D2D-47C5-ACA5-646FCC10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05B91-AB1F-4D27-AAE7-6E69BECE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02A181-8D0E-4AFA-99D7-0B92B4E2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EAEAF1-FEA8-4412-B80C-15075E03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16B3D4-7A75-42DB-B2C4-D2F989CA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5150-6409-4E3C-85BB-6264EBCB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9BDACB-4B87-4A44-ADCC-4B35578A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4761D2-5B0C-47FB-A04F-176D4BC3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C6BB9A-BC0A-4FC5-8642-4DD0A168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980627-871D-4EBB-B514-3CFA82ABD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748DC4-26E9-4ED3-B45E-4B758EA1E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EABC-616E-4E68-8540-B2072801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4EAF-4603-4A29-BE9B-1613CAD8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E4DD-24D9-4EAC-9649-B04FE1B0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8D48-462C-4C6B-827D-41B0CC38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4156-36A3-4812-B899-97F77266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309F-67B0-4150-A81D-2ED73D13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1CF3-144F-4BE8-8BE7-3E47F319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FF21-801C-40B9-8253-C6A8808B04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ldNum" idx="4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E663-2B59-4907-A6E8-4E752D1748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algn="ctr">
              <a:spcBef>
                <a:spcPts val="45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algn="ctr">
              <a:spcBef>
                <a:spcPts val="400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algn="ctr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484360" y="4221000"/>
            <a:ext cx="5614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тицы зимо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908000" y="404640"/>
            <a:ext cx="698508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ости с севера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Воробей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2951280" cy="2520720"/>
          </a:xfrm>
          <a:prstGeom prst="rect">
            <a:avLst/>
          </a:prstGeom>
          <a:solidFill>
            <a:srgbClr val="afdfff"/>
          </a:solidFill>
          <a:ln w="38160">
            <a:solidFill>
              <a:srgbClr val="000074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58"/>
                </a:solidFill>
                <a:latin typeface="Times New Roman"/>
              </a:rPr>
              <a:t>Это маленькая подвижная птичка с округлой головкой, короткой шеей</a:t>
            </a:r>
            <a:r>
              <a:rPr b="0" lang="en-US" sz="2000" spc="-1" strike="noStrike">
                <a:solidFill>
                  <a:srgbClr val="000074"/>
                </a:solidFill>
                <a:latin typeface="Times New Roman"/>
              </a:rPr>
              <a:t>,  В</a:t>
            </a:r>
            <a:r>
              <a:rPr b="0" lang="en-US" sz="2000" spc="-1" strike="noStrike">
                <a:solidFill>
                  <a:srgbClr val="000058"/>
                </a:solidFill>
                <a:latin typeface="Times New Roman"/>
              </a:rPr>
              <a:t> холодную пору птицы сидят, плотно прижавшись друг к другу, нахохлившис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851280" y="907920"/>
            <a:ext cx="4933800" cy="3470400"/>
          </a:xfrm>
          <a:prstGeom prst="rect">
            <a:avLst/>
          </a:prstGeom>
          <a:ln w="38160">
            <a:solidFill>
              <a:srgbClr val="000074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755640" y="4643640"/>
            <a:ext cx="7777080" cy="1618560"/>
          </a:xfrm>
          <a:prstGeom prst="rect">
            <a:avLst/>
          </a:prstGeom>
          <a:solidFill>
            <a:srgbClr val="afdfff"/>
          </a:solidFill>
          <a:ln w="38160">
            <a:solidFill>
              <a:srgbClr val="000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58"/>
                </a:solidFill>
                <a:latin typeface="Times New Roman"/>
              </a:rPr>
              <a:t>Воробьи спокойно переносят холод. Когда им холодно, они прячут одну лапку в пушистое оперение своего брюшка, а на другой ноге стоят. Чаще воробьи сидят, прижавшись друг к другу, нахохлившись. Воробьи чистоплотные, постоянно охорашиваются, охотно купаются зимой в сне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4824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Синица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3887640" cy="1727280"/>
          </a:xfrm>
          <a:prstGeom prst="rect">
            <a:avLst/>
          </a:prstGeom>
          <a:solidFill>
            <a:srgbClr val="afdfff"/>
          </a:solidFill>
          <a:ln w="38160">
            <a:solidFill>
              <a:srgbClr val="000074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58"/>
                </a:solidFill>
                <a:latin typeface="Times New Roman"/>
              </a:rPr>
              <a:t>Это красивая птица. У нее на голове черная шапочка, щеки белые, на горле черная полоса -галстучек, крылья и хвост серые, спина желто-зеленая, а брюшко - желто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932360" y="333360"/>
            <a:ext cx="3760920" cy="6093000"/>
          </a:xfrm>
          <a:prstGeom prst="rect">
            <a:avLst/>
          </a:prstGeom>
          <a:ln w="38160">
            <a:solidFill>
              <a:srgbClr val="000074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39640" y="4023000"/>
            <a:ext cx="3816360" cy="2228400"/>
          </a:xfrm>
          <a:prstGeom prst="rect">
            <a:avLst/>
          </a:prstGeom>
          <a:solidFill>
            <a:srgbClr val="afdfff"/>
          </a:solidFill>
          <a:ln w="38160">
            <a:solidFill>
              <a:srgbClr val="000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58"/>
                </a:solidFill>
                <a:latin typeface="Times New Roman"/>
              </a:rPr>
              <a:t>Синицы очень подвижные птицы. Перепархивая с ветки на ветку, они подвешиваются к ним вниз головой, качаются, держатся на самых тонких веточках. В этом им помогают их длинные и острые ког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526284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Дятел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1280" y="1052280"/>
            <a:ext cx="3241440" cy="2160360"/>
          </a:xfrm>
          <a:prstGeom prst="rect">
            <a:avLst/>
          </a:prstGeom>
          <a:solidFill>
            <a:srgbClr val="afdfff"/>
          </a:solidFill>
          <a:ln w="38160">
            <a:solidFill>
              <a:srgbClr val="000074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58"/>
                </a:solidFill>
                <a:latin typeface="Times New Roman"/>
              </a:rPr>
              <a:t>У этой птицы красивое пестрое оперение: верх тела - черный, на голове и шее белые пятна, на сложенных крыльях белые полосы, подхвостье и темя красные. Клюв прочный и остры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932360" y="260280"/>
            <a:ext cx="3780000" cy="2901960"/>
          </a:xfrm>
          <a:prstGeom prst="rect">
            <a:avLst/>
          </a:prstGeom>
          <a:ln w="38160">
            <a:solidFill>
              <a:srgbClr val="000074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5292720" y="3446280"/>
            <a:ext cx="3564000" cy="3143160"/>
          </a:xfrm>
          <a:prstGeom prst="rect">
            <a:avLst/>
          </a:prstGeom>
          <a:solidFill>
            <a:srgbClr val="afdfff"/>
          </a:solidFill>
          <a:ln w="38160">
            <a:solidFill>
              <a:srgbClr val="000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58"/>
                </a:solidFill>
                <a:latin typeface="Times New Roman"/>
              </a:rPr>
              <a:t>В наших лесах чаще всего встречается большой пестрый дятел. Он - украшение нашего леса. Дятел - труженик. Расклюет дятел в своей «кузнице» шишку и летит за новой. Нередко стайки синичек и других маленьких птичек летают вслед за дят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042920" y="3429000"/>
            <a:ext cx="3241800" cy="3144960"/>
          </a:xfrm>
          <a:prstGeom prst="rect">
            <a:avLst/>
          </a:prstGeom>
          <a:ln w="38160">
            <a:solidFill>
              <a:srgbClr val="00007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17520" y="-360"/>
            <a:ext cx="418284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лёст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3384720" cy="1368720"/>
          </a:xfrm>
          <a:prstGeom prst="rect">
            <a:avLst/>
          </a:prstGeom>
          <a:solidFill>
            <a:srgbClr val="afdfff"/>
          </a:solidFill>
          <a:ln w="38160">
            <a:solidFill>
              <a:srgbClr val="000074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58"/>
                </a:solidFill>
                <a:latin typeface="Times New Roman"/>
              </a:rPr>
              <a:t>Это небольшая птичка красного цвета, с цепкими лапками и характерным крестообразным клювом</a:t>
            </a:r>
            <a:r>
              <a:rPr b="0" lang="en-US" sz="2400" spc="-1" strike="noStrike">
                <a:solidFill>
                  <a:srgbClr val="000058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859280" y="260280"/>
            <a:ext cx="3968640" cy="3786120"/>
          </a:xfrm>
          <a:prstGeom prst="rect">
            <a:avLst/>
          </a:prstGeom>
          <a:ln w="38160">
            <a:solidFill>
              <a:srgbClr val="000074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539640" y="4310280"/>
            <a:ext cx="8136000" cy="2228400"/>
          </a:xfrm>
          <a:prstGeom prst="rect">
            <a:avLst/>
          </a:prstGeom>
          <a:solidFill>
            <a:srgbClr val="afdfff"/>
          </a:solidFill>
          <a:ln w="38160">
            <a:solidFill>
              <a:srgbClr val="000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58"/>
                </a:solidFill>
                <a:latin typeface="Times New Roman"/>
              </a:rPr>
              <a:t>Клестов называют «северными попугайчиками». Такое прозвище они получили за то, искусно лазают по деревьям. Клюв у клеста имеет особую форму: верхняя и нижняя части изогнуты в разные стороны. Клесты срывают спелые шишки и, усевшись на ветку, придерживают шишку цепкими ноготками, достают из нее семена. Клесты единственные птицы, которые зимой выводят птенцов, даже при 28 градусах моро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317484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Снегирь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3313080" cy="2376360"/>
          </a:xfrm>
          <a:prstGeom prst="rect">
            <a:avLst/>
          </a:prstGeom>
          <a:solidFill>
            <a:srgbClr val="afdfff"/>
          </a:solidFill>
          <a:ln w="38160">
            <a:solidFill>
              <a:srgbClr val="000074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58"/>
                </a:solidFill>
                <a:latin typeface="Times New Roman"/>
              </a:rPr>
              <a:t>У этой птицы верх головы, крылья, хвост - черные; спина голубовато-серая, а брюшко -красное. Клюв короткий, толстый, конической формы, черного цве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00720" y="333360"/>
            <a:ext cx="4281480" cy="4281480"/>
          </a:xfrm>
          <a:prstGeom prst="rect">
            <a:avLst/>
          </a:prstGeom>
          <a:ln w="38160">
            <a:solidFill>
              <a:srgbClr val="000074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826920" y="4815000"/>
            <a:ext cx="7790040" cy="1618560"/>
          </a:xfrm>
          <a:prstGeom prst="rect">
            <a:avLst/>
          </a:prstGeom>
          <a:solidFill>
            <a:srgbClr val="afdfff"/>
          </a:solidFill>
          <a:ln w="38160">
            <a:solidFill>
              <a:srgbClr val="000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58"/>
                </a:solidFill>
                <a:latin typeface="Times New Roman"/>
              </a:rPr>
              <a:t>Снегири - нарядные птицы. Самцы красно­грудые, а у самочек наряд более скромный. Снегири держатся обычно небольшими стайками (7—10 птичек). Чем сильнее мороз, тем спокойнее сидит стайка, изредка передвигаясь, чтобы сорвать ягодку. С приходом темноты вся стайка улетает на кусты или деревья, где и ночу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5904000" cy="15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Свиристель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58560" y="1557360"/>
            <a:ext cx="3313080" cy="3456000"/>
          </a:xfrm>
          <a:prstGeom prst="rect">
            <a:avLst/>
          </a:prstGeom>
          <a:solidFill>
            <a:srgbClr val="afdfff"/>
          </a:solidFill>
          <a:ln w="38160">
            <a:solidFill>
              <a:srgbClr val="000074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8"/>
                </a:solidFill>
                <a:latin typeface="Times New Roman"/>
              </a:rPr>
              <a:t>Питаются зимой ягодами рябины, глотая их целико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8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58"/>
                </a:solidFill>
                <a:latin typeface="Times New Roman"/>
              </a:rPr>
              <a:t>В распространении семян состоит полезная роль свиристелей в жизни ле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932360" y="765000"/>
            <a:ext cx="3967200" cy="4319640"/>
          </a:xfrm>
          <a:prstGeom prst="rect">
            <a:avLst/>
          </a:prstGeom>
          <a:ln w="38160">
            <a:solidFill>
              <a:srgbClr val="00007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Загадки о птицах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4738680" cy="4151520"/>
          </a:xfrm>
          <a:prstGeom prst="rect">
            <a:avLst/>
          </a:prstGeom>
          <a:solidFill>
            <a:srgbClr val="afd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8"/>
                </a:solidFill>
                <a:latin typeface="Times New Roman"/>
              </a:rPr>
              <a:t>Кто там прыгает, шурш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8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58"/>
                </a:solidFill>
                <a:latin typeface="Times New Roman"/>
              </a:rPr>
              <a:t>Клювом шишки тормошит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8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58"/>
                </a:solidFill>
                <a:latin typeface="Times New Roman"/>
              </a:rPr>
              <a:t>(клёс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8"/>
                </a:solidFill>
                <a:latin typeface="Times New Roman"/>
              </a:rPr>
              <a:t>Чернокрылый, красногруд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8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58"/>
                </a:solidFill>
                <a:latin typeface="Times New Roman"/>
              </a:rPr>
              <a:t>И зимой найдёт прию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8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58"/>
                </a:solidFill>
                <a:latin typeface="Times New Roman"/>
              </a:rPr>
              <a:t>Не боится он просту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8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58"/>
                </a:solidFill>
                <a:latin typeface="Times New Roman"/>
              </a:rPr>
              <a:t>-С первым снегом тут как тут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8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58"/>
                </a:solidFill>
                <a:latin typeface="Times New Roman"/>
              </a:rPr>
              <a:t>(снегирь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19:09:14Z</dcterms:created>
  <dc:creator>User</dc:creator>
  <dc:description/>
  <dc:language>en-US</dc:language>
  <cp:lastModifiedBy>User</cp:lastModifiedBy>
  <dcterms:modified xsi:type="dcterms:W3CDTF">2008-01-20T20:21:56Z</dcterms:modified>
  <cp:revision>5</cp:revision>
  <dc:subject/>
  <dc:title>Слайд 1</dc:title>
</cp:coreProperties>
</file>