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A16-E4E3-44F7-B8C2-54D8F808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0C2-C3A7-4675-9E4C-EB211305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943-F5CA-4832-9433-F0F943FE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C1C-6C19-4D22-BB21-F913A638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6F15C-B760-495B-BD33-57893D10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1DD1D-CC22-42B2-9D5C-6A6C3654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5B3AD-6AE3-4F06-83EB-DEBBF6D7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35CA4-2676-47B8-88D5-DAED7C78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6730B-06BD-4606-B573-86E51548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61F40-EAC5-4366-AB82-B3904FB6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35CE9-AB7C-451F-97A2-AFE46825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461-EE78-48FE-BB72-169237DB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C5BCB-803C-4227-8FD2-608C54B5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8CADD-E41D-4932-ABCA-31F50B0A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E5D2F-D2D3-4EA7-A429-75B3DBA3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0F0B3-8568-43B1-96D0-77BEC79C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87E21-4AD2-4EC1-8F45-7FFA8289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857-42AA-4644-9F27-E6159E2B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3C7-59E7-4627-A410-7B22799F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A42-CC40-4A36-9085-66EC793A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3C4-FF80-4A1A-9096-2B70A274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028-5C0D-4FC2-B89B-866121BD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CD9-88D2-47D9-8665-975A233C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6DB-8778-4031-AC39-4174C1FF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7971-B368-49D4-A4E8-07045E2A8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FA24-78CD-4391-A02A-162AAB6BA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raveltours.ru/spb/articles/countries/bulgaria/ny_bolg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raveltours.ru/spb/articles/countries/denmark/ny_dan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4462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ппликация «Ангел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392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арки на Новый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64000" y="981000"/>
            <a:ext cx="352764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7834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олландск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ребятишки получают в подарок на Новый год пакетики с пирожками и сладостями, которые, по преданию, кладут в их обувь волхвы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203640" cy="4005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042920" y="2565360"/>
            <a:ext cx="25941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77612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скимосы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ренланди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дарят друг другу на Новый год вырезанные изо льда фигурки моржей и белых медведей. Поскольку в Гренландии даже летом холодно, как у нас на Новый год, ледяные подарки хранятся очень-очень дол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835280" y="2997360"/>
            <a:ext cx="54622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7905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атча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главное - торжественность события, поэтому к подаркам они относятся не слишком серьезно, обычно дарят что-нибудь простенькое. При этом под елкой дети ничего не обнаружат, в поисках подарков им придется облазить весь дом или квартиру. Идя в гости, датчане обожают приносить с собой свечи разных размеров и форм. По статистике этот народ является самым активным потребителем свечей в ми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564000" y="3357720"/>
            <a:ext cx="48909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77612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рландце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на "подарочные" традиции большое влияние оказывают их религиозность и почитание института семьи. В этой стране принято дарить детям маленьких ангелочков и деревянные фигурки Иисуса и Ма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48360" y="2763720"/>
            <a:ext cx="3767040" cy="3578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9280" y="2781360"/>
            <a:ext cx="4802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58920" y="189000"/>
            <a:ext cx="6769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вый Г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самый загадочный праздник, открывающий нам мир добрых сказок и волшебства. Доверчивые малыши, деловитые подростки, серьезные взрослые и суеверные бабульки - все считают минуты до наступления праздника. Суетливые японцы, сдержанные англичане, горячие финны  - все встречают Новый год. Все ждут Деда Мороза, Санта Клауса и Юля Томтена, загадывают желания и дарят подарки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Болгар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- традиционно встречают Новый год дома. Перед началом праздника самый младший в доме стоит возле елки и распевает гостям колядки. В благодарность добрые дяди и тети дарят ему подарки. Самое интересное начинается с 12-ым ударом часов. В это время в домах на мгновение гаснет свет для новогодних поцелуев. Только после этого хозяйка начинает разрезать пирог с запеченными в нем сюрпризами. Если досталась монетка - жди богатства, веточка розы - любви. Такая же пирожно-сюрпризная традиция распространена в Румынии и Австрали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0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леньким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датчана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арят деревянную или плюшевую елочку с выглядывающим из-под зеленых лап троллем. Датчане верят, что лесной проказник - это воплощение души дерева. В полночь хозяйка подает на праздничный стол огромную миску сладкой рисовой каши с секретом. Особенность этой каши в том, что на дно миски запрятан орешек или миндаль. Эта традиция особенно нравится незамужним девушкам: если попадется орешек - на следующий год свадьбы не миновать. Всем остальным обещается просто счастливый новый год. Что само по себе тоже неплохо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принято дарить на Новый год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встрийц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едпочитают дарить на Новый год необходимые в обиходе вещи. Так как жизнь в Австрии довольно дорогая, большинство семей приурочивают к Новому году покупку красивой одежды или аксессуаров. Кроме практичных подарков, популярным новогодним презентом в этой стране является приглашение на праздничный вечер в знаменитой Венской опере. Подобные знаки внимания ценят и пожилые австрийцы, и молодежь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нгличан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читают неприемлемыми широкие жесты в подарках. Они никогда не выберут в качестве подарка на новогодний праздник какой-нибудь дорогой эксклюзивный сувенир или ювелирное украшение. Их любимые подарки – недорогие безделушки: брелоки для ключей, кружки для пива, ароматические свечи, симпатичные сувенирные куклы и замысловатые ложечки для заварки чая. Эти мелочи - признак их чистосердечия и привязанности к вам и вашему дом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16360" y="4076640"/>
            <a:ext cx="37767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446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мериканц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напротив, принадлежит пальма первенства по пристрастию к дорогим презентам. В среднем, американец тратит на подарки от 50 до 800$. Американцы дарят друг другу сигары, вина, духи, шарфы, кофты, безделушки. Подарки принято дарить с чеком. Чек нужен для того, чтобы при случае можно было вернуть подарок обратно в магазин. В первых числах января в магазинах наблюдаются большие очереди сдающих това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79548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ельгийц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подходят к выбору подарка не просто как к приятному времяпрепровождению, но как к ответственному мероприятию. Смысл подарка дарящий объясняет устно или на карточке, приложенной к нему, и выбор никогда не бывает случайным. Они всегда стараются подарить то, что действительно необходимо одариваемому, то, что ему пригодится.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енгр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любят дарить друг другу книги, теплые носки, санки. Дети же дарят старшим свои подел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7:21:08Z</dcterms:created>
  <dc:creator>Admin</dc:creator>
  <dc:description/>
  <dc:language>en-US</dc:language>
  <cp:lastModifiedBy>Admin</cp:lastModifiedBy>
  <dcterms:modified xsi:type="dcterms:W3CDTF">2010-12-13T18:32:46Z</dcterms:modified>
  <cp:revision>2</cp:revision>
  <dc:subject/>
  <dc:title>Аппликация «Ангел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60000000000010243100207f6000400038000</vt:lpwstr>
  </property>
</Properties>
</file>