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F7B-AE59-4FC1-818D-F8230438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FBA-5A1C-4D49-B9E6-733A321B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73C-D9A9-4AE2-B6B2-7AEC6705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942-DD6F-455B-8B13-428C4F73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2988-573C-428A-B6B2-28A71E61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47CA-F5FB-4C18-BED7-9066234C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D492-B63A-49FD-BC83-9F067EAA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C7D9-49DA-477E-B283-BA13EC13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2997-822B-493A-9B01-C5BC5817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FD4D-99DD-4A5F-96A5-06C36FFC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5EE1-1648-469F-984A-77B9ED0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420-0B01-4256-AA43-5B325468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D46A-D8D2-4B1B-B7D5-B7512106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31B9-D108-4594-A4E1-E782935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7F31-65B0-429A-8862-6CE72A2A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2B91-8BD5-4710-B705-77D97B9B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C55B-7C2E-4193-B619-287F0959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2510-A7E9-45C3-8158-CC5F96B6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0420-4043-427E-8D64-9515AAA1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02FF-FE90-4BCC-94CE-A42222F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80C7-339C-4BB0-8DF9-3FAFB646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917A-D154-4494-B3A5-8E75D855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571-3BF9-4907-9D59-9ED50BCA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2F00-A411-47A3-8777-9442CE20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438E-9685-4276-8C9C-0BB33F4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33C5-E6D8-46D1-B2E1-2EEB2834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1CFB-33EE-4B15-99BD-4941545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710D-68DF-431C-9B4C-5F11A84A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DD4D-CD21-4221-B7F4-F2939D94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E8BD-724D-46AC-A751-6395C148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D2AEB-4372-4229-9878-4827B889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2FB2-E907-4619-A4FD-4CEB536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E2F6A-B438-441B-89BB-FF46C239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0E0-D0B9-4EEB-B389-1F31B3B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108DF-6B58-4C24-A21D-B14368A7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3683-0225-4EB7-ADF0-49E7680E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33F0-8405-4B4D-BA1C-7F86E717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2BE5-CCF8-46A9-8853-D99CBC0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2AAC1-1499-4EEE-8471-9D722993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71DA3-8239-413E-8264-92EBB31B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0565-688F-4509-98E7-10227C9C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3997-B1DB-4DE5-9045-9365D8AD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29D8B-B79A-48E6-81FB-D4A8CC1A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AE5-E79E-422A-BCF1-BE428E35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6EE-C230-48C4-8DD1-D622E20F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25E-5844-4780-863D-26C0ABAC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3BD-B376-4E04-98A5-2DC3957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8B6-FBD9-4E61-8011-95476904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0544-27EE-497B-88C5-2B712B9D75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6346-C5B4-413E-A986-CC02BFF3BB7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86BD-4832-4303-8BB7-A02E207F373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BAF2-DCB7-4351-BD4D-FD6956EEB40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4040" y="14130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Ольга\Desktop\фото на мой сайт\DSCF0379.JPG"/>
          <p:cNvPicPr/>
          <p:nvPr/>
        </p:nvPicPr>
        <p:blipFill>
          <a:blip r:embed="rId1"/>
          <a:stretch/>
        </p:blipFill>
        <p:spPr>
          <a:xfrm>
            <a:off x="1908000" y="549360"/>
            <a:ext cx="514368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7:07:35Z</dcterms:created>
  <dc:creator>Ольга</dc:creator>
  <dc:description/>
  <dc:language>en-US</dc:language>
  <cp:lastModifiedBy>Ольга</cp:lastModifiedBy>
  <dcterms:modified xsi:type="dcterms:W3CDTF">2012-01-26T07:24:35Z</dcterms:modified>
  <cp:revision>2</cp:revision>
  <dc:subject/>
  <dc:title>Презентация PowerPoint</dc:title>
</cp:coreProperties>
</file>