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26.jpeg" ContentType="image/jpeg"/>
  <Override PartName="/ppt/media/image5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29.jpeg" ContentType="image/jpeg"/>
  <Override PartName="/ppt/media/image35.jpeg" ContentType="image/jpeg"/>
  <Override PartName="/ppt/media/image8.png" ContentType="image/png"/>
  <Override PartName="/ppt/media/image9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2DF-500D-4F40-97E2-9358F48B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D91-8190-4B7E-90E0-9110D530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497-ED75-47DF-92BD-58BC8612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155-44DB-4EF5-80A5-A06469C9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41D-75D8-484B-BFBF-F6D15339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8A7-EEE6-45A7-91CD-A0BF8152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E98-CDAB-407B-A15F-8ED44B5F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70F-2616-466C-A017-ABEF0ADA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629-CA47-46E9-B85C-DD336710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AA4-4071-4C1D-8A6C-9FA4ABB6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C31-478D-446C-B563-FDD4430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34F-8E03-4615-8118-7666532D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D2AA-41D9-4CBC-9F2D-2A86EC6E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0"/>
            <a:ext cx="80010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agneto"/>
              </a:rPr>
              <a:t>Путешествие</a:t>
            </a:r>
            <a:endParaRPr b="0" lang="en-US" sz="3200" spc="1" strike="noStrike">
              <a:ln w="2232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agneto"/>
              <a:ea typeface="Magnet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agneto"/>
              </a:rPr>
              <a:t> </a:t>
            </a:r>
            <a:r>
              <a:rPr b="0" lang="en-US" sz="32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agneto"/>
              </a:rPr>
              <a:t>в страну русских </a:t>
            </a:r>
            <a:endParaRPr b="0" lang="en-US" sz="3200" spc="1" strike="noStrike">
              <a:ln w="2232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agneto"/>
              <a:ea typeface="Magnet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agneto"/>
              </a:rPr>
              <a:t>народных инструментов</a:t>
            </a:r>
            <a:endParaRPr b="0" lang="en-US" sz="3200" spc="1" strike="noStrike">
              <a:ln w="2232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462400">
            <a:off x="304920" y="609480"/>
            <a:ext cx="1714320" cy="155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323600">
            <a:off x="7467480" y="456840"/>
            <a:ext cx="123840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9312800">
            <a:off x="3809880" y="5810040"/>
            <a:ext cx="171468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534520" y="63244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70160" y="152280"/>
            <a:ext cx="6107040" cy="624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20021400">
            <a:off x="-304200" y="29714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ЕМЕ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931400">
            <a:off x="6782040" y="914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ОМ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62080" y="0"/>
            <a:ext cx="6819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380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ЕМЕ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2514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АЛАЛА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1600200"/>
            <a:ext cx="2819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деревне нынче 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зднично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вится детвора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943600" y="4495680"/>
            <a:ext cx="3200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лышно балалаечку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 каждого двора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209680" y="2438280"/>
            <a:ext cx="4800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20889000">
            <a:off x="0" y="360360"/>
            <a:ext cx="3809880" cy="1630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20557800">
            <a:off x="152280" y="4299120"/>
            <a:ext cx="3200400" cy="1796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rot="2988600">
            <a:off x="6222960" y="3225960"/>
            <a:ext cx="1541520" cy="3471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 rot="20173200">
            <a:off x="5715000" y="352080"/>
            <a:ext cx="3200400" cy="1400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1880" y="6248520"/>
            <a:ext cx="381240" cy="4334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33440"/>
              <a:gd name="textAreaBottom" fmla="*/ 408960 h 433440"/>
            </a:gdLst>
            <a:ahLst/>
            <a:rect l="textAreaLeft" t="textAreaTop" r="textAreaRight" b="textAreaBottom"/>
            <a:pathLst>
              <a:path w="21600" h="24555">
                <a:moveTo>
                  <a:pt x="0" y="0"/>
                </a:moveTo>
                <a:lnTo>
                  <a:pt x="21600" y="0"/>
                </a:lnTo>
                <a:lnTo>
                  <a:pt x="21600" y="24555"/>
                </a:lnTo>
                <a:lnTo>
                  <a:pt x="0" y="24555"/>
                </a:lnTo>
                <a:close/>
              </a:path>
              <a:path fill="lightenLess" w="21600" h="245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55">
                <a:moveTo>
                  <a:pt x="21600" y="0"/>
                </a:moveTo>
                <a:lnTo>
                  <a:pt x="21600" y="24555"/>
                </a:lnTo>
                <a:lnTo>
                  <a:pt x="20200" y="23155"/>
                </a:lnTo>
                <a:lnTo>
                  <a:pt x="20200" y="1400"/>
                </a:lnTo>
                <a:close/>
              </a:path>
              <a:path fill="darkenLess" w="21600" h="24555">
                <a:moveTo>
                  <a:pt x="21600" y="24555"/>
                </a:moveTo>
                <a:lnTo>
                  <a:pt x="0" y="24555"/>
                </a:lnTo>
                <a:lnTo>
                  <a:pt x="1400" y="23155"/>
                </a:lnTo>
                <a:lnTo>
                  <a:pt x="20200" y="23155"/>
                </a:lnTo>
                <a:close/>
              </a:path>
              <a:path fill="lighten" w="21600" h="24555">
                <a:moveTo>
                  <a:pt x="0" y="245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55"/>
                </a:lnTo>
                <a:close/>
              </a:path>
              <a:path fill="darken" w="21600" h="24555">
                <a:moveTo>
                  <a:pt x="3794" y="12277"/>
                </a:moveTo>
                <a:lnTo>
                  <a:pt x="17806" y="5271"/>
                </a:lnTo>
                <a:lnTo>
                  <a:pt x="17806" y="192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 rot="20313600">
            <a:off x="3352680" y="4876920"/>
            <a:ext cx="17146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5280" y="685800"/>
            <a:ext cx="68580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крылечке я сиде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в свистулечку свисте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робей меня услыша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крылечко прилете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 сидел и он сиде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н чирикал я свисте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001000" cy="4878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981080" y="5791320"/>
            <a:ext cx="5639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алейк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52280"/>
            <a:ext cx="611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ес тихонько солнце 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Туман спустился на лужок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Жалейка жалобно запела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Грустит о чем-то пастушо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1960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09680" y="-3240"/>
            <a:ext cx="47800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85800" y="4191120"/>
            <a:ext cx="77724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играй, сыграй гармош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линовы мех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РКЕСТР РУССКИХ НАРОДНЫХ ИНСТР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530280"/>
            <a:ext cx="861048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09680" y="1752480"/>
            <a:ext cx="480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На какие три группы делятся все инстр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381880" y="617220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5694" y="10800"/>
                </a:moveTo>
                <a:lnTo>
                  <a:pt x="19707" y="3794"/>
                </a:lnTo>
                <a:lnTo>
                  <a:pt x="1970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106668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 КАКОЙ ГРУППЕ ИНСТРУМЕНТОВ ОТНОСИТСЯ   БА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514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ДАР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326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УХ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у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4191120"/>
            <a:ext cx="228600" cy="2286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352680"/>
            <a:ext cx="228600" cy="2286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590920"/>
            <a:ext cx="228600" cy="2286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12952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9907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акая группа инструментов самая древ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514600"/>
            <a:ext cx="228600" cy="2286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3200400"/>
            <a:ext cx="228600" cy="2286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5105520" y="4114800"/>
            <a:ext cx="228600" cy="2286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д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124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у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х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  <a:hlinkClick r:id="rId2" action="ppaction://hlinksldjump"/>
          </p:cNvPr>
          <p:cNvSpPr/>
          <p:nvPr/>
        </p:nvSpPr>
        <p:spPr>
          <a:xfrm>
            <a:off x="8458200" y="609588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0" y="1447920"/>
            <a:ext cx="91440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ь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8458200" y="617220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ше дудки, тише домр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свиданья, люди добр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молкает барабан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крываем балаган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2095560" cy="1074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620120" y="3886200"/>
            <a:ext cx="1419120" cy="10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400800" y="0"/>
            <a:ext cx="1905120" cy="106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0" y="3657600"/>
            <a:ext cx="16002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2414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457200"/>
            <a:ext cx="85345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льные инстр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3276720"/>
            <a:ext cx="304812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р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95480" y="5105520"/>
            <a:ext cx="3124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486400" y="327672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ун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143000" y="1752480"/>
            <a:ext cx="2743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19810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9051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0480" y="6248520"/>
            <a:ext cx="433440" cy="5094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9400"/>
              <a:gd name="textAreaBottom" fmla="*/ 481320 h 509400"/>
            </a:gdLst>
            <a:ahLst/>
            <a:rect l="textAreaLeft" t="textAreaTop" r="textAreaRight" b="textAreaBottom"/>
            <a:pathLst>
              <a:path w="21600" h="25382">
                <a:moveTo>
                  <a:pt x="0" y="0"/>
                </a:moveTo>
                <a:lnTo>
                  <a:pt x="21600" y="0"/>
                </a:lnTo>
                <a:lnTo>
                  <a:pt x="21600" y="25382"/>
                </a:lnTo>
                <a:lnTo>
                  <a:pt x="0" y="25382"/>
                </a:lnTo>
                <a:close/>
              </a:path>
              <a:path fill="lightenLess" w="21600" h="253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82">
                <a:moveTo>
                  <a:pt x="21600" y="0"/>
                </a:moveTo>
                <a:lnTo>
                  <a:pt x="21600" y="25382"/>
                </a:lnTo>
                <a:lnTo>
                  <a:pt x="20200" y="23982"/>
                </a:lnTo>
                <a:lnTo>
                  <a:pt x="20200" y="1400"/>
                </a:lnTo>
                <a:close/>
              </a:path>
              <a:path fill="darkenLess" w="21600" h="25382">
                <a:moveTo>
                  <a:pt x="21600" y="25382"/>
                </a:moveTo>
                <a:lnTo>
                  <a:pt x="0" y="25382"/>
                </a:lnTo>
                <a:lnTo>
                  <a:pt x="1400" y="23982"/>
                </a:lnTo>
                <a:lnTo>
                  <a:pt x="20200" y="23982"/>
                </a:lnTo>
                <a:close/>
              </a:path>
              <a:path fill="lighten" w="21600" h="25382">
                <a:moveTo>
                  <a:pt x="0" y="253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82"/>
                </a:lnTo>
                <a:close/>
              </a:path>
              <a:path fill="darken" w="21600" h="25382">
                <a:moveTo>
                  <a:pt x="3794" y="12691"/>
                </a:moveTo>
                <a:lnTo>
                  <a:pt x="17806" y="5685"/>
                </a:lnTo>
                <a:lnTo>
                  <a:pt x="17806" y="1969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30120"/>
            <a:ext cx="3124080" cy="182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1041000">
            <a:off x="6268680" y="378000"/>
            <a:ext cx="2228760" cy="2144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" y="4800600"/>
            <a:ext cx="2514600" cy="166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676520" y="2438280"/>
            <a:ext cx="54864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р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095880" y="4240080"/>
            <a:ext cx="289584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188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5694" y="10800"/>
                </a:moveTo>
                <a:lnTo>
                  <a:pt x="19707" y="3794"/>
                </a:lnTo>
                <a:lnTo>
                  <a:pt x="1970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95280" y="326880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458200" y="4191120"/>
            <a:ext cx="30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БАмБу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80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АСТАНЬ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28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АРАК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5791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ОРОБ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4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0054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133720" y="2286000"/>
            <a:ext cx="4572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ун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rot="19986600">
            <a:off x="380880" y="0"/>
            <a:ext cx="1746360" cy="2527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1188000">
            <a:off x="5643720" y="550440"/>
            <a:ext cx="2995560" cy="225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581280" y="3962520"/>
            <a:ext cx="1455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572000" cy="6705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rot="981600">
            <a:off x="7315200" y="838080"/>
            <a:ext cx="1380960" cy="1000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 rot="20788200">
            <a:off x="228600" y="761760"/>
            <a:ext cx="1714680" cy="866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 rot="20727000">
            <a:off x="228240" y="4343040"/>
            <a:ext cx="1752480" cy="1135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 rot="1365000">
            <a:off x="7009920" y="4343400"/>
            <a:ext cx="1714680" cy="1133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0" y="1905120"/>
            <a:ext cx="2514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льцы скоры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уны тонки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зываются гусли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онки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934320" y="1981080"/>
            <a:ext cx="20095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сня длинна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сня плавна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я былинна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родавня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37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</cp:lastModifiedBy>
  <dcterms:modified xsi:type="dcterms:W3CDTF">2004-01-18T21:36:4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