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209-6710-4242-9712-6B779B93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D07-82AF-47F8-AFE6-8554CC64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AD5-523D-4228-9E1D-5036A991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283-13A9-4F47-9722-BAEBDFEF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6960-E818-4194-9D45-6607F42A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4E0E-DD41-4305-AD81-76067B70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0B05-23ED-4DD9-9F3D-AC7C2D3D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C49A-E1B1-420B-B762-197CCECD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B607-31DE-4E31-962E-62819DF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981C-AD87-4AAA-95D9-DCF86E40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5067-30D4-488B-8EC3-DB3271C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3B5-1854-430B-8AE7-65C488A8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84BA-EB7E-4958-B38F-C78053A2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C7E7-29A3-4FC2-82B4-AF9C086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5F64-5B72-4901-B846-5FAF0E29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C76A-4801-49ED-BCAF-56908890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1F8A-7D79-45DB-970E-E78DF365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BE8-70ED-41F2-995C-03F80D40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175-2416-45BB-9F35-558B0365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17E-8868-485C-8C7F-C2444A48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BE4-647A-43F5-883A-BDD36E39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DE7-5D20-46AF-9ACC-76E3C741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597-7581-483A-AE7C-F55D3A77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983-D15B-4C11-AD5C-A831BDC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73D5-3526-4E23-9C28-CA165AB088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1F72-7067-4F13-A8E4-1D3E0891C0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1342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иёмы компрессии текста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flipV="1" rot="10800000">
            <a:off x="893520" y="1627560"/>
            <a:ext cx="72817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Tahoma"/>
              </a:rPr>
              <a:t>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Tahoma"/>
              </a:rPr>
              <a:t>Сжатое     излож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600360" cy="576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0" y="404640"/>
            <a:ext cx="388764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А-201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и  замене необходимо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Найти слова, смысловые части или предложения, которые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можно сократить с помощью замены обобщающим словом, простым предложением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формулировать получившееся предлож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Сказки любят взрослые и дети, сильные и слабые, добрые и не очень.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(12 слов)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Сказки любят все. (3 слова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213840"/>
            <a:ext cx="761184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очетание исключения и обобщения (объединения)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91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Сказки... как прекрасен  и увлекателен ваш мир.  Мир, в  котором всегда торжествует добро, где умный всегда побеждает глупого,  хороший - плохого, и в финале, как правило, все счастливы. Нет,  конечно, и среди вас есть такие, после  которых становится грустно и хочется плакать. Но это  святая грусть и святые  слезы.  Они  очищают.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(50 сл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Мир сказок, где торжествует добро, прекрасен и увлекателен,  даже если они вызывают святые грусть и слёзы, помогающие нам стать лучше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(20 сл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очетание исключения и замены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Бывают,  правда, и злые сказки, в которых все наоборот. Но ведь и люди тоже бывают злые. А  между прочим, даже среди  вас, людей, злых значительно меньше, чем добрых,  а уж про сказки-то и говорить не приходится. Да и злой-то сказка  становится от того, что кто-то обидел  ее, сломал, согнул грубыми руками. Ведь  сказки не могут  быть злыми от природы, такими их делаете  вы, люди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(64 слова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Бывают и злые сказки, как и люди, которые их сделали. Но хороших людей, как и сказок, значительно больше. (18 слов)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467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Сочетание замены, исключения и объединени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931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Вы, люди, специально, а  чаще случайно, забыв о той поре, когда вы еще верили сказкам, причиняете друг другу боль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Вы, люди,  забываете о всё исцеляющей  доброте сказок и мечетесь в жизненном тупике, ища выхода и не видя его. А ведь он поразительно прост. Надо верить в чудеса.  Верить и  жить. Жить так, чтобы жизнь  превращалась только в добрые и веселые сказки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(61 слов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Люди, забывая о великой силе сказок, обижают друг  друга, не находят выхода из жизненных ситуаций. А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выход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прост: надо верить в чудеса и жить, превращая жизнь в добрые сказки.(29 сл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нельзя удалять из текст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Основные детали,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омогающие понять авторскую идею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аргументы автора,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используемые им для доказательства основной мысл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Памятка «Как работать над сжатым изложением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55972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ри первом чтении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ниматель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прослушайте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текст, чтобы понять его содерж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Определите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тему текста (о чем текст?), идею (чему учит текст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Запомните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последовательность событий, рассужд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Определит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лючевые сло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ставьте подробный план текста, выделяя микротемы каждой части и озаглавливая и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ишите названия пунктов плана, оставляя место для записи ключевых с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ак составить пла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. Выделив в абзацах опорные слова и словосочетания, получите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назывной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ла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. Поставив вопрос к каждому абзацу, получите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вопросный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ла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Ответив на вопрос кратко, получите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тезисный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пла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амятка «Как работать над сжатым изложением» (продолжение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75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осле второго чт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зделите текст на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смысловые ча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чинайте работу по компрессии текста. Помните: сжимая текст,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необходимо передать главное в каждом абзаце и во всем тексте в цело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а для этого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исключите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второстепенную информацию,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обобщит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единичные факты,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замените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конкретное обобщающим. Сохраняйте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особенности язык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данного текста в изложении,  используйте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авторские ключевые слова и словосочетания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пишите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сжатое изложение каждой част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свяжите их между собой, чтобы получился текс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ледите, чтобы содержание исходного текста было передано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без искаж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пишите черновик изложения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внимательно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оверьте ег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нимание!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написании изложения экзаменуемым может быть использован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лексика, отличающаяся от той, которая представлена в исходном тексте или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 информации о текст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итая экзаменационную работу, эксперт устанавливае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) соответствие количества микротем в работе экзаменуемого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личеству микротем в информации о текст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) соответствие последовательности микротем в работе экзаменуемого последовательности микротем в информации о текст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) точность передачи информации в каждой из микрот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16000" y="1773360"/>
            <a:ext cx="73436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Желаю успех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Изменения в критериях оценивания сжатого изложения в 2012 году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317600"/>
          <a:ext cx="8229600" cy="5280120"/>
        </p:xfrm>
        <a:graphic>
          <a:graphicData uri="http://schemas.openxmlformats.org/drawingml/2006/table">
            <a:tbl>
              <a:tblPr/>
              <a:tblGrid>
                <a:gridCol w="946080"/>
                <a:gridCol w="644544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К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жатие исходного текста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менил 1 или несколь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иёмов сжатия текста, использовав 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 протяжении всего текс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менил несколь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иёмов сжатия текста, использовав 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ля сжатия 2 микротем текс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менил 1 или несколько приёмо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атия текста, использовав их для сжатия 1 микротемы тек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не использовал приёмов сжатия тек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Сжатие текста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Tahoma"/>
              </a:rPr>
              <a:t>Это преобразование, при котором текст заменяется более кратким по объему изложением. При этом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не допускаются смысловые искажения и утрата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значимых положений</a:t>
            </a:r>
            <a:r>
              <a:rPr b="0" lang="en-US" sz="4000" spc="-1" strike="noStrike">
                <a:solidFill>
                  <a:srgbClr val="262626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 приемам компрессии (сжатия) текста относятс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5075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Ис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водных сл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днородных членов предло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вто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днотипных приме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иторических вопросов и восклица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цит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еталей, которые не влияют на ход авторской мыс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ясне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ссужде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писа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лов, предложений, которые могут быть удалены без ущерба для содерж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и исключении необходимо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3628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Выделить главно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с точки зрения основной мысли текста, затем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убрать ненужны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подробности и детал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Объединить полученно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, используя основные средства связи между предложениями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можность сокращения текста чаще всего основана на явлении избыточности реч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казка  живет везде, во всем: в деревьях, листьях,  в самом ветре,  в  земле, в кресле, в  доме, в марте, в  тебе самом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(Е.Кривченко)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22 слова)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избыточным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днородные обстоятельства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кретизирующие обобщающие слова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езде, во всем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берем эти однородные обстоятельства. Смысл предложения не изменится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казка  живет везде, в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о все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5 слов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бобщение или объединени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арцеллированных предложени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ряда предложений, связанных одной мыслью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частей предложени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онкретных, единичных фактов, событий, явле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915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Сказки научат тебя быть добрым, ты увидишь, что они смогут  выручить из любой беды, в которую  ты  можешь угодить. Сказки покажут, как  веселый, но  слабый может победить сильного, но хмурого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(30 слов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Сказки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научат доброте, оптимизму, выручат из беды. (7 слов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Заме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2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днородных членов обобщающим слов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ложного предложения – просты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асти предложения  или ряда предложений общим понятием или выражение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ямой речи – косвенн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асти текста одним предложение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асти предложения местоимением и т.д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848200"/>
            <a:ext cx="1314360" cy="1009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4:55:10Z</dcterms:created>
  <dc:creator>Пользователь</dc:creator>
  <dc:description/>
  <dc:language>en-US</dc:language>
  <cp:lastModifiedBy>HP</cp:lastModifiedBy>
  <dcterms:modified xsi:type="dcterms:W3CDTF">2012-01-25T20:00:46Z</dcterms:modified>
  <cp:revision>29</cp:revision>
  <dc:subject/>
  <dc:title>Сжатое изложение (теория и практика подготовки)</dc:title>
</cp:coreProperties>
</file>