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177-54A1-4743-ADDF-AE6915BF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C39-87A8-43EB-B6DA-9AAEE7E1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5E4-0D7B-4C4F-85E3-A94A1701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3B9-2F19-441E-8D4D-FCC21168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1D6E-785E-410C-820C-F3DDEA9D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FDA2-37E3-4CF9-AE7F-CB9FF28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D365-BAA9-4B8D-BE37-4377E78F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4BDA-307A-4294-ACEE-B53BC034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F8D8-0C56-401C-8400-C053CF66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52C0-D175-4C1C-AD10-5C67084B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2618-EC6D-4979-8B4A-FDFB438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532-9CB3-44AE-9491-98790E4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F6B9-5F61-4BCD-AEAA-5BE750DF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2C77-423F-44BF-AFEF-13C1895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FAD8-768D-4A3D-B0EE-F379A815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8DDB-6C12-4CFA-86C4-D691C940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AC1C-944D-4A4D-B82F-8F27E62E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8AA-F537-4DF8-ABA9-D55AC78B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04C-C76C-4546-BBDD-F2CAF873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15B-EC8E-4A63-A16B-11868FD5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143-D2D6-4A25-8985-AA5AA35E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62E-8B25-4127-BDE9-0AA590E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6BA-D131-454B-9FB8-AC13B90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4F1-0B8B-455F-938C-E406EDC7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A725-7859-4AB6-AD21-FFC511289B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69A5-C75E-40E6-94E7-F795A352ED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5905800" cy="324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-464400" y="4577400"/>
            <a:ext cx="2449440" cy="87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 в 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3280" y="0"/>
            <a:ext cx="6408720" cy="25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го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92360" y="4869000"/>
            <a:ext cx="7057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 русской сказк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3240360" cy="374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03280" y="692280"/>
            <a:ext cx="69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ahoma"/>
              </a:rPr>
              <a:t>Конкурс болельщиков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спомните, кто говорил такие волшебные сло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"По щучьему велению, по моему хотению".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Сивка-Бурка, вещий каурка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Стань передо мной, как лист перед травой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Я богатый, всемогущий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Очень стройный,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Страшно злющий,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Но я смерти не боюсь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Угадайте, как зовусь?”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698400" y="333360"/>
            <a:ext cx="870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НАКОМЫ ЛИ ВАМ ГЕРОИ, КОТОРЫЕ НАПИС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СЛЕДУЮЩИЕ ОБЪЯ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Я обаятельная жутко,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 обладаю нюхом чутким,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чёской славлюсь неземною,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тать умею над землёю.”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050920" y="260280"/>
            <a:ext cx="338472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4720" y="2133720"/>
            <a:ext cx="4174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"БАСН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3716280"/>
            <a:ext cx="28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С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356000" y="4941720"/>
            <a:ext cx="388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МОРАЛ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ЛИСА И ЖУРАВЛ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«КАК АУКНЕТСЯ, ТАК И ОТКЛИКНЕТСЯ</a:t>
            </a:r>
            <a:r>
              <a:rPr b="0" lang="en-US" sz="6600" spc="-1" strike="noStrike">
                <a:solidFill>
                  <a:srgbClr val="3333cc"/>
                </a:solidFill>
                <a:latin typeface="Tahoma"/>
              </a:rPr>
              <a:t>»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4292640"/>
            <a:ext cx="518292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 ДРУГА - ИЩИ,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ЕЛ -БЕРЕГИ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Tahoma"/>
              </a:rPr>
              <a:t>"Доброе дело сто раз возвернётся"; "Всяк в деле познаётся".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"Где друзьями дорожат, там и враги дрожат"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"Любовь и верность сильнее смерти"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Вступительное сло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Приветств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Размин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Конкурс болельщ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Конкурс «Узнай предметы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Конкурс капитан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Подведение итог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19280" y="333360"/>
            <a:ext cx="460836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 проведения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"Не ищи друзей в хороводе, а ищи в огороде"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"За глупой головой и ногам плохо"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"Доброе слово не пропадёт даром"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"Проверь, прежде чем прыгать"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476360" y="333360"/>
            <a:ext cx="5616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ЦОВКИ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32000" y="2852640"/>
            <a:ext cx="741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КОНЕЧНЫЕ ПРИСКА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765000"/>
            <a:ext cx="763272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ВКА - БУРКА"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56000" y="549360"/>
            <a:ext cx="287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66247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«Я ТУТ БЫЛ, МЕД-ПИВО ПИЛ, ПО УСАМ ТЕКЛО, А В РОТ НЕ ПОПАЛО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700360" y="549360"/>
            <a:ext cx="287964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2492280"/>
            <a:ext cx="8496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О ЩУЧЬЕМУ ВЕЛЕНИЮ"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« ТУТ И СКАЗКЕ КОНЕЦ, А КТО СЛУШАЛ МОЛОДЕЦ»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35280" y="333360"/>
            <a:ext cx="561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03280" y="2205000"/>
            <a:ext cx="6337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УЗНАЙ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КОМЫЕ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МЕТЫ"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50920" y="1844640"/>
          <a:ext cx="6661080" cy="4549680"/>
        </p:xfrm>
        <a:graphic>
          <a:graphicData uri="http://schemas.openxmlformats.org/drawingml/2006/table">
            <a:tbl>
              <a:tblPr/>
              <a:tblGrid>
                <a:gridCol w="2220840"/>
                <a:gridCol w="2219400"/>
                <a:gridCol w="2220840"/>
              </a:tblGrid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634160" cy="4464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66080" y="1179360"/>
            <a:ext cx="42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ЕРЕБРЯНАЯ Л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«М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АРЬЯ</a:t>
            </a: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Моревна»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8000"/>
                </a:solidFill>
                <a:latin typeface="Tahoma"/>
              </a:rPr>
              <a:t>«Оставь здесь на всякий случай свою серебряную ложку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а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025640"/>
            <a:ext cx="6697800" cy="583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71880" y="0"/>
            <a:ext cx="212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ла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т что она говорит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008000"/>
                </a:solidFill>
                <a:latin typeface="Tahoma"/>
              </a:rPr>
              <a:t>«А у меня есть такой платок, - как махну в правую сторону три раза, сделается высокий-высокий мост и огонь его не достанет»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013040" y="549360"/>
            <a:ext cx="703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Tahoma"/>
              </a:rPr>
              <a:t>«Марья Моревн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92360" y="2276640"/>
            <a:ext cx="71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8160" y="933480"/>
            <a:ext cx="187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лу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688000" cy="43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«Царевна – лягушка»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-29520" y="2276640"/>
            <a:ext cx="9349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ahoma"/>
              </a:rPr>
              <a:t>Старый старичок говорит 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ahoma"/>
              </a:rPr>
              <a:t>«…вот тебе клубок: к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ahoma"/>
              </a:rPr>
              <a:t>он покатитс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ahoma"/>
              </a:rPr>
              <a:t>туда и ты ступай смело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193080" cy="561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875600" y="263520"/>
            <a:ext cx="19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кувш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Лиса и журавл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8000"/>
                </a:solidFill>
                <a:latin typeface="Tahoma"/>
              </a:rPr>
              <a:t>...на другой день приходит лиса, а журавль приготовил окрошку, наклал в кувшин с узким горлом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931080" cy="3311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иточка шёлков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8000"/>
                </a:solidFill>
                <a:latin typeface="Tahoma"/>
              </a:rPr>
              <a:t>«Когда дочь твоя мудра, вот ей ниточка шелкова…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573920" y="717480"/>
            <a:ext cx="59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«Девочка – семиле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гадайте сказ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олько пришли во дворец – как ударил гром, распалась крыша, раздвоился потолок, и влетел орел. Ударился об пол и сделался добрым молодц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39840" y="4665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553080" cy="4896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13600" y="69840"/>
            <a:ext cx="47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Золотой перст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8000"/>
                </a:solidFill>
                <a:latin typeface="Tahoma"/>
              </a:rPr>
              <a:t>…</a:t>
            </a:r>
            <a:r>
              <a:rPr b="0" i="1" lang="en-US" sz="6000" spc="-1" strike="noStrike">
                <a:solidFill>
                  <a:srgbClr val="008000"/>
                </a:solidFill>
                <a:latin typeface="Tahoma"/>
              </a:rPr>
              <a:t>схватил с ее пальца перстень        , повернул коня и ускакал…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493640" y="450720"/>
            <a:ext cx="454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Сивка – Бур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8000"/>
                </a:solidFill>
                <a:latin typeface="Tahoma"/>
              </a:rPr>
              <a:t>Сказки русские –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8000"/>
                </a:solidFill>
                <a:latin typeface="Tahoma"/>
              </a:rPr>
              <a:t>Просты и глубоки,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8000"/>
                </a:solidFill>
                <a:latin typeface="Tahoma"/>
              </a:rPr>
              <a:t>Как сама русская               душа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Что за прелесть эти сказки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Каждая есть поэма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7280" y="333360"/>
            <a:ext cx="77724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…</a:t>
            </a:r>
            <a:r>
              <a:rPr b="0" i="1" lang="en-US" sz="3200" spc="-1" strike="noStrike">
                <a:solidFill>
                  <a:srgbClr val="990033"/>
                </a:solidFill>
                <a:latin typeface="Tahoma"/>
              </a:rPr>
              <a:t>Русская сказка – как цвет незаметных и неведомых полевых цветов; а духовный смысл ее – как тонкий и благоуханный мед; попробуешь и слышишь на языке все неизреченное естество родной природы – и запах родной земли, и зной родного солнца, и дыхание родных цветов, что-то тонкое и богатое, вечно юное и вечно древнее, - все в сочетании неописуемого вкуса и арома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33"/>
                </a:solidFill>
                <a:latin typeface="Tahoma"/>
              </a:rPr>
              <a:t>                                           </a:t>
            </a:r>
            <a:r>
              <a:rPr b="0" i="1" lang="en-US" sz="3200" spc="-1" strike="noStrike">
                <a:solidFill>
                  <a:srgbClr val="990033"/>
                </a:solidFill>
                <a:latin typeface="Tahoma"/>
              </a:rPr>
              <a:t>И.Ильин</a:t>
            </a: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71600" y="69228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Иван-крестьянский сын: русские народные сказки / Сост. и предислов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. Аники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Оформ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. Кузнецо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– М: Дет. Лит. – 1986. – 126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Русские народные сказки / Сост., вступ. ст., примеч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.П. Аники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рис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. Кузнецо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. 1. Кузнецова. – М: Дет. лит., 2002. – 203 с. илл. – (Школьная библиотека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Семь Симеонов / Русская народная сказка в обработк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. Карнаухов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худож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.Г. Слеп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– М: Сов. Россия, 1988. – 18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4292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Назовите професси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братьев из русской народной сказке “Семь Симеонов” в обработке И. Карнауховой?</a:t>
            </a:r>
            <a:br>
              <a:rPr sz="4800"/>
            </a:b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30760" y="13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Угадайте сказку и назовите героя?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«Влез…коню в правое ухо, а в левое вылез – стал таким молодцом. Что ни в сказке сказать, ни пером описать!»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-92160" y="131760"/>
            <a:ext cx="2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040" y="203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95000" y="2371680"/>
            <a:ext cx="73422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«Стрелок из лука. Чья стрела далеко улетает и счастливо судьбу его решает?»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620640"/>
            <a:ext cx="38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Угадайте сказку и назовите гер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5120" y="13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1600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гадайте сказку и назовите и назовите геро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«…Стал жить-поживать с женой царевной в палатах белокаменных и лисоньку всякий день угощать курочкой».</a:t>
            </a:r>
            <a:br>
              <a:rPr sz="48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86400" y="13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728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гадайте сказку и назовите героя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В какой сказке и кто обращал коней в речную траву, деревья, зелёный луг?</a:t>
            </a:r>
            <a:br>
              <a:rPr sz="48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02040" y="60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15:12Z</dcterms:created>
  <dc:creator>Вера Александровна</dc:creator>
  <dc:description/>
  <dc:language>en-US</dc:language>
  <cp:lastModifiedBy>1</cp:lastModifiedBy>
  <dcterms:modified xsi:type="dcterms:W3CDTF">2007-05-13T16:23:38Z</dcterms:modified>
  <cp:revision>8</cp:revision>
  <dc:subject/>
  <dc:title>Слайд 1</dc:title>
</cp:coreProperties>
</file>