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4C0-C805-42C0-BF58-442F1181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62E-E18C-44BB-95C9-4957D95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C57-D55C-484D-8C52-FB463260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4BF-B0F3-4579-B5F9-3AAADE10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E88B-0460-43E6-9F3B-8A4C2D3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6B1E-FB53-464D-820C-D6CEFE8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BAD2-A1F4-4184-8C5E-17D1326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E25-8588-400A-B5CA-1C2449D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167-0D27-4E6C-8888-002A29B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A791-6012-41CA-9FE1-2A8E5789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BFEF-74D1-4AF6-9B37-DB6B834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AAE-CB3E-4751-A104-DAD32BA2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319-A135-4FD9-B8F8-345EE8C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C4EE-8527-498A-AB03-D27DCDE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6A4B-FC7E-49B6-ADD3-946705E0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D565-B20C-42E9-8915-35263BAF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056A-1A83-4DCF-9B0B-B0C75EC3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6288-CD69-4E85-8A6C-1AAB0992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64A8-8BCB-4ED6-9294-AD282E8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DFC8-E03C-40B3-ADBA-4FAC07F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7EA3-1424-41A0-B23F-C2821ED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9EED-B2C2-4B1C-992C-C848E6F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697-54C7-4890-AED2-43158B0E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EFF2-058F-42B6-B876-A5D4A02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0D62-5F30-408C-811D-E3D5D1D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A68A-C56F-4B6B-B612-EE4246E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21DF-2348-43BA-9648-FB1111B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86F3-5DAA-4188-95B2-88147E3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C3A9-901C-43FD-B6DA-F15394DA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A225-4B78-4F49-9F85-E7ED04E8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7C5-D92D-4F2A-9B1F-B19C621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0E9-FFA5-46DC-81AB-50752CE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3FC-2E3B-4A65-851C-5203F8AD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C77-5701-4224-A24C-AD26A41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7EA-AEFD-48CE-9C75-EDB7C54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D96-2F57-497C-89DD-A36158F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539B-55E2-40F6-A634-64D6410B18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FC05-0989-4C8E-BC19-12A97C62E5B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AB4-C0E7-48C3-806F-A82EE9C76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ahoma"/>
              </a:rPr>
              <a:t>Методическая разработка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ahoma"/>
              </a:rPr>
              <a:t>раздела образовательной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ahoma"/>
              </a:rPr>
              <a:t>программы по алгебре и началам анализа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ahoma"/>
              </a:rPr>
              <a:t>«Логарифмическая функция»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35280" y="3860280"/>
            <a:ext cx="64008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Tahoma"/>
              </a:rPr>
              <a:t>Учитель МБОУ СОШ №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8</a:t>
            </a:r>
            <a:r>
              <a:rPr b="0" lang="ru-RU" sz="25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Tahoma"/>
              </a:rPr>
              <a:t>Салаватова Гузель Маратовна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План изучения</a:t>
            </a:r>
            <a:br>
              <a:rPr sz="3000"/>
            </a:b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Глава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  <a:ea typeface="Tahoma"/>
              </a:rPr>
              <a:t>VII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  <a:ea typeface="Tahoma"/>
              </a:rPr>
              <a:t>Логарифмическая функция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82600" y="2017800"/>
          <a:ext cx="7772400" cy="4319640"/>
        </p:xfrm>
        <a:graphic>
          <a:graphicData uri="http://schemas.openxmlformats.org/drawingml/2006/table">
            <a:tbl>
              <a:tblPr/>
              <a:tblGrid>
                <a:gridCol w="797040"/>
                <a:gridCol w="4680000"/>
                <a:gridCol w="1225440"/>
                <a:gridCol w="10699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огариф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ойства логариф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сятичные и натуральные логарифмы. Формула пере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огарифмическая функция, ее свойства и граф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огарифмические у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огарифмические нераве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рок обобщения и систематизации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5280" y="214200"/>
          <a:ext cx="8559360" cy="6310080"/>
        </p:xfrm>
        <a:graphic>
          <a:graphicData uri="http://schemas.openxmlformats.org/drawingml/2006/table">
            <a:tbl>
              <a:tblPr/>
              <a:tblGrid>
                <a:gridCol w="424800"/>
                <a:gridCol w="1739880"/>
                <a:gridCol w="3096720"/>
                <a:gridCol w="3297960"/>
              </a:tblGrid>
              <a:tr h="62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4 Логарифмы (2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5 Свойства логарифмов            (2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ение логариф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новное логарифмическое тожд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уществование логариф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уравнений по опред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войства логариф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прощение выражений с использованием свой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-решение уравнений с применением свой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вторить решение показательных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мочь учащимся получить и усвоить понятие логариф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работать навыки логарифм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акрепить понятие логарифма и умение логарифмир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тработать умение находить область определения логариф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«открыть» с учащимися свойства логариф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учить использовать свойства при упрощении выражений и решении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тработать умение использовать свойства логарифмов при решении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математическ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познавательного интер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внимания, числовой зорк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логического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ющ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ирование навыков умственног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ирование убежденности в необходимости доказательства научных фа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24000" y="214200"/>
          <a:ext cx="8630640" cy="6310080"/>
        </p:xfrm>
        <a:graphic>
          <a:graphicData uri="http://schemas.openxmlformats.org/drawingml/2006/table">
            <a:tbl>
              <a:tblPr/>
              <a:tblGrid>
                <a:gridCol w="428400"/>
                <a:gridCol w="1754280"/>
                <a:gridCol w="3122280"/>
                <a:gridCol w="3325680"/>
              </a:tblGrid>
              <a:tr h="946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урок изучения 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урок-практикум – совершенствование знаний, умений и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урок изучения нового («открыть» с учащимися свойства логарифм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урок-практ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окумент-кам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чатные пособия для подготовке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традь с печатной основ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ронтальн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под руководством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ронтальн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ск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под руководством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с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68360" y="333360"/>
          <a:ext cx="8351640" cy="6362640"/>
        </p:xfrm>
        <a:graphic>
          <a:graphicData uri="http://schemas.openxmlformats.org/drawingml/2006/table">
            <a:tbl>
              <a:tblPr/>
              <a:tblGrid>
                <a:gridCol w="414360"/>
                <a:gridCol w="1697040"/>
                <a:gridCol w="3022560"/>
                <a:gridCol w="3217680"/>
              </a:tblGrid>
              <a:tr h="67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6 Десятичные и натуральные логарифмы (2-3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7 Логарифмическая функция, ее свойства и график (2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есятичные логариф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туральные логариф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ула перехода к новому осн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уравнений с использованием форму пере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числение логарифмов с помощью кальк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ение логарифмической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войства логарифмической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ласть определения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ножество значений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но обратные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роение графика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равнение чисел при помощи граф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8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мочь учащимся понять и усвоить десятичные и натуральные логариф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учить находить значение логарифмов при помощи кальк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работать умение решать уравнения при помощи формулы пере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«открыть» с учениками график логарифмической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явить свойства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ировать умение строить график функции и определять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работать понимание и умение сравнивать 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учить решать уравнения с помощью граф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умение применять знания на прак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четкости, аккуратности, умения выполнять задание в строго ограниченное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ю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ответственности. Умения самостоятельно принимать 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ирование навыков и потребности умственног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214200"/>
          <a:ext cx="8892720" cy="6383160"/>
        </p:xfrm>
        <a:graphic>
          <a:graphicData uri="http://schemas.openxmlformats.org/drawingml/2006/table">
            <a:tbl>
              <a:tblPr/>
              <a:tblGrid>
                <a:gridCol w="441360"/>
                <a:gridCol w="1807560"/>
                <a:gridCol w="3217320"/>
                <a:gridCol w="3426480"/>
              </a:tblGrid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урок изучения 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3урок – тренировочные у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урок изучения н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совершенствование знаний, умений и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окумент-кам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чатные пособия для подготовке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лак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нтерактив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даточные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чатные пособия для подготовке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ронтальн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ск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ронтальн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ск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под руководством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с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24000" y="214200"/>
          <a:ext cx="8631000" cy="6392880"/>
        </p:xfrm>
        <a:graphic>
          <a:graphicData uri="http://schemas.openxmlformats.org/drawingml/2006/table">
            <a:tbl>
              <a:tblPr/>
              <a:tblGrid>
                <a:gridCol w="428400"/>
                <a:gridCol w="1754280"/>
                <a:gridCol w="3122640"/>
                <a:gridCol w="3325680"/>
              </a:tblGrid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8 Логарифмические уравнения (3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19Логарифмические неравенства (3 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орема, используемая для решения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орема о равноси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ласть определения у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у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 решения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ючевые задачи мет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орема, используемая для решения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ласть определения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 решения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знакомить учащихся с теорем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ратить особое внимание на нахождение области определения уравнения или выполнения пров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знаком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знакомить учащихся с теоремами, необходимыми для решения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кцентировать внимание учеников на нахождении области определения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знакомить с методами  решения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учить решать логарифмические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умение обобщать и классифицир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творческие 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формировать умение выделять существование главное, необходимое для 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твор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ю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буждать учеников к самоконтролю, взаимоконтролю, самоанализу своей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настойчивости, умения преодолевать трудности, доводить решение до кон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24000" y="214200"/>
          <a:ext cx="8630640" cy="6310080"/>
        </p:xfrm>
        <a:graphic>
          <a:graphicData uri="http://schemas.openxmlformats.org/drawingml/2006/table">
            <a:tbl>
              <a:tblPr/>
              <a:tblGrid>
                <a:gridCol w="428400"/>
                <a:gridCol w="1754280"/>
                <a:gridCol w="3122280"/>
                <a:gridCol w="3325680"/>
              </a:tblGrid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семин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к - практ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семин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к - практ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окумент-кам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чатные пособия для подготовке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ласс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окумент-кам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чатные пособия для подготовке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ск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под руководством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сск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ешение под руководством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14200"/>
          <a:ext cx="8703720" cy="6310080"/>
        </p:xfrm>
        <a:graphic>
          <a:graphicData uri="http://schemas.openxmlformats.org/drawingml/2006/table">
            <a:tbl>
              <a:tblPr/>
              <a:tblGrid>
                <a:gridCol w="432000"/>
                <a:gridCol w="1769040"/>
                <a:gridCol w="3148920"/>
                <a:gridCol w="3353760"/>
              </a:tblGrid>
              <a:tr h="75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знаний (2 уро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сновные дидактические единицы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новные дидактические единицы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истематизировать и проверить знание основных дидактических единиц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рганизовать осмысление полученных результатов изучения темы и способов их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ткорректировать знания и умения учащихся по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явить уровни усвоения фактического материала для последующей корректиров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тие математического и общего кругозора, мышления, речи, внимания,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умения самостоятельно принимать решения и рационально распределять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ю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интереса к математике, активности, умения общаться, обще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ание умения самостоятельно принимать решения и рационально распределять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68360" y="214200"/>
          <a:ext cx="8486280" cy="6310080"/>
        </p:xfrm>
        <a:graphic>
          <a:graphicData uri="http://schemas.openxmlformats.org/drawingml/2006/table">
            <a:tbl>
              <a:tblPr/>
              <a:tblGrid>
                <a:gridCol w="421200"/>
                <a:gridCol w="1724760"/>
                <a:gridCol w="3070440"/>
                <a:gridCol w="3269880"/>
              </a:tblGrid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к –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к –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ебник, рабочая 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нтерактивная до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даточные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тр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даточны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дивидуальная бес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оллектив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стн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заимо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домашн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верка контроль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агностическ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Бурмистрова Т.А. Программы общеобразовательных учреждений Алгебра и начала анализа – М.: Просвещение,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анова Т.А. Теоретические основы обучения математике в средней школе – Н.Новгород,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ягин Ю.М. Алгебра и начала анализа, 10. – М.: Мнемозина,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лев Б.М. и др. Дидактические материалы. Алгебра и начала анализа 10. – М.: Просвещение,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менова А.Л. , Ященко И.В. ЕГЭ. Типовые тестовые задания. – М.: Экзамен,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нищева Л.О. ЕГЭ. Сборник экзаменационных заданий. –М.: Эксмо,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лов Е.В. Рабочая тетрадь с элементами тестирования, 10кл. – Саратов: Лицей,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ысенког Ф.Ф. Математика. ЕГЭ. – Ростов н/Д: Легион,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Актуальность изучения раздела математики «Логарифмическая функция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Развитие целостной математической составляющей картины ми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ля изучения смежных дисципл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ля применения в пр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ля успешной сдачи ЕГЭ, что расширяет возможности учащихся по свободному выбору своего образовательного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«Возбудите в человеке искренний интерес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ко всему полезному, высшему и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нравственному- и вы можете быть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спокойны, что он сохранит всегда человеческое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достоинство.  В этом и должна состоять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цель воспитания и учения.»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К.Д.Ушинский   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8066160" cy="3961080"/>
          </a:xfrm>
          <a:prstGeom prst="rect">
            <a:avLst/>
          </a:prstGeom>
          <a:gradFill rotWithShape="0">
            <a:gsLst>
              <a:gs pos="0">
                <a:srgbClr val="75c2dd"/>
              </a:gs>
              <a:gs pos="100000">
                <a:srgbClr val="a5d6e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 юношеского возрас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Развитие самосознания, открытие собственного «я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Перестройка сферы общения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Изменение мотивов учения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Желание реально оценивать себя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Открытие своего внутреннего мира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-Переход к сложному взрослому миру - самоопределени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ченик в юношеском возрасте мож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уществлять самоконтроль и самооцен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жать внимание волевым усили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уществлять поиск закономер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ваивать самостоятельные способы добывания новых зн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уществлять саморегуля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формировать понятие логарифма числа; научить применять свойства логарифмов при решении уравнений; изучить свойства логарифмической функции и научить применять ее свойства при решении логарифмических уравнений и неравен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solidFill>
            <a:srgbClr val="75c2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Сформировать у учащихся представление о новом действии – логарифмировани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Учить школьников доказывать свойства логарифмов и использовать их при решении уравнений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Учить учащихся строить логарифмическую функцию, определять ее свойства, использовать при сравнении чисел и решении уравнений и неравенств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Учить осуществлять выбор рационального метода решения логарифмических уравнений и неравенств с учетом равносильности преобразований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Зн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логарифма, основное логарифмическое тождест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войства логарифм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огарифмы по различным основаниям, формулу перехода к новому основан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ид логарифмической функции и ее сво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оремы, используемые при решении уравн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оремы равносильности преобразо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ы решения логарифмических уравн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оремы, используемые при решении неравен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ы решения логарифмических неравен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Уметь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огарифмиро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ть свойства логариф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ходить область определения логариф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казывать теор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оить логарифмическую функцию и определять е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ать логарифмические урав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ать логарифмические нераве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равнивать чис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числять логарифмы на инженерном калькулят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Технология – это взаимосвязанная деятельность учителя и учащегося, направленная на достижение поставленной цели посредством определенного математического содержан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3141720"/>
            <a:ext cx="2808360" cy="1800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67280" y="3645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чет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77800">
            <a:off x="1116000" y="1915920"/>
            <a:ext cx="2879640" cy="1512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64360" y="4005360"/>
            <a:ext cx="2879640" cy="1512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77800">
            <a:off x="468360" y="3715920"/>
            <a:ext cx="287964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77800">
            <a:off x="5580000" y="1988640"/>
            <a:ext cx="287964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77800">
            <a:off x="3276720" y="5084280"/>
            <a:ext cx="2879640" cy="1513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2492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чностно-ориент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2421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хнология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44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гров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44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дуль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1497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хнология разноуровнев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16:54:26Z</dcterms:created>
  <dc:creator>FuckYouBill</dc:creator>
  <dc:description/>
  <dc:language>en-US</dc:language>
  <cp:lastModifiedBy>Admin</cp:lastModifiedBy>
  <dcterms:modified xsi:type="dcterms:W3CDTF">2011-12-20T12:08:49Z</dcterms:modified>
  <cp:revision>16</cp:revision>
  <dc:subject/>
  <dc:title>Методическая разработка раздела образовательной  программы по алгебре и началам анализа «Логарифмическая функция»</dc:title>
</cp:coreProperties>
</file>