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5C5-A29A-4319-962E-852A397A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36C-6152-439C-AA48-315556E6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C36-19C5-4D3E-8F38-6BCD2794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63F-086C-435E-B401-9DE3014D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E1723-FF8D-459B-8B1B-A3EA05DB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C712-D26D-46BA-A35E-CA3BE1F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5395-F9BC-408D-8BF8-835159F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30D38-D261-4BC9-8B67-A88BC81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B89EE-DFFD-4F02-A521-56080C9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F527F-6AB7-4163-841B-A65BDF9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0DC52-5CF9-4B63-B214-6A42161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4D9-C9D9-4092-B103-36C1437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E61FF-BFCC-40F9-A89B-BA252AC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7BD9-17F5-48E4-8CF8-B62A22F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D7A2-BDFD-493E-8B20-A3A9A23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0867-1114-46D3-8170-A64D4DE8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98400-CB11-466C-B580-25421BE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57B7-0A84-4F5B-83C3-0B0DE343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3904-BB10-4091-A6E7-C4A7863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47B0-6F4E-43FD-8FCF-A4BE237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D7D9-0EF6-4D72-839E-7AB73B7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2165-DBFC-4BF6-8F6A-8327AB4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3C6-8AC3-4FDC-972D-22F032C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45A1-C27B-465B-AE11-7FD3610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0C7E-1701-4773-A43E-695AA0C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FD4A-0BA1-4C0C-AC27-925AAB1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31F4-2812-47C8-8072-CE8245D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92F3-7534-4F3C-B4D4-505AA2C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C104-17F6-4A03-A0B6-F1A27647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2869-DEA4-4C9D-AEAD-B6E090DF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23F0-99DC-4177-87C2-991D5C4D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4624-B835-4A9F-82EC-9023DAD1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B43D-C7E7-4C12-B97D-2475FA41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93A-8F7F-42AA-AD3F-D2E9F029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049E-1843-4F3E-BA91-BE6BFDE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D6FC-64F9-4434-8DF9-C1428BB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ACEB-B762-4888-9BA3-0087319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9C71-9C81-4ECB-A6CD-2AACEE0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CEDB-FBE4-45BE-A5A6-083E676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1992-57C0-4EB4-BE14-8369230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07AA-4FD1-476A-A8AB-4F01628B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8DF9-0D74-448F-AB6B-A137B2A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63EF-EC97-4849-8A77-48A1FDD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0E99-9447-41FD-A95C-4250FA02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B08-1D79-41BB-8542-E72BCBB5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6F9E-F6D9-4377-AC44-6B54BCC5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1110-BDE9-456D-AE69-B5F2BC9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F125-9FE3-4DAB-81E9-7152B73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9455-8F84-4765-8D6A-28308CF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7C0D-EE64-4C01-81EE-A09CF77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FA371-FFF8-471A-9E2B-395464A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BB87-C5F1-4214-8714-9810AA6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6447-C0F8-4B1C-9F2A-371B745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9118-995F-41D1-94E3-79A3FDB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0F1B-4D77-4626-8CF9-3F6BA17F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3D7-B587-40BF-9FA2-7A6FCBB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8EE5-75D3-41F4-B86A-0073F97F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4A42-E6F9-4904-B00C-594940EC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A7BE-364A-4B1C-AB75-9067D94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CE53-4B8B-44B5-BB71-AF67FDC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0C41-0B53-46B8-92DD-C1A5898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E271-619C-4F01-B200-4A697A9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C1C3E-D501-45E3-B6E5-ED01D1D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E4F67-90DD-4318-928A-3F634917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15106-45BD-41EE-B368-AAA4320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990E-ADE7-4F2F-9447-C476EF3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E38-EE92-4FD9-BA78-BDC3E45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7F1E-9200-4C89-B92A-A55B336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EAC9-F415-4E6B-A941-281D01DF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CD26-95C6-421B-A324-D6C637B5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A99-1D55-4B50-95DD-4D5AAA6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3F5-4F7F-473C-A9AA-4E5ACC7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014-A88C-48A8-B0B4-569931AE7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AE97-4326-4B2A-B7AE-6FC5A3EEEF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2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2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3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4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3B3-B919-4D9A-9140-E71E4C4C62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0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0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2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2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3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3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0F4-58DD-42EF-9C75-EF49389EDC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1E6-7D9B-4E73-9E16-3014D10F0E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F109-3422-414B-B3A2-C5F9978CE5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79280" y="1844640"/>
            <a:ext cx="871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ложительны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трицательные числ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7640" y="59500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тавила Чернышова Эльмира, 6 класс МОУ СОШ №89 г.Ижев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659280" y="-360"/>
            <a:ext cx="24843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ьфи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ырнул вниз на 1мет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затем опустился на 7,6 мет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акой глубине дельфин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: 1+7.6=8.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9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56000" y="472392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Температура воздуха была равна                  -4градуса, а потом понизилась на 3 градуса. Какой стала температура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187344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1e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24000" y="765000"/>
            <a:ext cx="3071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Уровень воды в реке понизился на 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.7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м., а затем ещё на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6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м. На сколько понизился уровень воды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504036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7280" y="-103500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Баланс на сотовом телефоне -</a:t>
            </a:r>
            <a:r>
              <a:rPr b="0" lang="en-US" sz="4400" spc="-1" strike="noStrike">
                <a:solidFill>
                  <a:srgbClr val="ff66cc"/>
                </a:solidFill>
                <a:latin typeface="Verdana"/>
              </a:rPr>
              <a:t>1$</a:t>
            </a: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. В течение дня изменился</a:t>
            </a:r>
            <a:br>
              <a:rPr sz="4400"/>
            </a:b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 на  -2</a:t>
            </a:r>
            <a:r>
              <a:rPr b="0" lang="en-US" sz="4400" spc="-1" strike="noStrike">
                <a:solidFill>
                  <a:srgbClr val="ff66cc"/>
                </a:solidFill>
                <a:latin typeface="Verdana"/>
              </a:rPr>
              <a:t>$</a:t>
            </a: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 Каким стал баланс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1584360" cy="6381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1152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619280" y="4869000"/>
            <a:ext cx="2663640" cy="17175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7280" y="5661000"/>
            <a:ext cx="471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дприятие произвело затраты 6 млн. рублей, а затем некоторые выплаты 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5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млн. рублей. Какого финансовое состояние предприятия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25520" y="284040"/>
            <a:ext cx="132408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484200" y="274680"/>
            <a:ext cx="81741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4b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4360" y="981000"/>
            <a:ext cx="76327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-3.76+(-4.476)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= -(3.76+4.476)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= -8.2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2543040"/>
            <a:ext cx="9144000" cy="2254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916360" y="907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пом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00000" y="2492280"/>
            <a:ext cx="69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-153,6+(-1028,72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Брахмагупта 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(7 век.)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«Сумма двух долгов есть долг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530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ндийский математик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-47+(-19)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-17+(-8)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-3,5+(-5,9)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) -8,8+(-4,2)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 -5,9+(-3,7)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-3,75+(-1,27) 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26028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полните сложение. Результат запишите в порядке убы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1268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) -47+(-19) =-66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-17+(-8) =-25 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) -3,5+(-5,9) =-9,4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) -8,8+(-4,2) =-13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) -5,9+(-3,7) =-9,6 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) -3,75+(-1,27) =-5,02 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60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92560" cy="5084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5364000" y="189000"/>
            <a:ext cx="309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ка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64000" y="1197000"/>
            <a:ext cx="324036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ранцузский математик, ввел координатную прямую(1637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755640" y="260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В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79280" y="2602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ые числа:          -144  -46  -17  -25  -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0920" y="1197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сятичные дроби:       -3,74   -2,8   -2,25  -9,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220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ые дроб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506520" cy="7588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487440" cy="9367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704880" cy="1152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50920" y="357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авильные дроб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636480" cy="9349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736560" cy="1079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6372360" y="3500280"/>
            <a:ext cx="885600" cy="936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7596360" y="3500280"/>
            <a:ext cx="855360" cy="10083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067280" y="3357720"/>
            <a:ext cx="933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" y="542880"/>
            <a:ext cx="82296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417600"/>
            <a:ext cx="82296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011240" y="2355480"/>
              <a:ext cx="2120760" cy="1112760"/>
            </a:xfrm>
            <a:prstGeom prst="ellipse">
              <a:avLst/>
            </a:prstGeom>
            <a:solidFill>
              <a:srgbClr val="cccc0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8600" y="2355480"/>
              <a:ext cx="2120760" cy="1112760"/>
            </a:xfrm>
            <a:prstGeom prst="ellipse">
              <a:avLst/>
            </a:prstGeom>
            <a:solidFill>
              <a:srgbClr val="cccc0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43232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6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1:56:04Z</dcterms:created>
  <dc:creator>DDA</dc:creator>
  <dc:description/>
  <dc:language>en-US</dc:language>
  <cp:lastModifiedBy>Вахрушевы</cp:lastModifiedBy>
  <dcterms:modified xsi:type="dcterms:W3CDTF">2012-01-27T19:27:57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