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3E6-5563-40AA-A9B0-806EAB41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613-4FB8-4CE5-A8CF-0E091FF2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CEE-AADF-45A6-B7B1-6E3D2928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F8EB-ACE8-4CCB-8B06-CB96CBF6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1A26-EA1B-4F03-9CF4-79BB5490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A6F-DD29-4C78-B9B6-8575BC36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4DE-29DB-4A20-94FF-BC2FECD5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9EE-B1CD-4860-BA4E-77FFA019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333-1482-4E43-99D6-0C155E95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D34-B9B2-4848-A0D7-D7339B71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C6F-3FF5-4B38-B747-B2281E1A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A94-9BF3-44B3-9882-D08C517A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99CD-8AA9-4C89-B0E6-B7CCC5B249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image" Target="../media/image3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slide" Target="slide16.xml"/><Relationship Id="rId9" Type="http://schemas.openxmlformats.org/officeDocument/2006/relationships/image" Target="../media/image5.png"/><Relationship Id="rId10" Type="http://schemas.openxmlformats.org/officeDocument/2006/relationships/slide" Target="slide14.xml"/><Relationship Id="rId11" Type="http://schemas.openxmlformats.org/officeDocument/2006/relationships/image" Target="../media/image6.png"/><Relationship Id="rId12" Type="http://schemas.openxmlformats.org/officeDocument/2006/relationships/slide" Target="slide12.xml"/><Relationship Id="rId13" Type="http://schemas.openxmlformats.org/officeDocument/2006/relationships/image" Target="../media/image7.png"/><Relationship Id="rId14" Type="http://schemas.openxmlformats.org/officeDocument/2006/relationships/slide" Target="slide11.xml"/><Relationship Id="rId15" Type="http://schemas.openxmlformats.org/officeDocument/2006/relationships/image" Target="../media/image8.png"/><Relationship Id="rId16" Type="http://schemas.openxmlformats.org/officeDocument/2006/relationships/slide" Target="slide15.xml"/><Relationship Id="rId17" Type="http://schemas.openxmlformats.org/officeDocument/2006/relationships/image" Target="../media/image9.png"/><Relationship Id="rId18" Type="http://schemas.openxmlformats.org/officeDocument/2006/relationships/slide" Target="slide6.xml"/><Relationship Id="rId19" Type="http://schemas.openxmlformats.org/officeDocument/2006/relationships/image" Target="../media/image10.png"/><Relationship Id="rId20" Type="http://schemas.openxmlformats.org/officeDocument/2006/relationships/slide" Target="slide10.xml"/><Relationship Id="rId21" Type="http://schemas.openxmlformats.org/officeDocument/2006/relationships/image" Target="../media/image11.png"/><Relationship Id="rId22" Type="http://schemas.openxmlformats.org/officeDocument/2006/relationships/slide" Target="slide13.xml"/><Relationship Id="rId23" Type="http://schemas.openxmlformats.org/officeDocument/2006/relationships/image" Target="../media/image12.png"/><Relationship Id="rId24" Type="http://schemas.openxmlformats.org/officeDocument/2006/relationships/slide" Target="slide4.xml"/><Relationship Id="rId25" Type="http://schemas.openxmlformats.org/officeDocument/2006/relationships/image" Target="../media/image13.png"/><Relationship Id="rId26" Type="http://schemas.openxmlformats.org/officeDocument/2006/relationships/slide" Target="slide5.xml"/><Relationship Id="rId27" Type="http://schemas.openxmlformats.org/officeDocument/2006/relationships/image" Target="../media/image14.png"/><Relationship Id="rId28" Type="http://schemas.openxmlformats.org/officeDocument/2006/relationships/slide" Target="slide9.xml"/><Relationship Id="rId29" Type="http://schemas.openxmlformats.org/officeDocument/2006/relationships/image" Target="../media/image15.png"/><Relationship Id="rId30" Type="http://schemas.openxmlformats.org/officeDocument/2006/relationships/slide" Target="slide8.xml"/><Relationship Id="rId31" Type="http://schemas.openxmlformats.org/officeDocument/2006/relationships/image" Target="../media/image16.png"/><Relationship Id="rId3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1513080" cy="1412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411280" y="18900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16360" y="189000"/>
            <a:ext cx="1656000" cy="138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50920" y="3500280"/>
            <a:ext cx="1441440" cy="1295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020000" y="1844640"/>
            <a:ext cx="151272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020000" y="350028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50920" y="1844640"/>
            <a:ext cx="1441440" cy="136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948360" y="189000"/>
            <a:ext cx="1656000" cy="1326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7020000" y="508464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50920" y="5084640"/>
            <a:ext cx="1439640" cy="114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2411280" y="3500280"/>
            <a:ext cx="1513080" cy="1247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4716360" y="1844640"/>
            <a:ext cx="1511280" cy="133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4716360" y="3500280"/>
            <a:ext cx="1584360" cy="120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2411280" y="1844640"/>
            <a:ext cx="1513080" cy="1317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2411280" y="5084640"/>
            <a:ext cx="144000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4716360" y="5084640"/>
            <a:ext cx="1511280" cy="115272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" action="ppaction://hlinkshowjump?jump=firstslide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7301" y="10965"/>
                </a:moveTo>
                <a:lnTo>
                  <a:pt x="17806" y="3959"/>
                </a:lnTo>
                <a:lnTo>
                  <a:pt x="17806" y="17972"/>
                </a:lnTo>
                <a:close/>
              </a:path>
              <a:path fill="darken" w="21600" h="21931">
                <a:moveTo>
                  <a:pt x="3794" y="3959"/>
                </a:moveTo>
                <a:lnTo>
                  <a:pt x="5456" y="3959"/>
                </a:lnTo>
                <a:lnTo>
                  <a:pt x="5456" y="17972"/>
                </a:lnTo>
                <a:lnTo>
                  <a:pt x="3794" y="179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208720" cy="6842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6842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40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40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280360" cy="6902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6842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40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-74520"/>
            <a:ext cx="8316720" cy="693252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-52560"/>
            <a:ext cx="8280360" cy="690264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209080" cy="684216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-14400"/>
            <a:ext cx="8243640" cy="687240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684216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684216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208720" cy="684216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6842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9400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7555" y="3794"/>
                </a:lnTo>
                <a:lnTo>
                  <a:pt x="7555" y="17806"/>
                </a:lnTo>
                <a:lnTo>
                  <a:pt x="58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32:10Z</dcterms:created>
  <dc:creator>Завуч</dc:creator>
  <dc:description/>
  <dc:language>en-US</dc:language>
  <cp:lastModifiedBy>Завуч</cp:lastModifiedBy>
  <dcterms:modified xsi:type="dcterms:W3CDTF">2012-01-27T12:32:23Z</dcterms:modified>
  <cp:revision>1</cp:revision>
  <dc:subject/>
  <dc:title>Слайд 1</dc:title>
</cp:coreProperties>
</file>