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9B2-B308-4322-9603-584D00CE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91C-49EB-4465-944D-2139F66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9CB-2040-470D-8785-8747EC2B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33D-8E30-4D6D-AB4F-C5ADF951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3D0-DFB4-4AC3-922A-02049DAB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6DB-DE26-4B90-993C-4F668CF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3A6-A80C-4E94-BEF5-0CAECBA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E27-6891-4EF5-BD1B-A52297A2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1FD-5639-44A0-A486-748352A3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E27-A9BC-4E28-A48B-F7B5ABA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838-9714-4794-843A-17C5D2FC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E73-CDCC-47FE-97C0-8C38455F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6BC-0C3E-49DC-BD87-BC551439D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slide" Target="slide16.xml"/><Relationship Id="rId9" Type="http://schemas.openxmlformats.org/officeDocument/2006/relationships/image" Target="../media/image5.png"/><Relationship Id="rId10" Type="http://schemas.openxmlformats.org/officeDocument/2006/relationships/slide" Target="slide14.xml"/><Relationship Id="rId11" Type="http://schemas.openxmlformats.org/officeDocument/2006/relationships/image" Target="../media/image6.png"/><Relationship Id="rId12" Type="http://schemas.openxmlformats.org/officeDocument/2006/relationships/slide" Target="slide12.xml"/><Relationship Id="rId13" Type="http://schemas.openxmlformats.org/officeDocument/2006/relationships/image" Target="../media/image7.png"/><Relationship Id="rId14" Type="http://schemas.openxmlformats.org/officeDocument/2006/relationships/slide" Target="slide11.xml"/><Relationship Id="rId15" Type="http://schemas.openxmlformats.org/officeDocument/2006/relationships/image" Target="../media/image8.png"/><Relationship Id="rId16" Type="http://schemas.openxmlformats.org/officeDocument/2006/relationships/slide" Target="slide15.xml"/><Relationship Id="rId17" Type="http://schemas.openxmlformats.org/officeDocument/2006/relationships/image" Target="../media/image9.png"/><Relationship Id="rId18" Type="http://schemas.openxmlformats.org/officeDocument/2006/relationships/slide" Target="slide6.xml"/><Relationship Id="rId19" Type="http://schemas.openxmlformats.org/officeDocument/2006/relationships/image" Target="../media/image10.png"/><Relationship Id="rId20" Type="http://schemas.openxmlformats.org/officeDocument/2006/relationships/slide" Target="slide10.xml"/><Relationship Id="rId21" Type="http://schemas.openxmlformats.org/officeDocument/2006/relationships/image" Target="../media/image11.png"/><Relationship Id="rId22" Type="http://schemas.openxmlformats.org/officeDocument/2006/relationships/slide" Target="slide13.xml"/><Relationship Id="rId23" Type="http://schemas.openxmlformats.org/officeDocument/2006/relationships/image" Target="../media/image12.png"/><Relationship Id="rId24" Type="http://schemas.openxmlformats.org/officeDocument/2006/relationships/slide" Target="slide4.xml"/><Relationship Id="rId25" Type="http://schemas.openxmlformats.org/officeDocument/2006/relationships/image" Target="../media/image13.png"/><Relationship Id="rId26" Type="http://schemas.openxmlformats.org/officeDocument/2006/relationships/slide" Target="slide5.xml"/><Relationship Id="rId27" Type="http://schemas.openxmlformats.org/officeDocument/2006/relationships/image" Target="../media/image14.png"/><Relationship Id="rId28" Type="http://schemas.openxmlformats.org/officeDocument/2006/relationships/slide" Target="slide9.xml"/><Relationship Id="rId29" Type="http://schemas.openxmlformats.org/officeDocument/2006/relationships/image" Target="../media/image15.png"/><Relationship Id="rId30" Type="http://schemas.openxmlformats.org/officeDocument/2006/relationships/slide" Target="slide8.xml"/><Relationship Id="rId31" Type="http://schemas.openxmlformats.org/officeDocument/2006/relationships/image" Target="../media/image16.png"/><Relationship Id="rId3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13080" cy="141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411280" y="18900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16360" y="189000"/>
            <a:ext cx="1656000" cy="138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0920" y="3500280"/>
            <a:ext cx="144144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844640"/>
            <a:ext cx="15127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020000" y="350028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0920" y="1844640"/>
            <a:ext cx="1441440" cy="13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948360" y="189000"/>
            <a:ext cx="1656000" cy="1326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020000" y="508464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50920" y="5084640"/>
            <a:ext cx="1439640" cy="114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411280" y="3500280"/>
            <a:ext cx="1513080" cy="1247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716360" y="1844640"/>
            <a:ext cx="1511280" cy="13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4716360" y="3500280"/>
            <a:ext cx="1584360" cy="120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2411280" y="1844640"/>
            <a:ext cx="1513080" cy="131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2411280" y="5084640"/>
            <a:ext cx="14400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716360" y="5084640"/>
            <a:ext cx="1511280" cy="115272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7301" y="10965"/>
                </a:moveTo>
                <a:lnTo>
                  <a:pt x="17806" y="3959"/>
                </a:lnTo>
                <a:lnTo>
                  <a:pt x="17806" y="17972"/>
                </a:lnTo>
                <a:close/>
              </a:path>
              <a:path fill="darken" w="21600" h="21931">
                <a:moveTo>
                  <a:pt x="3794" y="3959"/>
                </a:moveTo>
                <a:lnTo>
                  <a:pt x="5456" y="3959"/>
                </a:lnTo>
                <a:lnTo>
                  <a:pt x="5456" y="17972"/>
                </a:lnTo>
                <a:lnTo>
                  <a:pt x="3794" y="179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08720" cy="6842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4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4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90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4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-74520"/>
            <a:ext cx="8316720" cy="693252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-52560"/>
            <a:ext cx="8280360" cy="69026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-14400"/>
            <a:ext cx="8243640" cy="68724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08720" cy="68421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32:10Z</dcterms:created>
  <dc:creator>Завуч</dc:creator>
  <dc:description/>
  <dc:language>en-US</dc:language>
  <cp:lastModifiedBy>Завуч</cp:lastModifiedBy>
  <dcterms:modified xsi:type="dcterms:W3CDTF">2012-01-27T12:32:23Z</dcterms:modified>
  <cp:revision>1</cp:revision>
  <dc:subject/>
  <dc:title>Слайд 1</dc:title>
</cp:coreProperties>
</file>