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49A-D03E-4F07-BC12-E0AA0B88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630-9C00-46B5-9681-5B1FE11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712-C882-4144-B688-3986D7B2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254-F6E6-4DBD-A3DD-C4DC556C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3A5A-941C-4ABF-9FBC-DD8CE424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AF14-E733-4753-90B0-6BCF6146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5F5D-41E4-4268-A085-3A56188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AB0A-CB3E-4FAF-8210-B153C89A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638C-60B1-4DDF-8623-3B2C388B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FCFB-D752-4DCA-BF3A-246A66F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E571-4C5D-4786-ABDB-3487EB8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BE7-D2E2-49D5-AAB3-2D266AFB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1A5-DD2F-4BB9-BB35-C9C0922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9CF-13A6-4C67-AFA4-45004DBF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E646-C2D7-4DBB-9CC6-4CA47821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55C6-BEE6-4850-9723-11CB9919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465F-94B6-4DD3-945D-2FB99E46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AFE-4882-4415-BF30-8DAF858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7E2-26BC-4869-AB20-BA2C1E6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DF4-A6DE-4172-B119-FE09727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316-5476-4E38-A3D2-6A93A9F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7B3-D96B-41EF-94C5-A6F503C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84A-8307-4E0A-AB53-15885FD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98C-AD2F-4B10-977B-97944AA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B7C4-2795-4173-AAE4-64801339F8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A691-C944-4763-BD07-2A536F1E7E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8483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Bookman Old Style"/>
              </a:rPr>
              <a:t>Равенство работ при использовании простых механизмов. </a:t>
            </a:r>
            <a:br>
              <a:rPr sz="5400"/>
            </a:br>
            <a:r>
              <a:rPr b="1" i="1" lang="en-US" sz="5400" spc="-1" strike="noStrike">
                <a:solidFill>
                  <a:srgbClr val="ffcc66"/>
                </a:solidFill>
                <a:latin typeface="Bookman Old Style"/>
              </a:rPr>
              <a:t>«Золотое правило» механики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5638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Учитель физики Пучкова С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МОУ Суховская СО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296" h="21600">
                <a:moveTo>
                  <a:pt x="1314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296" h="21600">
                <a:moveTo>
                  <a:pt x="10572" y="8224"/>
                </a:moveTo>
                <a:lnTo>
                  <a:pt x="14436" y="8224"/>
                </a:lnTo>
                <a:lnTo>
                  <a:pt x="14436" y="15221"/>
                </a:lnTo>
                <a:lnTo>
                  <a:pt x="15724" y="15221"/>
                </a:lnTo>
                <a:lnTo>
                  <a:pt x="15724" y="16144"/>
                </a:lnTo>
                <a:lnTo>
                  <a:pt x="10572" y="16144"/>
                </a:lnTo>
                <a:lnTo>
                  <a:pt x="10572" y="15221"/>
                </a:lnTo>
                <a:lnTo>
                  <a:pt x="11860" y="15221"/>
                </a:lnTo>
                <a:lnTo>
                  <a:pt x="11860" y="9129"/>
                </a:lnTo>
                <a:lnTo>
                  <a:pt x="10572" y="912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Простые механизмы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en-US" sz="48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механизмами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К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простым механизмам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 относятся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рычаг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 (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блок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ворот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наклонная плоскость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клин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,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Bookman Old Style"/>
                <a:ea typeface="Times New Roman"/>
              </a:rPr>
              <a:t>винт</a:t>
            </a: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763280" y="5373360"/>
            <a:ext cx="5472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Bookman Old Style"/>
              </a:rPr>
              <a:t>Приме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5735" y="10800"/>
                </a:moveTo>
                <a:lnTo>
                  <a:pt x="5229" y="17806"/>
                </a:lnTo>
                <a:lnTo>
                  <a:pt x="5229" y="3794"/>
                </a:lnTo>
                <a:close/>
              </a:path>
              <a:path fill="darken" w="24471" h="21600">
                <a:moveTo>
                  <a:pt x="17580" y="3794"/>
                </a:moveTo>
                <a:lnTo>
                  <a:pt x="17580" y="17806"/>
                </a:lnTo>
                <a:lnTo>
                  <a:pt x="19242" y="17806"/>
                </a:lnTo>
                <a:lnTo>
                  <a:pt x="19242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600" spc="-1" strike="noStrike">
                <a:solidFill>
                  <a:srgbClr val="ffcc66"/>
                </a:solidFill>
                <a:latin typeface="Bookman Old Style"/>
              </a:rPr>
              <a:t>Рычаги</a:t>
            </a:r>
            <a:endParaRPr b="0" lang="en-US" sz="1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120" y="358128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i="1" lang="en-US" sz="3600" spc="-1" strike="noStrike">
                <a:solidFill>
                  <a:srgbClr val="ffcc66"/>
                </a:solidFill>
                <a:latin typeface="Bookman Old Style"/>
              </a:rPr>
              <a:t>Правило рычага лежит в основе действия различного рода инструментов, применяемых в быту и технике там, где требуется </a:t>
            </a:r>
            <a:r>
              <a:rPr b="1" i="1" lang="en-US" sz="3600" spc="-1" strike="noStrike">
                <a:solidFill>
                  <a:srgbClr val="ffcc66"/>
                </a:solidFill>
                <a:latin typeface="Bookman Old Style"/>
              </a:rPr>
              <a:t>выигрыш в силе или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572000" y="1219320"/>
            <a:ext cx="3733920" cy="1806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57200" y="914400"/>
            <a:ext cx="3276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39:12Z</dcterms:modified>
  <cp:revision>31</cp:revision>
  <dc:subject/>
  <dc:title>Равенство работ при использовании простых механизмов.  «Золотое правило» механики.</dc:title>
</cp:coreProperties>
</file>