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laser.wav" ContentType="audio/x-wav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EAB8-30B6-4A48-B2EF-216DD8C00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0BDB-56F9-4141-99F8-759EB98FE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FECA-0410-4343-9D91-6F3CB0061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0FBD-61A6-46E1-94B0-5AEDD9C01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B5140-DB6F-4D05-AC53-CD002DB25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681E1-78A6-4944-83A0-41D88EEB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41964-B7E7-4DF0-A4C7-C6DE44B61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9BF4C-DDF1-4465-B4FA-8AD6D6D4A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359F8-7E8B-48A3-80A0-C1CF5B984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32323-9F20-4810-93A0-FD9223411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92127-1D76-49D4-BD54-3DC378CD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7451-C007-4358-970E-FF56A3D5C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4A207-E0B2-4F82-8244-BEACAB34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4AE87-170D-4482-9AFF-D08593F2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1930A-E940-4694-8915-B7F18DB35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95501-7B9E-4B27-B792-EDFD99F7A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AE4B6-D35B-4F7A-9F42-99F403D62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B5C2-A7B5-4428-8437-A907BE87C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72E2-63B6-4E7B-B721-D18B1C868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D7D8-531C-489B-80DC-FB8297BD2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EC50-726B-469C-AC5D-9D7211E42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5CB2-D258-434B-A920-A706DB04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E238-6A56-4A48-BD34-4CC32D0B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EDA2-F1D5-4AD0-9119-A54FD050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0EDD9-BDFA-451F-8C1B-328AF989293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E5B94-81BC-4DD9-A3F8-F0DBDA08A15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71280" y="549360"/>
            <a:ext cx="7848360" cy="47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cc66"/>
                </a:solidFill>
                <a:latin typeface="Bookman Old Style"/>
              </a:rPr>
              <a:t>Равенство работ при использовании простых механизмов. </a:t>
            </a:r>
            <a:br>
              <a:rPr sz="5400"/>
            </a:br>
            <a:r>
              <a:rPr b="1" i="1" lang="en-US" sz="5400" spc="-1" strike="noStrike">
                <a:solidFill>
                  <a:srgbClr val="ffcc66"/>
                </a:solidFill>
                <a:latin typeface="Bookman Old Style"/>
              </a:rPr>
              <a:t>«Золотое правило» механики.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914400" y="56386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ookman Old Style"/>
              </a:rPr>
              <a:t>Учитель физики Пучкова С.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ookman Old Style"/>
              </a:rPr>
              <a:t>МОУ Суховская СОШ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8388360" y="6237360"/>
            <a:ext cx="755640" cy="620640"/>
          </a:xfrm>
          <a:custGeom>
            <a:avLst/>
            <a:gdLst>
              <a:gd name="textAreaLeft" fmla="*/ 39960 w 755640"/>
              <a:gd name="textAreaRight" fmla="*/ 715680 w 755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6296" h="21600">
                <a:moveTo>
                  <a:pt x="0" y="0"/>
                </a:moveTo>
                <a:lnTo>
                  <a:pt x="26296" y="0"/>
                </a:lnTo>
                <a:lnTo>
                  <a:pt x="26296" y="21600"/>
                </a:lnTo>
                <a:lnTo>
                  <a:pt x="0" y="21600"/>
                </a:lnTo>
                <a:close/>
              </a:path>
              <a:path fill="lightenLess" w="26296" h="21600">
                <a:moveTo>
                  <a:pt x="0" y="0"/>
                </a:moveTo>
                <a:lnTo>
                  <a:pt x="26296" y="0"/>
                </a:lnTo>
                <a:lnTo>
                  <a:pt x="24896" y="1400"/>
                </a:lnTo>
                <a:lnTo>
                  <a:pt x="1400" y="1400"/>
                </a:lnTo>
                <a:close/>
              </a:path>
              <a:path fill="darken" w="26296" h="21600">
                <a:moveTo>
                  <a:pt x="26296" y="0"/>
                </a:moveTo>
                <a:lnTo>
                  <a:pt x="26296" y="21600"/>
                </a:lnTo>
                <a:lnTo>
                  <a:pt x="24896" y="20200"/>
                </a:lnTo>
                <a:lnTo>
                  <a:pt x="24896" y="1400"/>
                </a:lnTo>
                <a:close/>
              </a:path>
              <a:path fill="darkenLess" w="26296" h="21600">
                <a:moveTo>
                  <a:pt x="262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96" y="20200"/>
                </a:lnTo>
                <a:close/>
              </a:path>
              <a:path fill="lighten" w="262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96" h="21600">
                <a:moveTo>
                  <a:pt x="13148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6296" h="21600">
                <a:moveTo>
                  <a:pt x="13148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6296" h="21600">
                <a:moveTo>
                  <a:pt x="10572" y="8224"/>
                </a:moveTo>
                <a:lnTo>
                  <a:pt x="14436" y="8224"/>
                </a:lnTo>
                <a:lnTo>
                  <a:pt x="14436" y="15221"/>
                </a:lnTo>
                <a:lnTo>
                  <a:pt x="15724" y="15221"/>
                </a:lnTo>
                <a:lnTo>
                  <a:pt x="15724" y="16144"/>
                </a:lnTo>
                <a:lnTo>
                  <a:pt x="10572" y="16144"/>
                </a:lnTo>
                <a:lnTo>
                  <a:pt x="10572" y="15221"/>
                </a:lnTo>
                <a:lnTo>
                  <a:pt x="11860" y="15221"/>
                </a:lnTo>
                <a:lnTo>
                  <a:pt x="11860" y="9129"/>
                </a:lnTo>
                <a:lnTo>
                  <a:pt x="10572" y="9129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Bookman Old Style"/>
              </a:rPr>
              <a:t>Простые механизмы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en-US" sz="36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Приспособления, служащие для преобразования силы, называют </a:t>
            </a:r>
            <a:r>
              <a:rPr b="0" lang="en-US" sz="4800" spc="-1" strike="noStrike" u="sng">
                <a:solidFill>
                  <a:srgbClr val="ffcc66"/>
                </a:solidFill>
                <a:uFillTx/>
                <a:latin typeface="Bookman Old Style"/>
                <a:ea typeface="Times New Roman"/>
              </a:rPr>
              <a:t>механизмами</a:t>
            </a:r>
            <a:r>
              <a:rPr b="1" i="1" lang="en-US" sz="36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  <a:ea typeface="Times New Roman"/>
              </a:rPr>
              <a:t>К </a:t>
            </a: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простым механизмам </a:t>
            </a: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  <a:ea typeface="Times New Roman"/>
              </a:rPr>
              <a:t> относятся</a:t>
            </a: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0" lang="en-US" sz="3600" spc="-1" strike="noStrike" u="sng">
                <a:solidFill>
                  <a:srgbClr val="ffcc66"/>
                </a:solidFill>
                <a:uFillTx/>
                <a:latin typeface="Bookman Old Style"/>
                <a:ea typeface="Times New Roman"/>
              </a:rPr>
              <a:t>рычаг</a:t>
            </a:r>
            <a:r>
              <a:rPr b="1" i="1" lang="en-US" sz="3600" spc="-1" strike="noStrike">
                <a:solidFill>
                  <a:srgbClr val="ffffff"/>
                </a:solidFill>
                <a:latin typeface="Bookman Old Style"/>
              </a:rPr>
              <a:t> (</a:t>
            </a:r>
            <a:r>
              <a:rPr b="0" lang="en-US" sz="3600" spc="-1" strike="noStrike" u="sng">
                <a:solidFill>
                  <a:srgbClr val="ffcc66"/>
                </a:solidFill>
                <a:uFillTx/>
                <a:latin typeface="Bookman Old Style"/>
                <a:ea typeface="Times New Roman"/>
              </a:rPr>
              <a:t>блок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, </a:t>
            </a:r>
            <a:r>
              <a:rPr b="0" i="1" lang="en-US" sz="3600" spc="-1" strike="noStrike">
                <a:solidFill>
                  <a:srgbClr val="ffffff"/>
                </a:solidFill>
                <a:latin typeface="Bookman Old Style"/>
              </a:rPr>
              <a:t>ворот</a:t>
            </a:r>
            <a:r>
              <a:rPr b="1" i="1" lang="en-US" sz="3600" spc="-1" strike="noStrike">
                <a:solidFill>
                  <a:srgbClr val="ffffff"/>
                </a:solidFill>
                <a:latin typeface="Bookman Old Style"/>
              </a:rPr>
              <a:t>)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0" lang="en-US" sz="3600" spc="-1" strike="noStrike" u="sng">
                <a:solidFill>
                  <a:srgbClr val="ffcc66"/>
                </a:solidFill>
                <a:uFillTx/>
                <a:latin typeface="Bookman Old Style"/>
                <a:ea typeface="Times New Roman"/>
              </a:rPr>
              <a:t>наклонная плоскость</a:t>
            </a:r>
            <a:r>
              <a:rPr b="1" i="1" lang="en-US" sz="36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0" lang="en-US" sz="3600" spc="-1" strike="noStrike" u="sng">
                <a:solidFill>
                  <a:srgbClr val="ffcc66"/>
                </a:solidFill>
                <a:uFillTx/>
                <a:latin typeface="Bookman Old Style"/>
                <a:ea typeface="Times New Roman"/>
              </a:rPr>
              <a:t>клин</a:t>
            </a:r>
            <a:r>
              <a:rPr b="0" lang="en-US" sz="3600" spc="-1" strike="noStrike" u="sng">
                <a:solidFill>
                  <a:srgbClr val="ffcc66"/>
                </a:solidFill>
                <a:uFillTx/>
                <a:latin typeface="Bookman Old Style"/>
                <a:ea typeface="Times New Roman"/>
              </a:rPr>
              <a:t>, </a:t>
            </a:r>
            <a:r>
              <a:rPr b="0" lang="en-US" sz="3600" spc="-1" strike="noStrike" u="sng">
                <a:solidFill>
                  <a:srgbClr val="ffcc66"/>
                </a:solidFill>
                <a:uFillTx/>
                <a:latin typeface="Bookman Old Style"/>
                <a:ea typeface="Times New Roman"/>
              </a:rPr>
              <a:t>винт</a:t>
            </a:r>
            <a:r>
              <a:rPr b="1" i="1" lang="en-US" sz="36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i="1" lang="en-US" sz="3600" spc="-1" strike="noStrike">
                <a:solidFill>
                  <a:srgbClr val="ffffff"/>
                </a:solidFill>
                <a:latin typeface="Bookman Old Style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763280" y="5373360"/>
            <a:ext cx="547236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Bookman Old Style"/>
              </a:rPr>
              <a:t>Применени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15735" y="10800"/>
                </a:moveTo>
                <a:lnTo>
                  <a:pt x="5229" y="17806"/>
                </a:lnTo>
                <a:lnTo>
                  <a:pt x="5229" y="3794"/>
                </a:lnTo>
                <a:close/>
              </a:path>
              <a:path fill="darken" w="24471" h="21600">
                <a:moveTo>
                  <a:pt x="17580" y="3794"/>
                </a:moveTo>
                <a:lnTo>
                  <a:pt x="17580" y="17806"/>
                </a:lnTo>
                <a:lnTo>
                  <a:pt x="19242" y="17806"/>
                </a:lnTo>
                <a:lnTo>
                  <a:pt x="19242" y="3794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600" spc="-1" strike="noStrike">
                <a:solidFill>
                  <a:srgbClr val="ffcc66"/>
                </a:solidFill>
                <a:latin typeface="Bookman Old Style"/>
              </a:rPr>
              <a:t>Рычаги</a:t>
            </a:r>
            <a:endParaRPr b="0" lang="en-US" sz="136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09120" y="3581280"/>
            <a:ext cx="76201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Bookman Old Style"/>
              </a:rPr>
              <a:t>     </a:t>
            </a:r>
            <a:r>
              <a:rPr b="0" i="1" lang="en-US" sz="3600" spc="-1" strike="noStrike">
                <a:solidFill>
                  <a:srgbClr val="ffcc66"/>
                </a:solidFill>
                <a:latin typeface="Bookman Old Style"/>
              </a:rPr>
              <a:t>Правило рычага лежит в основе действия различного рода инструментов, применяемых в быту и технике там, где требуется </a:t>
            </a:r>
            <a:r>
              <a:rPr b="1" i="1" lang="en-US" sz="3600" spc="-1" strike="noStrike">
                <a:solidFill>
                  <a:srgbClr val="ffcc66"/>
                </a:solidFill>
                <a:latin typeface="Bookman Old Style"/>
              </a:rPr>
              <a:t>выигрыш в силе или пут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4572000" y="1219320"/>
            <a:ext cx="3733920" cy="18064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457200" y="914400"/>
            <a:ext cx="3276720" cy="242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7T04:58:48Z</dcterms:created>
  <dc:creator>заместитель директора по УР</dc:creator>
  <dc:description/>
  <dc:language>en-US</dc:language>
  <cp:lastModifiedBy>Завуч</cp:lastModifiedBy>
  <dcterms:modified xsi:type="dcterms:W3CDTF">2012-01-27T12:39:12Z</dcterms:modified>
  <cp:revision>31</cp:revision>
  <dc:subject/>
  <dc:title>Равенство работ при использовании простых механизмов.  «Золотое правило» механики.</dc:title>
</cp:coreProperties>
</file>