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6B4-769B-4619-A055-9214B894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9CE-BF67-4042-BD20-C9DC24DC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A98-2100-47FC-9375-CA30ECBF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9AE-D132-4D93-9D42-C90B08EB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4DFF-9C9F-41EB-B870-9F226596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782-86F3-4188-BC39-B1C0B9AE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AC8-1DF6-4571-AB8C-9C4188E6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B271-ADC8-421B-AF58-C7805ED4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B019-E9CF-4383-A894-F84A22AA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5838-4F10-4A3B-9A94-AB095B9C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A2D1-9BA6-4440-947E-416CF58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2E9-5600-4744-9383-48AFF207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B48A-25F5-42B6-8AEA-5B563E1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1F05-3D3D-4F0C-A4EA-4AD10D3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E1A-3611-4651-B101-0DB50261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4C9B-52B9-4686-AAF7-F952C8CB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3565-E8AB-4B1D-A914-DAEEF3C4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B35-ACEF-4AE9-AE80-434DEC09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1C9-6F9C-4DCC-A7BD-2F394CDD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38F-CF4C-4CFA-BF9D-5BDBF5E5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65C-07AC-41C8-A1B4-9316F1BC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C2E-BA84-4DDB-B039-6025EFB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CEE-F844-46C2-A083-9845662A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3D2-38A1-4A26-A18B-D2FB63F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A1D1-663D-465A-8BBA-2C782092CC1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2E60-DCD7-44D9-BE5D-88476A7BDDE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19520" y="0"/>
            <a:ext cx="423216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048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04920" y="4495680"/>
            <a:ext cx="3962160" cy="2060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800600" y="4572000"/>
            <a:ext cx="3886200" cy="187488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8737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6892" y="3794"/>
                </a:lnTo>
                <a:lnTo>
                  <a:pt x="6892" y="17806"/>
                </a:lnTo>
                <a:lnTo>
                  <a:pt x="522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500" spc="-1" strike="noStrike">
                <a:solidFill>
                  <a:srgbClr val="ffcc66"/>
                </a:solidFill>
                <a:latin typeface="Bookman Old Style"/>
              </a:rPr>
              <a:t>Блоки</a:t>
            </a:r>
            <a:endParaRPr b="0" lang="en-US" sz="165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Bookman Old Style"/>
              </a:rPr>
              <a:t>Неподвижный блок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Неподвижный блок — это блок, ось которого закрепле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н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а и при подъеме грузов не поднимается и не опуск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66372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Bookman Old Style"/>
              </a:rPr>
              <a:t>Подвижный блок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Подвижный блок — это блок, ось которого поднимается и опускается вместе с грузом. Он дает </a:t>
            </a:r>
            <a:r>
              <a:rPr b="1" i="1" lang="en-US" sz="32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выигрыш силы в 2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а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1677960"/>
            <a:ext cx="331776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Bookman Old Style"/>
              </a:rPr>
              <a:t>Комбинация блоков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447560"/>
            <a:ext cx="4343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На практике применяют комбинацию подвижного блока с  неподвижным. Неподвижный блок применяется для удобства. Он не дает выигрыша в силе, но изменяет  направление действия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72132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40:10Z</dcterms:modified>
  <cp:revision>31</cp:revision>
  <dc:subject/>
  <dc:title>Равенство работ при использовании простых механизмов.  «Золотое правило» механики.</dc:title>
</cp:coreProperties>
</file>