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D2E-3EC2-4E68-8B8D-AB37A690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E00-6F3B-48CE-9E4C-788D550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688-46FA-46E9-88A4-9085A6FD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290-22C5-49F7-9CA1-CD1AEB6A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DA07-7FB3-4D98-B2CD-4F9AD68F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D540-E7C1-42AF-9636-7DFFBEEF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38DA-DC85-4FA0-A65B-66526167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51AF-1D4C-4910-85A3-7F459CFF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AED3-3948-4A2B-954F-6DF09316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D749-4B56-4FA8-A133-297342A5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7178-D690-44E7-A705-A8D1E007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A33-DB0B-4846-AFF2-2773C4ED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6AAF-07D9-4434-8116-4243C03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A38D-DD65-4948-A8E8-622E6921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0337-8C35-4F03-AF07-6E58558C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F881-A289-4FF3-B5D8-B2F21A5C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5681-A7F3-482E-A4F8-79338379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80D-095B-443A-AEFF-E9393472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3F8-27E2-4164-A4E2-C17598DC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B44-41DF-4E7F-BA20-847781B0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1DF-3B0A-4CD7-A66F-AF9DED8C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B4A-1734-4D71-B3A1-FDF4F649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8CD-EB5E-4B3E-A3BE-E8E5EDDB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426-5EF9-4049-AF42-97F2FE6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57AD-7D68-41FA-A9E7-5A51F0619D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2249-8AAE-4F1D-8984-EAEE7E6EAE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19520" y="0"/>
            <a:ext cx="4232160" cy="45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048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04920" y="4495680"/>
            <a:ext cx="3962160" cy="2060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4800600" y="4572000"/>
            <a:ext cx="3886200" cy="187488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8737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6892" y="3794"/>
                </a:lnTo>
                <a:lnTo>
                  <a:pt x="6892" y="17806"/>
                </a:lnTo>
                <a:lnTo>
                  <a:pt x="522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500" spc="-1" strike="noStrike">
                <a:solidFill>
                  <a:srgbClr val="ffcc66"/>
                </a:solidFill>
                <a:latin typeface="Bookman Old Style"/>
              </a:rPr>
              <a:t>Блоки</a:t>
            </a:r>
            <a:endParaRPr b="0" lang="en-US" sz="165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Bookman Old Style"/>
              </a:rPr>
              <a:t>Неподвижный блок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Неподвижный блок — это блок, ось которого закрепле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н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а и при подъеме грузов не поднимается и не опуск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366372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Bookman Old Style"/>
              </a:rPr>
              <a:t>Подвижный блок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Подвижный блок — это блок, ось которого поднимается и опускается вместе с грузом. Он дает </a:t>
            </a:r>
            <a:r>
              <a:rPr b="1" i="1" lang="en-US" sz="3200" spc="-1" strike="noStrike">
                <a:solidFill>
                  <a:srgbClr val="ffcc66"/>
                </a:solidFill>
                <a:latin typeface="Bookman Old Style"/>
                <a:ea typeface="Times New Roman"/>
              </a:rPr>
              <a:t>выигрыш силы в 2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а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1677960"/>
            <a:ext cx="331776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Bookman Old Style"/>
              </a:rPr>
              <a:t>Комбинация блоков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447560"/>
            <a:ext cx="4343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На практике применяют комбинацию подвижного блока с  неподвижным. Неподвижный блок применяется для удобства. Он не дает выигрыша в силе, но изменяет  направление действия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72132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58:48Z</dcterms:created>
  <dc:creator>заместитель директора по УР</dc:creator>
  <dc:description/>
  <dc:language>en-US</dc:language>
  <cp:lastModifiedBy>Завуч</cp:lastModifiedBy>
  <dcterms:modified xsi:type="dcterms:W3CDTF">2012-01-27T12:40:10Z</dcterms:modified>
  <cp:revision>31</cp:revision>
  <dc:subject/>
  <dc:title>Равенство работ при использовании простых механизмов.  «Золотое правило» механики.</dc:title>
</cp:coreProperties>
</file>