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wind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9D64-368E-4F60-8DCF-F62D87D2A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837E-7FD9-42C7-B580-7D212263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800E-D184-4DED-AA75-43FF14AEF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8F77-5304-4791-AFFD-649889911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0559-6D91-4454-9EA2-D4CDD1B56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84AA-42F5-45EA-8FED-3CA213E1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AAB8-B35C-4A5E-8DD1-146DC3EB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CECD-C650-45AF-9E5B-C5F9AF67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B49C-7AF1-4DB7-B290-40F38E76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03BA-A029-4112-B525-E71EDD27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633D-BED9-4E2B-ABBA-5D93161D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2181-54DB-4178-BD90-5FE2B4A5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B912-A9F2-4AFE-9435-FD6352E3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2637-C0C3-44AA-8676-26F8A4EF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9B27-CEA2-48EC-A0FD-CA67874D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CD3D-32A6-4CCF-BF09-AE35B7766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46BA-2E4E-49E3-926C-D357B4B5E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AC4E-9919-485C-90CC-68095756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8029-4F64-4E71-9E81-567DBC8E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D8E7-0F0F-4193-B011-FB306E1A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E3B5-6845-444E-A999-BFAE7100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AC1B-7101-4068-A58F-DEACF437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3000-3E2C-4AA7-B6A2-77EEA7EA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D55F-9C8B-4492-9229-E8CD40FE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F565-63A2-4E15-8D4F-320CD9ACE02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119E-648E-4BCF-B3CB-0B15377825B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 rot="5400000">
            <a:off x="4734360" y="2547000"/>
            <a:ext cx="6192720" cy="147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троительство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5998" y="10800"/>
                </a:moveTo>
                <a:lnTo>
                  <a:pt x="5493" y="17806"/>
                </a:lnTo>
                <a:lnTo>
                  <a:pt x="5493" y="3794"/>
                </a:lnTo>
                <a:close/>
              </a:path>
              <a:path fill="darken" w="24998" h="21600">
                <a:moveTo>
                  <a:pt x="17843" y="3794"/>
                </a:moveTo>
                <a:lnTo>
                  <a:pt x="17843" y="17806"/>
                </a:lnTo>
                <a:lnTo>
                  <a:pt x="19506" y="17806"/>
                </a:lnTo>
                <a:lnTo>
                  <a:pt x="19506" y="3794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79280" y="5705640"/>
            <a:ext cx="4427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800080"/>
                  </a:solidFill>
                  <a:prstDash val="sysDot"/>
                  <a:miter/>
                </a:ln>
                <a:solidFill>
                  <a:srgbClr val="33cccc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едицина</a:t>
            </a:r>
            <a:endParaRPr b="0" lang="en-US" sz="2400" spc="1" strike="noStrike">
              <a:ln w="19080">
                <a:solidFill>
                  <a:srgbClr val="800080"/>
                </a:solidFill>
                <a:prstDash val="sysDot"/>
                <a:miter/>
              </a:ln>
              <a:solidFill>
                <a:srgbClr val="33cccc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dbbd71"/>
                </a:solidFill>
                <a:latin typeface="Bookman Old Style"/>
              </a:rPr>
              <a:t>Наклонная плоскость.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5327640" cy="2982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5327640" y="3760920"/>
            <a:ext cx="3816360" cy="309708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rId3" action="ppaction://hlinksldjump"/>
          </p:cNvPr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8518" y="10800"/>
                </a:moveTo>
                <a:lnTo>
                  <a:pt x="19023" y="3794"/>
                </a:lnTo>
                <a:lnTo>
                  <a:pt x="19023" y="17806"/>
                </a:lnTo>
                <a:close/>
              </a:path>
              <a:path fill="darken" w="24033" h="21600">
                <a:moveTo>
                  <a:pt x="5010" y="3794"/>
                </a:moveTo>
                <a:lnTo>
                  <a:pt x="6672" y="3794"/>
                </a:lnTo>
                <a:lnTo>
                  <a:pt x="6672" y="17806"/>
                </a:lnTo>
                <a:lnTo>
                  <a:pt x="501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310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Bookman Old Style"/>
              </a:rPr>
              <a:t>Клин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2952720" cy="29527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508720" y="1988640"/>
            <a:ext cx="23716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Bookman Old Style"/>
              </a:rPr>
              <a:t>Винт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860436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140360" y="3573360"/>
            <a:ext cx="4711680" cy="24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i="1" lang="en-US" sz="6000" spc="-1" strike="noStrike">
                <a:solidFill>
                  <a:srgbClr val="ffcc66"/>
                </a:solidFill>
                <a:latin typeface="Bookman Old Style"/>
              </a:rPr>
              <a:t>Простыми механизмами пользовались ещё в древние времена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7T04:58:48Z</dcterms:created>
  <dc:creator>заместитель директора по УР</dc:creator>
  <dc:description/>
  <dc:language>en-US</dc:language>
  <cp:lastModifiedBy>Завуч</cp:lastModifiedBy>
  <dcterms:modified xsi:type="dcterms:W3CDTF">2012-01-27T12:41:04Z</dcterms:modified>
  <cp:revision>32</cp:revision>
  <dc:subject/>
  <dc:title>Равенство работ при использовании простых механизмов.  «Золотое правило» механики.</dc:title>
</cp:coreProperties>
</file>