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EDB-DF31-4D58-B4C1-56DE2C72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603-B3E4-47D7-B5C6-ADEA6727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885-462F-4213-ACE7-C517EFAA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CA6-C9AC-42DD-B701-D6A79C53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731-EFC6-4345-8A37-222E7C5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C0D-2730-4280-8C53-C86758BC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62C5-ADA1-43EC-AD82-62860744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73D-3545-400B-8187-07541AE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449F-6AB4-4A45-8430-6AD26030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D3D5-4FAF-4B18-B303-BAA7954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252C-26EC-4225-9FE7-B5F66B7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A8F-ABA3-4D0A-A2BB-23ED2D1A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ED35-B7BC-49EE-A84E-D8EB2A2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8385-52CD-44CD-8FDA-8FAF973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C19D-AD11-4994-A9A4-953350C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8444-7EBF-49EA-A73F-BB86CBD0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04D6-ABF6-4C6F-BDB4-6E96BCD8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62A-8415-408B-BD6F-E89A8D35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639-89CD-442D-9CF1-6DD908C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3CB-7BDC-4E6F-99D3-6AC602E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844-4F7D-4FD2-96B2-62389E9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E5A-C1AC-4F2C-A88F-30647D9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967-E32C-49FC-8349-26F9826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D88-2EF2-4566-A8D7-C62F6C6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C64D-FBC7-4D6C-A372-1763B3C814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CA2-5EDC-4D9D-8F53-D5966AC47E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708360" y="2133720"/>
            <a:ext cx="525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Исполь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580000" y="5013360"/>
            <a:ext cx="2376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8a500"/>
                </a:solidFill>
                <a:latin typeface="Arial"/>
              </a:rPr>
              <a:t>воро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8a500"/>
              </a:solidFill>
              <a:latin typeface="Arial"/>
              <a:ea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402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8a500"/>
                </a:solidFill>
                <a:latin typeface="Bookman Old Style"/>
              </a:rPr>
              <a:t>Шадуф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Чтобы подавать воду с нижнего уровня  реки или канала на верхний, например в другой канал, по которому она потечет дальше «сама собой», было изобретено простое, но весьма эффективное техническое устройство –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шадуф.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Он похож на журавль – длинный рычаг с противове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596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i="1" lang="ru-RU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Греки старались сократить объем ручного труда с помощью строительной техники. В </a:t>
            </a:r>
            <a:r>
              <a:rPr b="0" i="1" lang="en-US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VI</a:t>
            </a:r>
            <a:r>
              <a:rPr b="0" i="1" lang="ru-RU" sz="30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веке до нашей эры они изобрели два подъемных крана:  для подъема небольших и более тяжелых грузов. По изображениям, найденным археологами среди развалин одного из античных городов, удалось установить, как он действовал. Колесо  огромного крана вращали пять человек, в то же время двое управляли грузом снизу и двое – сверху.</a:t>
            </a: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3644640"/>
            <a:ext cx="743904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"/>
              </a:rPr>
              <a:t>Водоподъёмное колесо-  «прадедушка»  водяной мельниц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Bookman Old Style"/>
              </a:rPr>
              <a:t>«Улитка», или архимедов вин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413000"/>
            <a:ext cx="9144000" cy="47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3:57Z</dcterms:modified>
  <cp:revision>39</cp:revision>
  <dc:subject/>
  <dc:title>Равенство работ при использовании простых механизмов.  «Золотое правило» механики.</dc:title>
</cp:coreProperties>
</file>