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71E-D26A-4A8E-948C-FBDA1C65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74EA-DA7B-4234-9765-528058BF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982-F9DD-4AE5-BEE6-767A00DC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1DEE-F873-49FF-9775-6B7541AA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9AA7-4FD4-4743-85D9-D5BEF68D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0330-2710-464F-9449-86549BDF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19CB-C14D-4EFC-B3F3-546C8531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50E6-AF7E-473E-95EB-4D6F78D9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405F-A4AA-489C-AAB4-2FECBD61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86D1-DDE8-4577-B4AF-41631658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B855-0518-4710-8756-D05C7184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9E3-0E09-4615-B437-00162637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8FC9-996F-4277-B456-EC1CAC0D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9FD3-F8A0-441F-97A9-ED3191AB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DFBD-F5FB-4C06-87AE-E09888FA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642C-43D7-43CD-A609-8573368E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6F7C-4F2F-4ED1-97DE-F637A297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7E39-4896-47EB-AD68-CC229BC2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58C-64BD-4838-A49E-0E8299D3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51B-12DB-4A7C-879B-1C7FEE0E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770C-7A6F-4BBB-AFAC-BF2A571D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8CE-8605-45CF-A9E5-6350798A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9A9C-4D8B-4D19-80D8-4CA8FA61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855E-6E5F-443E-9271-87B28F54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3647-AE4F-4606-9006-88D2B053880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2C94-BD74-47C8-A90D-869DEBA453F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708360" y="2133720"/>
            <a:ext cx="5256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8a500"/>
                </a:solidFill>
                <a:latin typeface="Arial"/>
              </a:rPr>
              <a:t>Использов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8a500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580000" y="5013360"/>
            <a:ext cx="237672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8a500"/>
                </a:solidFill>
                <a:latin typeface="Arial"/>
              </a:rPr>
              <a:t>ворот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8a500"/>
              </a:solidFill>
              <a:latin typeface="Arial"/>
              <a:ea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4720" y="0"/>
            <a:ext cx="4402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8a500"/>
                </a:solidFill>
                <a:latin typeface="Bookman Old Style"/>
              </a:rPr>
              <a:t>Шадуф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Чтобы подавать воду с нижнего уровня  реки или канала на верхний, например в другой канал, по которому она потечет дальше «сама собой», было изобретено простое, но весьма эффективное техническое устройство – </a:t>
            </a: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шадуф.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Он похож на журавль – длинный рычаг с противовес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71640" y="549000"/>
            <a:ext cx="7596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i="1" lang="ru-RU" sz="30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Греки старались сократить объем ручного труда с помощью строительной техники. В </a:t>
            </a:r>
            <a:r>
              <a:rPr b="0" i="1" lang="en-US" sz="30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VI</a:t>
            </a:r>
            <a:r>
              <a:rPr b="0" i="1" lang="ru-RU" sz="30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 веке до нашей эры они изобрели два подъемных крана:  для подъема небольших и более тяжелых грузов. По изображениям, найденным археологами среди развалин одного из античных городов, удалось установить, как он действовал. Колесо  огромного крана вращали пять человек, в то же время двое управляли грузом снизу и двое – сверху.</a:t>
            </a:r>
            <a:r>
              <a:rPr b="0" i="1" lang="ru-RU" sz="2800" spc="-1" strike="noStrike">
                <a:solidFill>
                  <a:srgbClr val="000066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3644640"/>
            <a:ext cx="743904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Arial"/>
              </a:rPr>
              <a:t>Водоподъёмное колесо-  «прадедушка»  водяной мельниц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bbd71"/>
                </a:solidFill>
                <a:latin typeface="Bookman Old Style"/>
              </a:rPr>
              <a:t>«Улитка», или архимедов винт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413000"/>
            <a:ext cx="9144000" cy="472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4:58:48Z</dcterms:created>
  <dc:creator>заместитель директора по УР</dc:creator>
  <dc:description/>
  <dc:language>en-US</dc:language>
  <cp:lastModifiedBy>Завуч</cp:lastModifiedBy>
  <dcterms:modified xsi:type="dcterms:W3CDTF">2012-01-27T12:43:57Z</dcterms:modified>
  <cp:revision>39</cp:revision>
  <dc:subject/>
  <dc:title>Равенство работ при использовании простых механизмов.  «Золотое правило» механики.</dc:title>
</cp:coreProperties>
</file>