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6.png" ContentType="image/png"/>
  <Override PartName="/ppt/media/explode.wav" ContentType="audio/x-wav"/>
  <Override PartName="/ppt/media/drumroll.wav" ContentType="audio/x-wav"/>
  <Override PartName="/ppt/media/applause.wav" ContentType="audio/x-wav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EB7-6540-4EB2-8DAA-C4554DC5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A17-2E51-4DD5-B99D-C4913286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1AC-507B-4975-8024-4C98A572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318-B1E0-4A6E-848A-A5432ACC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0901-2A2C-4C53-9FE7-E5DE7587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D465-CA69-47E5-B387-E39FC26F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8482-6C48-422C-8521-B8DD811F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A74B-4AC3-41FF-BB26-3EB6918E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67D0-3E51-48DC-B390-2F7CB3B5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DCD2-6EB8-43DC-8165-2C99C227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1BAD-AC41-4472-AB4C-91BCF9E2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0F5-CA1D-4C13-9012-99CF1C95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ACEC-8EA5-4F7D-8AEF-F74BEF3E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07C1-88B4-4B25-B8E8-E21DCDE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E655-6386-4839-981E-15B8DC1D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E86C-BF41-490F-AE1A-A3FAA782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1538-7889-4895-99F1-FD3A7951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6B0-BC21-4047-93F0-80277CED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581-6326-41C4-A6F2-90F31E1C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DE8-56D5-45C7-BB9B-D9857858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0BB-3696-4644-8658-36F24AB8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440-DB21-4BF3-BA45-BF882DA0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AAB-6436-49EE-BC26-31D8F8FE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C50-28FC-4DF4-BC36-CE6DD4CA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8D62-A814-4AF4-9177-902BAC2FF83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88B3-6047-43EB-AC9C-7A3E8E6428D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2;&#1077;&#1095;&#1085;&#1099;&#1081;%20&#1076;&#1074;&#1080;&#1075;&#1072;&#1090;&#1077;&#1083;&#1100;.doc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Times New Roman"/>
              </a:rPr>
              <a:t>Простые механизмы применяют в основном для того, чтобы получить выигрыш в силе, т.е. увеличить силу, действующую на тело, в несколько раз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ookman Old Style"/>
              </a:rPr>
              <a:t>Для чего применяют простые механизмы?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59280" y="838080"/>
            <a:ext cx="428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okman Old Style"/>
              </a:rPr>
              <a:t>Не дает выигрыша в работе неподвижный блок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608360" cy="4110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Получая выигрыш в силе в 2 раза, проигрываем 2 раза в пут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40000" y="5300640"/>
            <a:ext cx="50036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ffcc66"/>
                </a:solidFill>
                <a:latin typeface="Bookman Old Style"/>
              </a:rPr>
              <a:t>Подвижный блок не дает выигрыша в рабо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0" y="3860640"/>
            <a:ext cx="2016360" cy="136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3943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dbbd71"/>
                </a:solidFill>
                <a:latin typeface="Bookman Old Style"/>
              </a:rPr>
              <a:t>Ни один из механизмов </a:t>
            </a:r>
            <a:br>
              <a:rPr sz="7200"/>
            </a:br>
            <a:r>
              <a:rPr b="1" i="1" lang="en-US" sz="7200" spc="-1" strike="noStrike">
                <a:solidFill>
                  <a:srgbClr val="dbbd71"/>
                </a:solidFill>
                <a:latin typeface="Bookman Old Style"/>
              </a:rPr>
              <a:t>не дает выигрыша в работе.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8277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«ЗОЛОТОЕ ПРАВИЛО»</a:t>
            </a:r>
            <a:r>
              <a:rPr b="1" lang="en-US" sz="5400" spc="-1" strike="noStrike">
                <a:solidFill>
                  <a:srgbClr val="dbbd71"/>
                </a:solidFill>
                <a:latin typeface="Bookman Old Style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МЕХАНИК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en-US" sz="5400" spc="-1" strike="noStrike">
                <a:solidFill>
                  <a:srgbClr val="ffcc66"/>
                </a:solidFill>
                <a:latin typeface="Bookman Old Style"/>
              </a:rPr>
              <a:t>Во сколько раз </a:t>
            </a:r>
            <a:r>
              <a:rPr b="1" lang="en-US" sz="5400" spc="-1" strike="noStrike" u="sng">
                <a:solidFill>
                  <a:srgbClr val="ffcc66"/>
                </a:solidFill>
                <a:uFillTx/>
                <a:latin typeface="Bookman Old Style"/>
              </a:rPr>
              <a:t>выигрываем в силе</a:t>
            </a:r>
            <a:r>
              <a:rPr b="1" lang="en-US" sz="5400" spc="-1" strike="noStrike">
                <a:solidFill>
                  <a:srgbClr val="ffcc66"/>
                </a:solidFill>
                <a:latin typeface="Bookman Old Style"/>
              </a:rPr>
              <a:t>, во столько раз </a:t>
            </a:r>
            <a:r>
              <a:rPr b="1" lang="en-US" sz="5400" spc="-1" strike="noStrike" u="sng">
                <a:solidFill>
                  <a:srgbClr val="ffcc66"/>
                </a:solidFill>
                <a:uFillTx/>
                <a:latin typeface="Bookman Old Style"/>
              </a:rPr>
              <a:t>проигрываем в расстояни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Bookman Old Style"/>
              </a:rPr>
              <a:t>«Золотое правило» механики применимо ко всем механизмам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8532720" y="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14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931">
                <a:moveTo>
                  <a:pt x="11905" y="14447"/>
                </a:moveTo>
                <a:lnTo>
                  <a:pt x="11905" y="12488"/>
                </a:lnTo>
                <a:cubicBezTo>
                  <a:pt x="11905" y="11662"/>
                  <a:pt x="12236" y="10965"/>
                  <a:pt x="12837" y="10965"/>
                </a:cubicBezTo>
                <a:cubicBezTo>
                  <a:pt x="13968" y="10965"/>
                  <a:pt x="14865" y="9599"/>
                  <a:pt x="14865" y="8015"/>
                </a:cubicBezTo>
                <a:cubicBezTo>
                  <a:pt x="14865" y="5700"/>
                  <a:pt x="13011" y="3959"/>
                  <a:pt x="10800" y="3959"/>
                </a:cubicBezTo>
                <a:cubicBezTo>
                  <a:pt x="8589" y="3959"/>
                  <a:pt x="6918" y="5700"/>
                  <a:pt x="6918" y="8015"/>
                </a:cubicBezTo>
                <a:lnTo>
                  <a:pt x="8772" y="8015"/>
                </a:lnTo>
                <a:cubicBezTo>
                  <a:pt x="8772" y="6875"/>
                  <a:pt x="9695" y="5987"/>
                  <a:pt x="10800" y="5987"/>
                </a:cubicBezTo>
                <a:cubicBezTo>
                  <a:pt x="11905" y="5987"/>
                  <a:pt x="12837" y="6875"/>
                  <a:pt x="12837" y="8015"/>
                </a:cubicBezTo>
                <a:cubicBezTo>
                  <a:pt x="12837" y="8755"/>
                  <a:pt x="12367" y="9486"/>
                  <a:pt x="11905" y="9486"/>
                </a:cubicBezTo>
                <a:cubicBezTo>
                  <a:pt x="10800" y="9486"/>
                  <a:pt x="9695" y="10965"/>
                  <a:pt x="9695" y="12488"/>
                </a:cubicBezTo>
                <a:lnTo>
                  <a:pt x="9695" y="14447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345440" cy="6796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 rot="5400000">
            <a:off x="-2467080" y="2800440"/>
            <a:ext cx="6337440" cy="14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Виды механизмов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0360" y="10800"/>
                </a:moveTo>
                <a:lnTo>
                  <a:pt x="20865" y="3794"/>
                </a:lnTo>
                <a:lnTo>
                  <a:pt x="20865" y="17806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8515" y="3794"/>
                </a:lnTo>
                <a:lnTo>
                  <a:pt x="8515" y="17806"/>
                </a:lnTo>
                <a:lnTo>
                  <a:pt x="685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258920" y="692280"/>
            <a:ext cx="6553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Веч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58920" y="3860640"/>
            <a:ext cx="65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двигат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028000" y="4365360"/>
            <a:ext cx="658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66"/>
                </a:solidFill>
                <a:uFillTx/>
                <a:latin typeface="Bookman Old Style"/>
                <a:hlinkClick r:id="rId1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3600" spc="-1" strike="noStrike">
                <a:solidFill>
                  <a:srgbClr val="ffcc66"/>
                </a:solidFill>
                <a:latin typeface="Bookman Old Style"/>
              </a:rPr>
              <a:t>Используемые человеком механизмы могут быть устроены очень сложно, однако для понимания их работы достаточно изучить так называемые простые механизмы - рычаг и наклонную плоскос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Bookman Old Style"/>
              </a:rPr>
              <a:t>Задан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С помощью подвижного блока груз подняли на высоту 1,5 м. На какую длину при этом был вытянут свободный конец верев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1,5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м       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0,75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м    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 3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С помощью подвижного блока груз подняли на высоту 7 м. Какую работу совершил рабочий при подъеме груза, если он прилагал к концу веревки силу 160 Н? Какую работу он совершит, если этот груз поднимет на высоту 5 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268360" y="1052640"/>
            <a:ext cx="532800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Верно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dbbd71"/>
                </a:solidFill>
                <a:latin typeface="Bookman Old Style"/>
              </a:rPr>
              <a:t>Внимание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7640" y="981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9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200" spc="-1" strike="noStrike">
                <a:solidFill>
                  <a:srgbClr val="ffcc66"/>
                </a:solidFill>
                <a:latin typeface="Perpetua Titling MT"/>
              </a:rPr>
              <a:t>?</a:t>
            </a:r>
            <a:endParaRPr b="0" lang="en-US" sz="39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000" y="1628280"/>
            <a:ext cx="403848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cc66"/>
                </a:solidFill>
                <a:latin typeface="Bookman Old Style"/>
              </a:rPr>
              <a:t>вопрос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258920" y="1557360"/>
            <a:ext cx="66978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шибка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10800"/>
                </a:moveTo>
                <a:lnTo>
                  <a:pt x="19023" y="3794"/>
                </a:lnTo>
                <a:lnTo>
                  <a:pt x="1902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628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i="1" lang="ru-RU" sz="5400" spc="-1" strike="noStrike">
                <a:solidFill>
                  <a:srgbClr val="dbbd71"/>
                </a:solidFill>
                <a:latin typeface="Bookman Old Style"/>
              </a:rPr>
              <a:t>Давая выигрыш </a:t>
            </a:r>
            <a:br>
              <a:rPr sz="5400"/>
            </a:br>
            <a:r>
              <a:rPr b="1" i="1" lang="ru-RU" sz="5400" spc="-1" strike="noStrike">
                <a:solidFill>
                  <a:srgbClr val="dbbd71"/>
                </a:solidFill>
                <a:latin typeface="Bookman Old Style"/>
              </a:rPr>
              <a:t>в силе или пути, дают ли простые механизмы выигрыш  в </a:t>
            </a:r>
            <a:br>
              <a:rPr sz="5400"/>
            </a:br>
            <a:r>
              <a:rPr b="1" i="1" lang="ru-RU" sz="8800" spc="-1" strike="noStrike">
                <a:solidFill>
                  <a:srgbClr val="dbbd71"/>
                </a:solidFill>
                <a:latin typeface="Bookman Old Style"/>
              </a:rPr>
              <a:t>работе</a:t>
            </a:r>
            <a:r>
              <a:rPr b="1" i="1" lang="en-US" sz="5400" spc="-1" strike="noStrike">
                <a:solidFill>
                  <a:srgbClr val="dbbd71"/>
                </a:solidFill>
                <a:latin typeface="Bookman Old Style"/>
              </a:rPr>
              <a:t>?</a:t>
            </a:r>
            <a:br>
              <a:rPr sz="14600"/>
            </a:b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 rot="10800000">
            <a:off x="685800" y="624780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marL="13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13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11280" y="333360"/>
            <a:ext cx="64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Проделаем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43640" y="2349360"/>
            <a:ext cx="2303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опы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6121440" cy="4916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419280" y="2204640"/>
            <a:ext cx="4316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77868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en-US" sz="4000" spc="-1" strike="noStrike">
                <a:solidFill>
                  <a:srgbClr val="ffcc66"/>
                </a:solidFill>
                <a:latin typeface="Bookman Old Style"/>
              </a:rPr>
              <a:t>Пути, пройденные точками приложения сил на рычаге, обратно пропорциональны силам.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21844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66"/>
                </a:solidFill>
                <a:latin typeface="Tahoma"/>
              </a:rPr>
              <a:t>h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1</a:t>
            </a:r>
            <a:r>
              <a:rPr b="1" lang="en-US" sz="6600" spc="-1" strike="noStrike">
                <a:solidFill>
                  <a:srgbClr val="ffcc66"/>
                </a:solidFill>
                <a:latin typeface="Tahoma"/>
              </a:rPr>
              <a:t> / h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6600" spc="-1" strike="noStrike">
                <a:solidFill>
                  <a:srgbClr val="ffcc66"/>
                </a:solidFill>
                <a:latin typeface="Tahoma"/>
              </a:rPr>
              <a:t>  =  F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2</a:t>
            </a:r>
            <a:r>
              <a:rPr b="1" lang="en-US" sz="6600" spc="-1" strike="noStrike">
                <a:solidFill>
                  <a:srgbClr val="ffcc66"/>
                </a:solidFill>
                <a:latin typeface="Tahoma"/>
              </a:rPr>
              <a:t> / F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09120" y="476280"/>
            <a:ext cx="821052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en-US" sz="3600" spc="-1" strike="noStrike">
                <a:solidFill>
                  <a:srgbClr val="ffcc66"/>
                </a:solidFill>
                <a:latin typeface="Bookman Old Style"/>
              </a:rPr>
              <a:t>Действуя на длинное плечо рычага, мы выигрываем в силе, но при этом во столько же раз проигрываем в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539640" y="328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 ∙ h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=  F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1</a:t>
            </a: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 ∙ h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1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7200" spc="-1" strike="noStrike">
                <a:solidFill>
                  <a:srgbClr val="dbbd71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1</a:t>
            </a:r>
            <a:r>
              <a:rPr b="1" lang="ru-RU" sz="7200" spc="-1" strike="noStrike">
                <a:solidFill>
                  <a:srgbClr val="dbbd71"/>
                </a:solidFill>
                <a:latin typeface="Arial"/>
              </a:rPr>
              <a:t> = А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80000" y="3933720"/>
            <a:ext cx="18716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Пользуясь рычагом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  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мы можем выиграть   </a:t>
            </a:r>
            <a:r>
              <a:rPr b="1" i="1" lang="en-US" sz="4400" spc="-1" strike="noStrike" u="sng">
                <a:solidFill>
                  <a:srgbClr val="99cc00"/>
                </a:solidFill>
                <a:uFillTx/>
                <a:latin typeface="Bookman Old Style"/>
              </a:rPr>
              <a:t>либо в силе</a:t>
            </a:r>
            <a:r>
              <a:rPr b="1" i="1" lang="en-US" sz="4400" spc="-1" strike="noStrike">
                <a:solidFill>
                  <a:srgbClr val="99cc00"/>
                </a:solidFill>
                <a:latin typeface="Bookman Old Style"/>
              </a:rPr>
              <a:t>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Bookman Old Style"/>
              </a:rPr>
              <a:t>  </a:t>
            </a:r>
            <a:r>
              <a:rPr b="1" i="1" lang="en-US" sz="4400" spc="-1" strike="noStrike" u="sng">
                <a:solidFill>
                  <a:srgbClr val="99cc00"/>
                </a:solidFill>
                <a:uFillTx/>
                <a:latin typeface="Bookman Old Style"/>
              </a:rPr>
              <a:t>либо в расстоянии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57200" y="838080"/>
            <a:ext cx="3809880" cy="4953240"/>
            <a:chOff x="457200" y="838080"/>
            <a:chExt cx="3809880" cy="495324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457200" y="838080"/>
              <a:ext cx="380988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 txBox="1"/>
            <p:nvPr/>
          </p:nvSpPr>
          <p:spPr>
            <a:xfrm>
              <a:off x="457200" y="838080"/>
              <a:ext cx="3809880" cy="495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47960" y="476280"/>
            <a:ext cx="380988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en-US" sz="3200" spc="-1" strike="noStrike">
                <a:solidFill>
                  <a:srgbClr val="ffcc66"/>
                </a:solidFill>
                <a:latin typeface="Bookman Old Style"/>
              </a:rPr>
              <a:t>Легенда об Архимеде гласит, что восхищенный открытием правила рычага, он воскликнул: «Дайте мне точку опоры и я переверну Землю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916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435640" y="1267920"/>
            <a:ext cx="334944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V = </a:t>
            </a:r>
            <a:r>
              <a:rPr b="0" lang="ru-RU" sz="2800" spc="-1" strike="noStrike">
                <a:solidFill>
                  <a:srgbClr val="996600"/>
                </a:solidFill>
                <a:latin typeface="Tahoma"/>
              </a:rPr>
              <a:t>30 000 км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996600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t  = </a:t>
            </a:r>
            <a:r>
              <a:rPr b="0" lang="ru-RU" sz="2800" spc="-1" strike="noStrike">
                <a:solidFill>
                  <a:srgbClr val="996600"/>
                </a:solidFill>
                <a:latin typeface="Tahoma"/>
              </a:rPr>
              <a:t>10 миллионов 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50920" y="5445000"/>
            <a:ext cx="1800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1 с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wind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4:58:48Z</dcterms:created>
  <dc:creator>заместитель директора по УР</dc:creator>
  <dc:description/>
  <dc:language>en-US</dc:language>
  <cp:lastModifiedBy>Завуч</cp:lastModifiedBy>
  <dcterms:modified xsi:type="dcterms:W3CDTF">2012-01-27T12:44:12Z</dcterms:modified>
  <cp:revision>33</cp:revision>
  <dc:subject/>
  <dc:title>Равенство работ при использовании простых механизмов.  «Золотое правило» механики.</dc:title>
</cp:coreProperties>
</file>