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6.png" ContentType="image/png"/>
  <Override PartName="/ppt/media/explode.wav" ContentType="audio/x-wav"/>
  <Override PartName="/ppt/media/drumroll.wav" ContentType="audio/x-wav"/>
  <Override PartName="/ppt/media/applause.wav" ContentType="audio/x-wav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803-BB27-4EFC-9ED8-EC491100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AF7-61FE-4DB3-B373-3DD8BBE7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419-2A64-4B29-8239-A8B874FF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5DF-53C8-471B-A566-B7F176FE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6FBB-4BCB-431F-A0C3-F3928745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5DC4-A2A2-4636-BE1C-ACAF8291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0BC7-422B-4A26-BCFC-24363947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8EA2-8509-4B6E-A475-B22C6800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5708-185A-4B09-B8FA-01640779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1247-A4A8-4909-9C65-D090D1D3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ADBD-6BD6-4131-88C0-7BB3F464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689-D25B-4943-8FE8-BE42D1F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DA4A-3FC6-45D6-8EAA-AB7840B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949C-7F22-49F8-8FDF-106BF67D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4377-F9CA-4E91-A190-C5DDEA38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C362-6049-403F-BCA3-7C85EAB7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34F2-EB1C-4BFD-AAAD-D611AE34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DC0-6D65-4E3B-AF23-03B761CB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00E-8C7B-4286-997A-6AE6474F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6AF-A15D-4546-925F-7605F69A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59E-FE20-4B6A-952E-485E02A8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D8C-D87D-46D1-90D7-8E3B533E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085-6256-4698-A18A-A063675B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A7E-DA96-4551-8F6F-9A43455A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BC0B-7679-4134-9C2A-8A96AE0AD4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1C3B-F499-4D1E-8C79-58CC7D4AE2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77;&#1095;&#1085;&#1099;&#1081;%20&#1076;&#1074;&#1080;&#1075;&#1072;&#1090;&#1077;&#1083;&#1100;.doc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Times New Roman"/>
              </a:rPr>
              <a:t>Простые механизмы применяют в основном для того, чтобы получить выигрыш в силе, т.е. увеличить силу, действующую на тело, в несколько раз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ookman Old Style"/>
              </a:rPr>
              <a:t>Для чего применяют простые механизмы?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59280" y="838080"/>
            <a:ext cx="428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okman Old Style"/>
              </a:rPr>
              <a:t>Не дает выигрыша в работе неподвижный блок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608360" cy="4110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Получая выигрыш в силе в 2 раза, проигрываем 2 раза в пут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40000" y="5300640"/>
            <a:ext cx="50036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Bookman Old Style"/>
              </a:rPr>
              <a:t>Подвижный блок не дает выигрыша в рабо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3860640"/>
            <a:ext cx="2016360" cy="136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394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dbbd71"/>
                </a:solidFill>
                <a:latin typeface="Bookman Old Style"/>
              </a:rPr>
              <a:t>Ни один из механизмов </a:t>
            </a:r>
            <a:br>
              <a:rPr sz="7200"/>
            </a:br>
            <a:r>
              <a:rPr b="1" i="1" lang="en-US" sz="7200" spc="-1" strike="noStrike">
                <a:solidFill>
                  <a:srgbClr val="dbbd71"/>
                </a:solidFill>
                <a:latin typeface="Bookman Old Style"/>
              </a:rPr>
              <a:t>не дает выигрыша в работе.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8277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«ЗОЛОТОЕ ПРАВИЛО»</a:t>
            </a:r>
            <a:r>
              <a:rPr b="1" lang="en-US" sz="5400" spc="-1" strike="noStrike">
                <a:solidFill>
                  <a:srgbClr val="dbbd71"/>
                </a:solidFill>
                <a:latin typeface="Bookman Old Style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МЕХА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n-US" sz="5400" spc="-1" strike="noStrike">
                <a:solidFill>
                  <a:srgbClr val="ffcc66"/>
                </a:solidFill>
                <a:latin typeface="Bookman Old Style"/>
              </a:rPr>
              <a:t>Во сколько раз 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Bookman Old Style"/>
              </a:rPr>
              <a:t>выигрываем в силе</a:t>
            </a:r>
            <a:r>
              <a:rPr b="1" lang="en-US" sz="5400" spc="-1" strike="noStrike">
                <a:solidFill>
                  <a:srgbClr val="ffcc66"/>
                </a:solidFill>
                <a:latin typeface="Bookman Old Style"/>
              </a:rPr>
              <a:t>, во столько раз 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Bookman Old Style"/>
              </a:rPr>
              <a:t>проигрываем в расстояни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Bookman Old Style"/>
              </a:rPr>
              <a:t>«Золотое правило» механики применимо ко всем механизмам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8532720" y="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345440" cy="6796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 rot="5400000">
            <a:off x="-2467080" y="2800440"/>
            <a:ext cx="6337440" cy="14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иды механизмов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0360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8515" y="3794"/>
                </a:lnTo>
                <a:lnTo>
                  <a:pt x="8515" y="17806"/>
                </a:lnTo>
                <a:lnTo>
                  <a:pt x="685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258920" y="692280"/>
            <a:ext cx="6553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Веч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386064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двигат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028000" y="4365360"/>
            <a:ext cx="658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66"/>
                </a:solidFill>
                <a:uFillTx/>
                <a:latin typeface="Bookman Old Style"/>
                <a:hlinkClick r:id="rId1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600" spc="-1" strike="noStrike">
                <a:solidFill>
                  <a:srgbClr val="ffcc66"/>
                </a:solidFill>
                <a:latin typeface="Bookman Old Style"/>
              </a:rPr>
              <a:t>Используемые человеком механизмы могут быть устроены очень сложно, однако для понимания их работы достаточно изучить так называемые простые механизмы - рычаг и наклонную плоскос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Bookman Old Style"/>
              </a:rPr>
              <a:t>Задан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С помощью подвижного блока груз подняли на высоту 1,5 м. На какую длину при этом был вытянут свободный конец верев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1,5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м       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0,75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м    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 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С помощью подвижного блока груз подняли на высоту 7 м. Какую работу совершил рабочий при подъеме груза, если он прилагал к концу веревки силу 160 Н? Какую работу он совершит, если этот груз поднимет на высоту 5 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268360" y="1052640"/>
            <a:ext cx="532800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Верно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Bookman Old Style"/>
              </a:rPr>
              <a:t>Внимание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764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9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200" spc="-1" strike="noStrike">
                <a:solidFill>
                  <a:srgbClr val="ffcc66"/>
                </a:solidFill>
                <a:latin typeface="Perpetua Titling MT"/>
              </a:rPr>
              <a:t>?</a:t>
            </a:r>
            <a:endParaRPr b="0" lang="en-US" sz="39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000" y="1628280"/>
            <a:ext cx="403848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cc66"/>
                </a:solidFill>
                <a:latin typeface="Bookman Old Style"/>
              </a:rPr>
              <a:t>вопрос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258920" y="1557360"/>
            <a:ext cx="66978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шибка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10800"/>
                </a:moveTo>
                <a:lnTo>
                  <a:pt x="19023" y="3794"/>
                </a:lnTo>
                <a:lnTo>
                  <a:pt x="1902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628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i="1" lang="ru-RU" sz="5400" spc="-1" strike="noStrike">
                <a:solidFill>
                  <a:srgbClr val="dbbd71"/>
                </a:solidFill>
                <a:latin typeface="Bookman Old Style"/>
              </a:rPr>
              <a:t>Давая выигрыш </a:t>
            </a:r>
            <a:br>
              <a:rPr sz="5400"/>
            </a:br>
            <a:r>
              <a:rPr b="1" i="1" lang="ru-RU" sz="5400" spc="-1" strike="noStrike">
                <a:solidFill>
                  <a:srgbClr val="dbbd71"/>
                </a:solidFill>
                <a:latin typeface="Bookman Old Style"/>
              </a:rPr>
              <a:t>в силе или пути, дают ли простые механизмы выигрыш  в </a:t>
            </a:r>
            <a:br>
              <a:rPr sz="5400"/>
            </a:br>
            <a:r>
              <a:rPr b="1" i="1" lang="ru-RU" sz="8800" spc="-1" strike="noStrike">
                <a:solidFill>
                  <a:srgbClr val="dbbd71"/>
                </a:solidFill>
                <a:latin typeface="Bookman Old Style"/>
              </a:rPr>
              <a:t>работе</a:t>
            </a:r>
            <a:r>
              <a:rPr b="1" i="1" lang="en-US" sz="5400" spc="-1" strike="noStrike">
                <a:solidFill>
                  <a:srgbClr val="dbbd71"/>
                </a:solidFill>
                <a:latin typeface="Bookman Old Style"/>
              </a:rPr>
              <a:t>?</a:t>
            </a:r>
            <a:br>
              <a:rPr sz="146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 rot="10800000">
            <a:off x="685800" y="624780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13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13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11280" y="333360"/>
            <a:ext cx="64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Проделаем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43640" y="2349360"/>
            <a:ext cx="230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опы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6121440" cy="4916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419280" y="2204640"/>
            <a:ext cx="4316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77868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4000" spc="-1" strike="noStrike">
                <a:solidFill>
                  <a:srgbClr val="ffcc66"/>
                </a:solidFill>
                <a:latin typeface="Bookman Old Style"/>
              </a:rPr>
              <a:t>Пути, пройденные точками приложения сил на рычаге, обратно пропорциональны силам.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21844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1</a:t>
            </a:r>
            <a:r>
              <a:rPr b="1" lang="en-US" sz="6600" spc="-1" strike="noStrike">
                <a:solidFill>
                  <a:srgbClr val="ffcc66"/>
                </a:solidFill>
                <a:latin typeface="Tahoma"/>
              </a:rPr>
              <a:t> / h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6600" spc="-1" strike="noStrike">
                <a:solidFill>
                  <a:srgbClr val="ffcc66"/>
                </a:solidFill>
                <a:latin typeface="Tahoma"/>
              </a:rPr>
              <a:t>  =  F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6600" spc="-1" strike="noStrike">
                <a:solidFill>
                  <a:srgbClr val="ffcc66"/>
                </a:solidFill>
                <a:latin typeface="Tahoma"/>
              </a:rPr>
              <a:t> / F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09120" y="476280"/>
            <a:ext cx="821052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3600" spc="-1" strike="noStrike">
                <a:solidFill>
                  <a:srgbClr val="ffcc66"/>
                </a:solidFill>
                <a:latin typeface="Bookman Old Style"/>
              </a:rPr>
              <a:t>Действуя на длинное плечо рычага, мы выигрываем в силе, но при этом во столько же раз проигрываем в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539640" y="328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 ∙ h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=  F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1</a:t>
            </a: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 ∙ h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1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7200" spc="-1" strike="noStrike">
                <a:solidFill>
                  <a:srgbClr val="dbbd71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1</a:t>
            </a:r>
            <a:r>
              <a:rPr b="1" lang="ru-RU" sz="7200" spc="-1" strike="noStrike">
                <a:solidFill>
                  <a:srgbClr val="dbbd71"/>
                </a:solidFill>
                <a:latin typeface="Arial"/>
              </a:rPr>
              <a:t> = А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0" y="3933720"/>
            <a:ext cx="187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Пользуясь рычагом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 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мы можем выиграть   </a:t>
            </a:r>
            <a:r>
              <a:rPr b="1" i="1" lang="en-US" sz="4400" spc="-1" strike="noStrike" u="sng">
                <a:solidFill>
                  <a:srgbClr val="99cc00"/>
                </a:solidFill>
                <a:uFillTx/>
                <a:latin typeface="Bookman Old Style"/>
              </a:rPr>
              <a:t>либо в силе</a:t>
            </a:r>
            <a:r>
              <a:rPr b="1" i="1" lang="en-US" sz="4400" spc="-1" strike="noStrike">
                <a:solidFill>
                  <a:srgbClr val="99cc00"/>
                </a:solidFill>
                <a:latin typeface="Bookman Old Style"/>
              </a:rPr>
              <a:t>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Bookman Old Style"/>
              </a:rPr>
              <a:t>  </a:t>
            </a:r>
            <a:r>
              <a:rPr b="1" i="1" lang="en-US" sz="4400" spc="-1" strike="noStrike" u="sng">
                <a:solidFill>
                  <a:srgbClr val="99cc00"/>
                </a:solidFill>
                <a:uFillTx/>
                <a:latin typeface="Bookman Old Style"/>
              </a:rPr>
              <a:t>либо в расстоянии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57200" y="838080"/>
            <a:ext cx="3809880" cy="4953240"/>
            <a:chOff x="457200" y="838080"/>
            <a:chExt cx="3809880" cy="495324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380988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 txBox="1"/>
            <p:nvPr/>
          </p:nvSpPr>
          <p:spPr>
            <a:xfrm>
              <a:off x="457200" y="838080"/>
              <a:ext cx="3809880" cy="495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47960" y="476280"/>
            <a:ext cx="380988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3200" spc="-1" strike="noStrike">
                <a:solidFill>
                  <a:srgbClr val="ffcc66"/>
                </a:solidFill>
                <a:latin typeface="Bookman Old Style"/>
              </a:rPr>
              <a:t>Легенда об Архимеде гласит, что восхищенный открытием правила рычага, он воскликнул: «Дайте мне точку опоры и я переверну Земл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16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435640" y="1267920"/>
            <a:ext cx="334944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V = </a:t>
            </a: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30 000 км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t  = </a:t>
            </a: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10 миллионов 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50920" y="5445000"/>
            <a:ext cx="1800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1 с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wind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44:12Z</dcterms:modified>
  <cp:revision>33</cp:revision>
  <dc:subject/>
  <dc:title>Равенство работ при использовании простых механизмов.  «Золотое правило» механики.</dc:title>
</cp:coreProperties>
</file>