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2C2-3CE4-4C7C-946E-21A0C590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471-FFF1-4FF8-9F36-DF7F6EE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5DB-4708-46CD-AE99-29F8180C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BE1-E5D7-4EF6-9C97-0A10C583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569-7BE7-434A-AC86-67C64955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0EC-DD65-479B-8749-33FD7E9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EA5-91E7-48BE-B365-05685D13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526-087E-441F-9DF8-473E11C6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777-98C4-4A76-9095-D47343A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154-889E-4AC8-9477-5630412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6F6-D22B-4505-8C55-4F8CC0E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406-3EA6-4D49-8567-13FC145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929F-8737-4D99-ACFF-76EF2438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836640"/>
            <a:ext cx="381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2349360"/>
            <a:ext cx="640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ла тяжести. 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 в поле 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лы тяжести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79640" y="692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Центр тяжести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16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у приложения силы тяжести, действующую на тело, называют центром тяже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381400" cy="266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2371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47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Чем ниже центр тяжести тем более устойчиво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449600" cy="296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282840"/>
            <a:ext cx="43210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26028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зучение движения те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о наклонной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без учёта силы т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1700280"/>
            <a:ext cx="136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155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1700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ть движения тела по наклонной плоскости без учёта силы 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364500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Доказать, что это движение ускор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ычислить ускорение свободного па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Установить зависимость ускорения тела от угла наклона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71640" y="549360"/>
            <a:ext cx="198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дель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94040" y="1287360"/>
            <a:ext cx="63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Тело принимаем за материальную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опротивление воздуха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ле силы тяжести однород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640" y="2852640"/>
            <a:ext cx="198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4365720"/>
            <a:ext cx="2447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уем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5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висит ли ускорения тела от уск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ого пад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44500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закон Ньюто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 Всемирного тягот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32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321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2205000"/>
            <a:ext cx="3024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195640" y="184464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70036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184464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547640" y="227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я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500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2133720"/>
            <a:ext cx="3097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1052640"/>
            <a:ext cx="36003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 α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Fтяж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тяж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mgsin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α,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α = mgsin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α = gsinφ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 = α /sin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125360"/>
            <a:ext cx="2016360" cy="7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дение тел на Земл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дение капель дожд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ега, 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205000"/>
            <a:ext cx="1728720" cy="863640"/>
          </a:xfrm>
          <a:prstGeom prst="roundRect">
            <a:avLst>
              <a:gd name="adj" fmla="val 16667"/>
            </a:avLst>
          </a:prstGeom>
          <a:solidFill>
            <a:srgbClr val="f8a6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Опыты Галил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он Всемир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500280"/>
            <a:ext cx="1944720" cy="1513080"/>
          </a:xfrm>
          <a:prstGeom prst="octagon">
            <a:avLst>
              <a:gd name="adj" fmla="val 4448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емля – ша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ло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373720"/>
            <a:ext cx="1871640" cy="11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в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,R,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060640"/>
            <a:ext cx="2879640" cy="2448000"/>
          </a:xfrm>
          <a:prstGeom prst="diamond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– космонавт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движение искусстве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путников; во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1125360"/>
            <a:ext cx="2160360" cy="1224000"/>
          </a:xfrm>
          <a:prstGeom prst="parallelogram">
            <a:avLst>
              <a:gd name="adj" fmla="val 2999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учные знани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Всемир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яго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48360" y="4365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740720" y="234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20000" y="2997360"/>
            <a:ext cx="285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652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666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987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5564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987640" y="1700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3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60280"/>
            <a:ext cx="856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ый метод познания</a:t>
            </a:r>
            <a:endParaRPr b="0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95640" y="476280"/>
            <a:ext cx="46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060640"/>
            <a:ext cx="8496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учить различные виды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я в поле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лы тяжести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922480"/>
            <a:ext cx="6012000" cy="393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26828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уйте закон Всемирного тяго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 во сколько раз изменится сила тяготения, если при неизменном расстоянии массы тел возрастут вдв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величится в 4 р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 во сколько раз изменится сила тяготения, если при неизменных массах тел расстояние между ними увеличится в 2 раза? В 3 раз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меньшится в 4 раза, в 9 ра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те определение силы тяж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4520" y="25704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9900"/>
                </a:solidFill>
                <a:latin typeface="Arial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8000" y="692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Сила</a:t>
            </a: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яж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44640"/>
            <a:ext cx="8569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проявлений силы всемирного тяготения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нято называть силу притяжения тел к Земле вблизи ее</a:t>
            </a:r>
            <a:r>
              <a:rPr b="1" lang="ru-RU" sz="1800" spc="-1" strike="noStrike">
                <a:solidFill>
                  <a:srgbClr val="fbde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4520" y="5635800"/>
            <a:ext cx="426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00720" y="4292640"/>
                <a:ext cx="1990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95280" y="3860640"/>
                <a:ext cx="4896000" cy="26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⊕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⊕</m:t>
                            </m:r>
                            <m:sSub>
                              <m:e/>
                              <m:sub/>
                            </m:sSub>
                          </m:den>
                        </m:f>
                        <m:r>
                          <m:t xml:space="preserve">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19280" y="620640"/>
                <a:ext cx="5327640" cy="18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⊕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⊕</m:t>
                        </m:r>
                        <m:sSub>
                          <m:e/>
                          <m:sub/>
                        </m:sSub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771640" y="227664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35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97120" y="3860640"/>
                <a:ext cx="3386160" cy="18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⊕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⊕</m:t>
                        </m:r>
                        <m:sSub>
                          <m:e/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549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При удалении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от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20500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лении от поверхности Земли сила земного тяготения и ускорение свободного падения изменяются обратно пропорционально квадрату рас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центра Зем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Ускорение свободного па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84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оверхности Земл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43280" y="4724280"/>
                <a:ext cx="401796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⊕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⊕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39640" y="2133720"/>
                <a:ext cx="354168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⊕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⊕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635280" y="393372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r>
              <a:rPr b="0" lang="en-US" sz="3200" spc="-1" strike="noStrike">
                <a:solidFill>
                  <a:srgbClr val="fbde05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8e55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404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От чего зависит ускорение свободного п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98900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 (географической широты) (ч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   т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та тела над поверхностью Земли (ч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23600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964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258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92520" y="382896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Для любой план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343240" y="4724280"/>
                <a:ext cx="44434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л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л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7:12:11Z</dcterms:created>
  <dc:creator>1</dc:creator>
  <dc:description/>
  <dc:language>en-US</dc:language>
  <cp:lastModifiedBy>1</cp:lastModifiedBy>
  <dcterms:modified xsi:type="dcterms:W3CDTF">2009-10-19T18:08:47Z</dcterms:modified>
  <cp:revision>27</cp:revision>
  <dc:subject/>
  <dc:title>Слайд 1</dc:title>
</cp:coreProperties>
</file>