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E0D-2023-4ECB-9302-FFC65B49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DAF-3D53-4116-B7B5-8D580693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187-1944-4B49-BB89-641475A8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62F-9311-4441-8205-8877A08A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92FC-118F-477C-A693-B73CBCAD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B312-42E5-4340-8D16-DF3046C5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B448-2D6F-4FA5-93EB-A571AC2D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0E14-808E-44CB-98B9-4A203BC7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FD39-208A-468E-9CB1-C0283D39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6358-0285-46BD-B99F-E13C25A3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45C7-8ACB-4A25-BFB8-297BEED7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416-75C3-4739-B567-4948FF09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27AF-0F37-440E-9598-84DF5FA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C5CB-2481-4C06-B778-5834E9D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7D45-7FFD-4BE6-8B39-3BD01755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5D1E-A077-4C54-97E1-2DFEFC56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0517-927E-40A8-838E-2D2666D3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5B2-69EA-4DB8-B526-300EAC22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3D0-AC93-4F3A-9DE0-CC539833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970-2547-4E46-AF63-CF3F71F9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3E4-7873-4874-9FFD-1EA1500A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643-A0D5-417D-A764-6FA9A7F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0F5-C6C7-4A2E-A6AC-2846159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AA4-44F8-4B8E-AE85-28DF4336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3015-3435-4D8E-B2E9-5772644198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8822-0028-4DDA-BF5C-1C56EDEE88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1341360"/>
            <a:ext cx="6400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6d1ec"/>
                </a:solidFill>
                <a:latin typeface="Arial"/>
              </a:rPr>
              <a:t>Культура речи и языковая норм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2520-4706-4EC6-816A-A04197415E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ccff"/>
                </a:solidFill>
                <a:uFillTx/>
                <a:latin typeface="Arial"/>
              </a:rPr>
              <a:t>Лексическая мину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Определите лексическое значение с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ытый  - сытный ;  болотный- болотистый; оживают – оживляют; абонент - абонемент ; будний – будничный; поступок-проступ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В каком предложении вместо слова водный нужно употребить слово водяной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1. Мелиорация болот нарушила водный балан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. В заросшем пруду много водных жу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. В дождливую погоду цветок запасается влагой и может долго обходиться своими водными запас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4. Водные каналы стали популярными, особенно среди молоды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ремя работы – 5 мин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9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4DB8-D0F5-4CBE-8611-D2DD0059E3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45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Синтаксические ошибки </a:t>
            </a:r>
            <a:br>
              <a:rPr sz="4000"/>
            </a:b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Arial"/>
              </a:rPr>
              <a:t>и их испра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981000"/>
          <a:ext cx="8229600" cy="5715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арушение согласова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азуемого с подлежащи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тверо учащихся участвовал</a:t>
                      </a:r>
                      <a:r>
                        <a:rPr b="1" lang="ru-RU" sz="32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игр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арушение управлен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гласно приказ</a:t>
                      </a:r>
                      <a:r>
                        <a:rPr b="1" lang="ru-RU" sz="32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арушение согласован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а окна, занавешен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ы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шторо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арушение способа выражения сказуемого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отдельных конструкциях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 были счастливы и 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веселы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шибки в использовании видо-временных форм глаголов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живу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рмонтове и 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была счастлив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F589-E2F9-48E3-97BE-6577F99913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ccff"/>
                </a:solidFill>
                <a:uFillTx/>
                <a:latin typeface="Arial"/>
              </a:rPr>
              <a:t>Определите , в каких предложениях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т </a:t>
            </a:r>
            <a:r>
              <a:rPr b="1" i="1" lang="ru-RU" sz="2800" spc="-1" strike="noStrike" u="sng">
                <a:solidFill>
                  <a:srgbClr val="00ccff"/>
                </a:solidFill>
                <a:uFillTx/>
                <a:latin typeface="Arial"/>
              </a:rPr>
              <a:t>синтаксических ошибок, объясните свой выб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есколько мальчиков удивленно переглянуло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Ракета -носитель доставлена  на орби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Поезд отправился соглас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пис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а была молода и крас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ехал с группой детей, занимающимися спор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гда смотришь вокруг ,складывалось впечатление ,что ты здесь уже бы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емя работы – 5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9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8B9C-2C38-4EDE-9E59-6CD6ADE77F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ccff"/>
                </a:solidFill>
                <a:uFillTx/>
                <a:latin typeface="Arial"/>
              </a:rPr>
              <a:t>Синтаксические ошибки </a:t>
            </a:r>
            <a:br>
              <a:rPr sz="4400"/>
            </a:b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Arial"/>
              </a:rPr>
              <a:t>и их испра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125360"/>
          <a:ext cx="8229600" cy="7143840"/>
        </p:xfrm>
        <a:graphic>
          <a:graphicData uri="http://schemas.openxmlformats.org/drawingml/2006/table">
            <a:tbl>
              <a:tblPr/>
              <a:tblGrid>
                <a:gridCol w="4043520"/>
                <a:gridCol w="4186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шибки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предложениях с причастным оборот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рожка покрыта тающим </a:t>
                      </a: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снегом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под ногам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шибки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предложениях с деепричастн.оборот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в заниматься ,у вас было мало времени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шибки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остроении СПП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нига учит меня думать, которую я прочитал в детств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Смешени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прямой и косвенной реч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я сказал ,что я не согласен с твоим мнением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арушени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раниц предложения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ла уже ночь .Когда я вернулся домой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9932-CC73-4182-9390-76A25195C0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Проверочная работа в пар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работы предлагаются карточки с заданиями по изученной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 время выполнения работы разрешено использовать памятки, имеющиеся у каждого учащего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мя выполнения работы -</a:t>
            </a: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10 мин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Домашнее задан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Повторить теоретический материал по теме : «Грамматические нормы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Зад. А4 – А6,  А 17-19 /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.1-5 /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7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2FDA-738B-4898-94C6-240E062067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26290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Цель урока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помнить понятие « языковая норма язы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ить умения различать грамматические ошибки, навыки владения орфоэпическими  и лексическими норм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ть навыки использования нормированной речи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ить  задания ЕГЭ ,связанные  с грамматическими / А4-А6/, орфоэпическими  и лексическими нормами /А 17-А1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F5E7-7DC5-49CA-95C9-4BDEB1815B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ccff"/>
                </a:solidFill>
                <a:uFillTx/>
                <a:latin typeface="Arial"/>
              </a:rPr>
              <a:t>Орфоэпическая разминк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Решите орфоэпические 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1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. В каком слове ударение на </a:t>
            </a: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2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логе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/ свекла   б/ жалюзи   в/ оптовы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/ мель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ком слове ударение на </a:t>
            </a: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1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слог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/ иначе     б/ эксперт      в/ дремот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/ знам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ком слове ударение на </a:t>
            </a: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3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лог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/ инструмент     б/ зевота      в/ вчистую    г/ принят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ительность разминки -1-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FD8C-82CB-4A6A-88A7-E07B306304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тъемлемой частью общей культуры человека является </a:t>
            </a:r>
            <a:r>
              <a:rPr b="1" lang="ru-RU" sz="3200" spc="-1" strike="noStrike" u="sng">
                <a:solidFill>
                  <a:srgbClr val="00ccff"/>
                </a:solidFill>
                <a:uFillTx/>
                <a:latin typeface="Arial"/>
              </a:rPr>
              <a:t>культура реч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,т.е. умение пишущего или говорящего излагать свои мысли в соответствии с содержанием, правильно и вырази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</a:t>
            </a:r>
            <a:r>
              <a:rPr b="1" i="1" lang="ru-RU" sz="3200" spc="-1" strike="noStrike" u="sng">
                <a:solidFill>
                  <a:srgbClr val="00ccff"/>
                </a:solidFill>
                <a:uFillTx/>
                <a:latin typeface="Arial"/>
              </a:rPr>
              <a:t>«языковая норма»-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но из ключевых понятий в учении о правильности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Arial"/>
              </a:rPr>
              <a:t>Норма литературного язы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это социально одобряемое правило, т.е. общепринятое употребление слов ,их форм, синтаксических конструкций, закрепленное в словарях и справочни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FA82-3C63-4DA5-9F10-BFEC53EC37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Organization Chart 5"/>
          <p:cNvGrpSpPr/>
          <p:nvPr/>
        </p:nvGrpSpPr>
        <p:grpSpPr>
          <a:xfrm>
            <a:off x="324000" y="260280"/>
            <a:ext cx="8568720" cy="6189840"/>
            <a:chOff x="324000" y="260280"/>
            <a:chExt cx="8568720" cy="6189840"/>
          </a:xfrm>
        </p:grpSpPr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5886720" y="3960000"/>
              <a:ext cx="774360" cy="111096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H="1" flipV="1" rot="5400000">
              <a:off x="4777560" y="3961080"/>
              <a:ext cx="774360" cy="110916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1030"/>
            <p:cNvCxnSpPr>
              <a:stCxn id="180" idx="0"/>
              <a:endCxn id="181" idx="2"/>
            </p:cNvCxnSpPr>
            <p:nvPr/>
          </p:nvCxnSpPr>
          <p:spPr>
            <a:xfrm flipV="1" rot="16200000">
              <a:off x="5886720" y="527400"/>
              <a:ext cx="774360" cy="333324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2" name="_s1031"/>
            <p:cNvCxnSpPr>
              <a:stCxn id="176" idx="0"/>
              <a:endCxn id="181" idx="2"/>
            </p:cNvCxnSpPr>
            <p:nvPr/>
          </p:nvCxnSpPr>
          <p:spPr>
            <a:xfrm flipV="1" rot="16200000">
              <a:off x="4776120" y="1638000"/>
              <a:ext cx="774360" cy="111168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3" name="_s1032"/>
            <p:cNvCxnSpPr>
              <a:stCxn id="184" idx="0"/>
              <a:endCxn id="181" idx="2"/>
            </p:cNvCxnSpPr>
            <p:nvPr/>
          </p:nvCxnSpPr>
          <p:spPr>
            <a:xfrm flipH="1" flipV="1" rot="5400000">
              <a:off x="3665520" y="1638720"/>
              <a:ext cx="774360" cy="111096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5" name="_s1033"/>
            <p:cNvCxnSpPr>
              <a:stCxn id="186" idx="0"/>
              <a:endCxn id="181" idx="2"/>
            </p:cNvCxnSpPr>
            <p:nvPr/>
          </p:nvCxnSpPr>
          <p:spPr>
            <a:xfrm flipH="1" flipV="1" rot="5400000">
              <a:off x="2554560" y="527760"/>
              <a:ext cx="774360" cy="3332520"/>
            </a:xfrm>
            <a:prstGeom prst="bentConnector3">
              <a:avLst>
                <a:gd name="adj1" fmla="val 14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1" name="_s1034"/>
            <p:cNvSpPr/>
            <p:nvPr/>
          </p:nvSpPr>
          <p:spPr>
            <a:xfrm>
              <a:off x="3655800" y="260280"/>
              <a:ext cx="190404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00ccff"/>
                  </a:solidFill>
                  <a:uFillTx/>
                  <a:latin typeface="Arial"/>
                </a:rPr>
                <a:t>Основные </a:t>
              </a:r>
              <a:endParaRPr b="1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ccff"/>
                  </a:solidFill>
                  <a:uFillTx/>
                  <a:latin typeface="Arial"/>
                </a:rPr>
                <a:t>языковые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00ccff"/>
                  </a:solidFill>
                  <a:uFillTx/>
                  <a:latin typeface="Arial"/>
                </a:rPr>
                <a:t>нормы</a:t>
              </a:r>
              <a:endParaRPr b="1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035"/>
            <p:cNvSpPr/>
            <p:nvPr/>
          </p:nvSpPr>
          <p:spPr>
            <a:xfrm>
              <a:off x="324000" y="2581560"/>
              <a:ext cx="190404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Орфоэпические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1036"/>
            <p:cNvSpPr/>
            <p:nvPr/>
          </p:nvSpPr>
          <p:spPr>
            <a:xfrm>
              <a:off x="2545560" y="2581560"/>
              <a:ext cx="190404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Лексические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_s1037"/>
            <p:cNvSpPr/>
            <p:nvPr/>
          </p:nvSpPr>
          <p:spPr>
            <a:xfrm>
              <a:off x="4767120" y="2581560"/>
              <a:ext cx="190404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Грамматические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1038"/>
            <p:cNvSpPr/>
            <p:nvPr/>
          </p:nvSpPr>
          <p:spPr>
            <a:xfrm>
              <a:off x="6988680" y="2581560"/>
              <a:ext cx="190404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Пунктуационные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039"/>
            <p:cNvSpPr/>
            <p:nvPr/>
          </p:nvSpPr>
          <p:spPr>
            <a:xfrm>
              <a:off x="3658320" y="4902840"/>
              <a:ext cx="190152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Морфологические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1040"/>
            <p:cNvSpPr/>
            <p:nvPr/>
          </p:nvSpPr>
          <p:spPr>
            <a:xfrm>
              <a:off x="5877360" y="4902840"/>
              <a:ext cx="1901880" cy="1547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Синтаксические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нормы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8" dur="2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" dur="1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" dur="1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" dur="1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" dur="1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" dur="1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" dur="15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146B-A99A-4A56-A7A1-FC0A1BC70F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Грамматические нормы язы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Морфологические норм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нормы словоизменения при склонении именных частей речи ,при спряжении глаголов, нормы словообразования и определения родовой принадлеж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ff"/>
                </a:solidFill>
                <a:uFillTx/>
                <a:latin typeface="Arial"/>
              </a:rPr>
              <a:t>Синтаксические нормы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о правила использования синтаксических конструкций,незнание которых приводит к неправильному построению словосочетаний или предлож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587E-6AC0-4635-8252-69C1C95DAE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ccff"/>
                </a:solidFill>
                <a:uFillTx/>
                <a:latin typeface="Arial"/>
              </a:rPr>
              <a:t>Морфологические ошибки </a:t>
            </a:r>
            <a:br>
              <a:rPr sz="4000"/>
            </a:b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Arial"/>
              </a:rPr>
              <a:t>и их прав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50920" y="1052640"/>
          <a:ext cx="8569080" cy="553068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ообразовани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долюби</a:t>
                      </a:r>
                      <a:r>
                        <a:rPr b="1" lang="ru-RU" sz="32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м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й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разование формы существительн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ытные бухгалтер</a:t>
                      </a:r>
                      <a:r>
                        <a:rPr b="1" lang="ru-RU" sz="32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а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разовани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прилагательного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е красив</a:t>
                      </a:r>
                      <a:r>
                        <a:rPr b="1" lang="ru-RU" sz="32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е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сла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ж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разовани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числительно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пят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ми рублям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разование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местоимен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юю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ещ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</a:rPr>
                        <a:t>Ошибочно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разовани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глагол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</a:t>
                      </a:r>
                      <a:r>
                        <a:rPr b="1" lang="ru-RU" sz="28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хаю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 рукам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CE2E-927E-42A0-A15A-216D891D84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ccff"/>
                </a:solidFill>
                <a:uFillTx/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"/>
              </a:rPr>
              <a:t>Найдите  грамматическую ошибку в образовании формы слова , </a:t>
            </a:r>
            <a:r>
              <a:rPr b="1" lang="ru-RU" sz="2800" spc="-1" strike="noStrike" u="sng">
                <a:solidFill>
                  <a:srgbClr val="00ccff"/>
                </a:solidFill>
                <a:uFillTx/>
                <a:latin typeface="Arial"/>
              </a:rPr>
              <a:t>запишите это слово правильно: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иректора  школ , контейнера  на погрузке, пять килограмм , в снегу , тысячи башкир , много народа , множество грузинов ,все шофера , две пары носков ,моя туфля, несколько мандарин , много яблок, 5 килобайтов, вкусный кофе, партия кадет, красивше всех, заведываю, откладываю на потом, в  шестьюстах метрах, в полторах часах езды, стакан соку, много сне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ремя работы -5-7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5B89-F174-4C6D-BE5A-C3139F96AE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ff"/>
                </a:solidFill>
                <a:latin typeface="Arial"/>
              </a:rPr>
              <a:t>Правильный ответ 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Контейнер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ы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на погрузке ,пять килограмм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, много народ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у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множество грузи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н 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се шофер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ы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несколько мандарин</a:t>
            </a:r>
            <a:r>
              <a:rPr b="1" lang="ru-RU" sz="3600" spc="-1" strike="noStrike">
                <a:solidFill>
                  <a:srgbClr val="00ccff"/>
                </a:solidFill>
                <a:latin typeface="Arial"/>
              </a:rPr>
              <a:t>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, 5 килобай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т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, партия кадет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, красив</a:t>
            </a:r>
            <a:r>
              <a:rPr b="1" lang="ru-RU" sz="3600" spc="-1" strike="noStrike">
                <a:solidFill>
                  <a:srgbClr val="00ccff"/>
                </a:solidFill>
                <a:latin typeface="Arial"/>
              </a:rPr>
              <a:t>ее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всех, завед</a:t>
            </a:r>
            <a:r>
              <a:rPr b="1" lang="ru-RU" sz="3600" spc="-1" strike="noStrike">
                <a:solidFill>
                  <a:srgbClr val="00ccff"/>
                </a:solidFill>
                <a:latin typeface="Arial"/>
              </a:rPr>
              <a:t>ую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,в шест</a:t>
            </a:r>
            <a:r>
              <a:rPr b="1" lang="ru-RU" sz="3600" spc="-1" strike="noStrike">
                <a:solidFill>
                  <a:srgbClr val="00ccff"/>
                </a:solidFill>
                <a:latin typeface="Arial"/>
              </a:rPr>
              <a:t>и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тах метрах ,в пол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у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ор</a:t>
            </a:r>
            <a:r>
              <a:rPr b="1" i="1" lang="ru-RU" sz="3600" spc="-1" strike="noStrike">
                <a:solidFill>
                  <a:srgbClr val="00ccff"/>
                </a:solidFill>
                <a:latin typeface="Arial"/>
              </a:rPr>
              <a:t>а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часах ез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20:00Z</dcterms:created>
  <dc:creator> </dc:creator>
  <dc:description/>
  <dc:language>en-US</dc:language>
  <cp:lastModifiedBy>Admin</cp:lastModifiedBy>
  <dcterms:modified xsi:type="dcterms:W3CDTF">2012-01-27T18:19:25Z</dcterms:modified>
  <cp:revision>12</cp:revision>
  <dc:subject/>
  <dc:title>УРОКИ  26-27</dc:title>
</cp:coreProperties>
</file>