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FE5-D31C-461B-838B-E246138E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C20-0A31-4673-A946-69700895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C8D-8769-4111-9F42-9E470C54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61E-770E-4CA2-AA0C-E1DA2610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8A5C-3B9D-4D33-A5F3-4FB39796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6B90-48A1-45A2-BFE4-99863DB7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B1F6-1016-4C6C-A970-44A4DDCC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293D-24FB-4DAE-9F7F-2F1B777A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0E0A-E410-4E81-80B6-CFF290CF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9275-6013-4516-A491-EF458FDC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A9CB-7BE6-41D6-942F-17C96002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98D-CC8F-4BE6-8FF7-A346AF2C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6DCA-DFDB-45C0-A6F6-C383FC58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33CA-4170-4D00-BC02-2830BA7F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BB68-359D-4600-929E-E2692DED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AE92-8128-404A-878A-91CAC713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4888-38D2-4852-BCF3-75A92A18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153-DC99-4EB3-8898-EE880AD7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70B-28E4-479E-840D-AAA5CEB1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394-0C88-49D3-B3EC-5DD810E3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1650-33C1-49D7-BF66-D60C2122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A92-113D-4DD0-BBB3-F07119EC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715-A433-4AC0-89D8-F0B0B42C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14E-FFBD-46A3-9523-793B134F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5D4B-5CB9-4FE8-BF71-9FD8F01DE9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AFAE-4C7A-4A4E-AE33-99B40551E5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1341360"/>
            <a:ext cx="64008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6d1ec"/>
                </a:solidFill>
                <a:latin typeface="Arial"/>
              </a:rPr>
              <a:t>Культура речи и языковая норм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93BF-94BB-4384-A736-409AA47ABC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ccff"/>
                </a:solidFill>
                <a:uFillTx/>
                <a:latin typeface="Arial"/>
              </a:rPr>
              <a:t>Лексическая минут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Определите лексическое значение с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ытый  - сытный ;  болотный- болотистый; оживают – оживляют; абонент - абонемент ; будний – будничный; поступок-проступ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В каком предложении вместо слова водный нужно употребить слово водяной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1. Мелиорация болот нарушила водный балан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2. В заросшем пруду много водных жу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. В дождливую погоду цветок запасается влагой и может долго обходиться своими водными запас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4. Водные каналы стали популярными, особенно среди молодых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ремя работы – 5 мин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9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8B43-5ABB-41D9-AFE3-3B6153B33C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45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ccff"/>
                </a:solidFill>
                <a:uFillTx/>
                <a:latin typeface="Arial"/>
              </a:rPr>
              <a:t>Синтаксические ошибки </a:t>
            </a:r>
            <a:br>
              <a:rPr sz="4000"/>
            </a:br>
            <a:r>
              <a:rPr b="1" i="1" lang="ru-RU" sz="1600" spc="-1" strike="noStrike" u="sng">
                <a:solidFill>
                  <a:srgbClr val="00ccff"/>
                </a:solidFill>
                <a:uFillTx/>
                <a:latin typeface="Arial"/>
              </a:rPr>
              <a:t>и их исправ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7200" y="981000"/>
          <a:ext cx="8229600" cy="5715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Нарушение согласова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азуемого с подлежащи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тверо учащихся участвовал</a:t>
                      </a:r>
                      <a:r>
                        <a:rPr b="1" lang="ru-RU" sz="32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игр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Нарушение управлени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гласно приказ</a:t>
                      </a:r>
                      <a:r>
                        <a:rPr b="1" lang="ru-RU" sz="32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а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Нарушение согласовани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а окна, занавешен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ые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шторо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Нарушение способа выражения сказуемого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отдельных конструкция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 были счастливы и </a:t>
                      </a: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веселы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Ошибки в использовании видо-временных форм глаголов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</a:t>
                      </a: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живу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Лермонтове и </a:t>
                      </a: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была счастлив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42B4-1BE5-489E-A49F-5A52326069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ccff"/>
                </a:solidFill>
                <a:uFillTx/>
                <a:latin typeface="Arial"/>
              </a:rPr>
              <a:t>Определите , в каких предложениях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т </a:t>
            </a:r>
            <a:r>
              <a:rPr b="1" i="1" lang="ru-RU" sz="2800" spc="-1" strike="noStrike" u="sng">
                <a:solidFill>
                  <a:srgbClr val="00ccff"/>
                </a:solidFill>
                <a:uFillTx/>
                <a:latin typeface="Arial"/>
              </a:rPr>
              <a:t>синтаксических ошибок, объясните свой выбо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есколько мальчиков удивленно переглянуло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Ракета -носитель доставлена  на орби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Поезд отправился соглас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пис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а была молода и краси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 ехал с группой детей, занимающимися спор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гда смотришь вокруг ,складывалось впечатление ,что ты здесь уже бы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емя работы – 5 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9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E70E-8FC1-4185-A17F-D927E43699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ccff"/>
                </a:solidFill>
                <a:uFillTx/>
                <a:latin typeface="Arial"/>
              </a:rPr>
              <a:t>Синтаксические ошибки </a:t>
            </a:r>
            <a:br>
              <a:rPr sz="4400"/>
            </a:br>
            <a:r>
              <a:rPr b="1" i="1" lang="ru-RU" sz="1600" spc="-1" strike="noStrike" u="sng">
                <a:solidFill>
                  <a:srgbClr val="00ccff"/>
                </a:solidFill>
                <a:uFillTx/>
                <a:latin typeface="Arial"/>
              </a:rPr>
              <a:t>и их исправ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125360"/>
          <a:ext cx="8229600" cy="7143840"/>
        </p:xfrm>
        <a:graphic>
          <a:graphicData uri="http://schemas.openxmlformats.org/drawingml/2006/table">
            <a:tbl>
              <a:tblPr/>
              <a:tblGrid>
                <a:gridCol w="4043520"/>
                <a:gridCol w="4186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Ошибки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предложениях с причастным оборот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рожка покрыта тающим </a:t>
                      </a: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снегом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под ногам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Ошибки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предложениях с деепричастн.оборот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в заниматься ,у вас было мало времени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Ошибки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остроении СПП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нига учит меня думать, которую я прочитал в детстве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Смешение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прямой и косвенной реч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тя сказал ,что я не согласен с твоим мнением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Нарушение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раниц предложения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ыла уже ночь .Когда я вернулся домой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62F9-E314-4461-889A-CC1C0265AD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ccff"/>
                </a:solidFill>
                <a:uFillTx/>
                <a:latin typeface="Arial"/>
              </a:rPr>
              <a:t>Проверочная работа в пар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работы предлагаются карточки с заданиями по изученной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 время выполнения работы разрешено использовать памятки, имеющиеся у каждого учащего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мя выполнения работы -</a:t>
            </a: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10 мин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ccff"/>
                </a:solidFill>
                <a:uFillTx/>
                <a:latin typeface="Arial"/>
              </a:rPr>
              <a:t>Домашнее задани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Повторить теоретический материал по теме : «Грамматические нормы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Зад. А4 – А6,  А 17-19 /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р.1-5 /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7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6324-B2EE-49A9-AED5-E1F06E7D07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2629080" y="333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ccff"/>
                </a:solidFill>
                <a:uFillTx/>
                <a:latin typeface="Arial"/>
              </a:rPr>
              <a:t>Цель урока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помнить понятие « языковая норма язы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репить умения различать грамматические ошибки, навыки владения орфоэпическими  и лексическими норм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ть навыки использования нормированной речи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олнить  задания ЕГЭ ,связанные  с грамматическими / А4-А6/, орфоэпическими  и лексическими нормами /А 17-А19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AB7F-3190-42C3-A630-FA676F316C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ccff"/>
                </a:solidFill>
                <a:uFillTx/>
                <a:latin typeface="Arial"/>
              </a:rPr>
              <a:t>Орфоэпическая разминк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Решите орфоэпические 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1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. В каком слове ударение на </a:t>
            </a: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2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логе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/ свекла   б/ жалюзи   в/ оптовый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/ мель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каком слове ударение на </a:t>
            </a: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1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слог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/ иначе     б/ эксперт      в/ дремот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/ знам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каком слове ударение на </a:t>
            </a: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3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лог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/ инструмент     б/ зевота      в/ вчистую    г/ принят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ительность разминки -1-2 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9924-5108-401B-8B37-E237C3E33D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тъемлемой частью общей культуры человека является </a:t>
            </a:r>
            <a:r>
              <a:rPr b="1" lang="ru-RU" sz="3200" spc="-1" strike="noStrike" u="sng">
                <a:solidFill>
                  <a:srgbClr val="00ccff"/>
                </a:solidFill>
                <a:uFillTx/>
                <a:latin typeface="Arial"/>
              </a:rPr>
              <a:t>культура реч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,т.е. умение пишущего или говорящего излагать свои мысли в соответствии с содержанием, правильно и выразите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</a:t>
            </a:r>
            <a:r>
              <a:rPr b="1" i="1" lang="ru-RU" sz="3200" spc="-1" strike="noStrike" u="sng">
                <a:solidFill>
                  <a:srgbClr val="00ccff"/>
                </a:solidFill>
                <a:uFillTx/>
                <a:latin typeface="Arial"/>
              </a:rPr>
              <a:t>«языковая норма»-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но из ключевых понятий в учении о правильности ре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ccff"/>
                </a:solidFill>
                <a:uFillTx/>
                <a:latin typeface="Arial"/>
              </a:rPr>
              <a:t>Норма литературного язы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это социально одобряемое правило, т.е. общепринятое употребление слов ,их форм, синтаксических конструкций, закрепленное в словарях и справочни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F898-4B61-4F39-AF63-996F040FC4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Organization Chart 5"/>
          <p:cNvGrpSpPr/>
          <p:nvPr/>
        </p:nvGrpSpPr>
        <p:grpSpPr>
          <a:xfrm>
            <a:off x="324000" y="260280"/>
            <a:ext cx="8568720" cy="6189840"/>
            <a:chOff x="324000" y="260280"/>
            <a:chExt cx="8568720" cy="6189840"/>
          </a:xfrm>
        </p:grpSpPr>
        <p:cxnSp>
          <p:nvCxnSpPr>
            <p:cNvPr id="174" name="_s1028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5886720" y="3960000"/>
              <a:ext cx="774360" cy="1110960"/>
            </a:xfrm>
            <a:prstGeom prst="bentConnector3">
              <a:avLst>
                <a:gd name="adj1" fmla="val 14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7" name="_s1029"/>
            <p:cNvCxnSpPr>
              <a:stCxn id="178" idx="0"/>
              <a:endCxn id="176" idx="2"/>
            </p:cNvCxnSpPr>
            <p:nvPr/>
          </p:nvCxnSpPr>
          <p:spPr>
            <a:xfrm flipH="1" flipV="1" rot="5400000">
              <a:off x="4777560" y="3961080"/>
              <a:ext cx="774360" cy="1109160"/>
            </a:xfrm>
            <a:prstGeom prst="bentConnector3">
              <a:avLst>
                <a:gd name="adj1" fmla="val 14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9" name="_s1030"/>
            <p:cNvCxnSpPr>
              <a:stCxn id="180" idx="0"/>
              <a:endCxn id="181" idx="2"/>
            </p:cNvCxnSpPr>
            <p:nvPr/>
          </p:nvCxnSpPr>
          <p:spPr>
            <a:xfrm flipV="1" rot="16200000">
              <a:off x="5886720" y="527400"/>
              <a:ext cx="774360" cy="3333240"/>
            </a:xfrm>
            <a:prstGeom prst="bentConnector3">
              <a:avLst>
                <a:gd name="adj1" fmla="val 14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2" name="_s1031"/>
            <p:cNvCxnSpPr>
              <a:stCxn id="176" idx="0"/>
              <a:endCxn id="181" idx="2"/>
            </p:cNvCxnSpPr>
            <p:nvPr/>
          </p:nvCxnSpPr>
          <p:spPr>
            <a:xfrm flipV="1" rot="16200000">
              <a:off x="4776120" y="1638000"/>
              <a:ext cx="774360" cy="1111680"/>
            </a:xfrm>
            <a:prstGeom prst="bentConnector3">
              <a:avLst>
                <a:gd name="adj1" fmla="val 14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3" name="_s1032"/>
            <p:cNvCxnSpPr>
              <a:stCxn id="184" idx="0"/>
              <a:endCxn id="181" idx="2"/>
            </p:cNvCxnSpPr>
            <p:nvPr/>
          </p:nvCxnSpPr>
          <p:spPr>
            <a:xfrm flipH="1" flipV="1" rot="5400000">
              <a:off x="3665520" y="1638720"/>
              <a:ext cx="774360" cy="1110960"/>
            </a:xfrm>
            <a:prstGeom prst="bentConnector3">
              <a:avLst>
                <a:gd name="adj1" fmla="val 14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5" name="_s1033"/>
            <p:cNvCxnSpPr>
              <a:stCxn id="186" idx="0"/>
              <a:endCxn id="181" idx="2"/>
            </p:cNvCxnSpPr>
            <p:nvPr/>
          </p:nvCxnSpPr>
          <p:spPr>
            <a:xfrm flipH="1" flipV="1" rot="5400000">
              <a:off x="2554560" y="527760"/>
              <a:ext cx="774360" cy="3332520"/>
            </a:xfrm>
            <a:prstGeom prst="bentConnector3">
              <a:avLst>
                <a:gd name="adj1" fmla="val 14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81" name="_s1034"/>
            <p:cNvSpPr/>
            <p:nvPr/>
          </p:nvSpPr>
          <p:spPr>
            <a:xfrm>
              <a:off x="3655800" y="260280"/>
              <a:ext cx="1904040" cy="1547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u="sng">
                  <a:solidFill>
                    <a:srgbClr val="00ccff"/>
                  </a:solidFill>
                  <a:uFillTx/>
                  <a:latin typeface="Arial"/>
                </a:rPr>
                <a:t>Основные </a:t>
              </a:r>
              <a:endParaRPr b="1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ccff"/>
                  </a:solidFill>
                  <a:uFillTx/>
                  <a:latin typeface="Arial"/>
                </a:rPr>
                <a:t>языковые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u="sng">
                  <a:solidFill>
                    <a:srgbClr val="00ccff"/>
                  </a:solidFill>
                  <a:uFillTx/>
                  <a:latin typeface="Arial"/>
                </a:rPr>
                <a:t>нормы</a:t>
              </a:r>
              <a:endParaRPr b="1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1035"/>
            <p:cNvSpPr/>
            <p:nvPr/>
          </p:nvSpPr>
          <p:spPr>
            <a:xfrm>
              <a:off x="324000" y="2581560"/>
              <a:ext cx="1904040" cy="1547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Орфоэпические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нормы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1036"/>
            <p:cNvSpPr/>
            <p:nvPr/>
          </p:nvSpPr>
          <p:spPr>
            <a:xfrm>
              <a:off x="2545560" y="2581560"/>
              <a:ext cx="1904040" cy="1547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Лексические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нормы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_s1037"/>
            <p:cNvSpPr/>
            <p:nvPr/>
          </p:nvSpPr>
          <p:spPr>
            <a:xfrm>
              <a:off x="4767120" y="2581560"/>
              <a:ext cx="1904040" cy="1547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Грамматические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нормы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1038"/>
            <p:cNvSpPr/>
            <p:nvPr/>
          </p:nvSpPr>
          <p:spPr>
            <a:xfrm>
              <a:off x="6988680" y="2581560"/>
              <a:ext cx="1904040" cy="1547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Пунктуационные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нормы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1039"/>
            <p:cNvSpPr/>
            <p:nvPr/>
          </p:nvSpPr>
          <p:spPr>
            <a:xfrm>
              <a:off x="3658320" y="4902840"/>
              <a:ext cx="1901520" cy="1547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Морфологические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нормы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_s1040"/>
            <p:cNvSpPr/>
            <p:nvPr/>
          </p:nvSpPr>
          <p:spPr>
            <a:xfrm>
              <a:off x="5877360" y="4902840"/>
              <a:ext cx="1901880" cy="1547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Синтаксические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нормы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7" dur="2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8" dur="2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" dur="1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" dur="1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" dur="1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" dur="1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5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5" dur="15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" dur="15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D74B-CE00-494F-AF50-7D219ECB91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ccff"/>
                </a:solidFill>
                <a:uFillTx/>
                <a:latin typeface="Arial"/>
              </a:rPr>
              <a:t>Грамматические нормы язы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Морфологические норм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о нормы словоизменения при склонении именных частей речи ,при спряжении глаголов, нормы словообразования и определения родовой принадлеж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2920" y="1341360"/>
            <a:ext cx="40388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Синтаксические нормы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о правила использования синтаксических конструкций,незнание которых приводит к неправильному построению словосочетаний или предлож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3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2B82-E566-41FA-8D09-8532E76F85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ccff"/>
                </a:solidFill>
                <a:uFillTx/>
                <a:latin typeface="Arial"/>
              </a:rPr>
              <a:t>Морфологические ошибки </a:t>
            </a:r>
            <a:br>
              <a:rPr sz="4000"/>
            </a:br>
            <a:r>
              <a:rPr b="1" i="1" lang="ru-RU" sz="1600" spc="-1" strike="noStrike" u="sng">
                <a:solidFill>
                  <a:srgbClr val="00ccff"/>
                </a:solidFill>
                <a:uFillTx/>
                <a:latin typeface="Arial"/>
              </a:rPr>
              <a:t>и их прав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50920" y="1052640"/>
          <a:ext cx="8569080" cy="553068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Ошибочное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ообразование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долюби</a:t>
                      </a:r>
                      <a:r>
                        <a:rPr b="1" lang="ru-RU" sz="32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м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й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Ошибочное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образование формы существительн.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ытные бухгалтер</a:t>
                      </a:r>
                      <a:r>
                        <a:rPr b="1" lang="ru-RU" sz="32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а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Ошибочное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образование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прилагательного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ее красив</a:t>
                      </a:r>
                      <a:r>
                        <a:rPr b="1" lang="ru-RU" sz="32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ее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сла</a:t>
                      </a: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ж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Ошибочное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образование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числительног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пят</a:t>
                      </a: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ми рублям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Ошибочное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образование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местоимения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х</a:t>
                      </a: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нюю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ещ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Ошибочное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образование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глагол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</a:t>
                      </a: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хаю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 рукам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ED9D-5C5A-4DD7-9010-A4D8B63DB0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ccff"/>
                </a:solidFill>
                <a:uFillTx/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"/>
              </a:rPr>
              <a:t>Найдите  грамматическую ошибку в образовании формы слова , </a:t>
            </a:r>
            <a:r>
              <a:rPr b="1" lang="ru-RU" sz="2800" spc="-1" strike="noStrike" u="sng">
                <a:solidFill>
                  <a:srgbClr val="00ccff"/>
                </a:solidFill>
                <a:uFillTx/>
                <a:latin typeface="Arial"/>
              </a:rPr>
              <a:t>запишите это слово правильно: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иректора  школ , контейнера  на погрузке, пять килограмм , в снегу , тысячи башкир , много народа , множество грузинов ,все шофера , две пары носков ,моя туфля, несколько мандарин , много яблок, 5 килобайтов, вкусный кофе, партия кадет, красивше всех, заведываю, откладываю на потом, в  шестьюстах метрах, в полторах часах езды, стакан соку, много сне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ремя работы -5-7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5563-EAFF-441A-A96B-E1947D6D2C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ccff"/>
                </a:solidFill>
                <a:latin typeface="Arial"/>
              </a:rPr>
              <a:t>Правильный ответ 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Контейнер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ы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на погрузке ,пять килограмм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, много народ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у,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множество грузи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н ,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се шофер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ы,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несколько мандарин</a:t>
            </a:r>
            <a:r>
              <a:rPr b="1" lang="ru-RU" sz="3600" spc="-1" strike="noStrike">
                <a:solidFill>
                  <a:srgbClr val="00ccff"/>
                </a:solidFill>
                <a:latin typeface="Arial"/>
              </a:rPr>
              <a:t>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, 5 килобай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т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, партия кадет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, красив</a:t>
            </a:r>
            <a:r>
              <a:rPr b="1" lang="ru-RU" sz="3600" spc="-1" strike="noStrike">
                <a:solidFill>
                  <a:srgbClr val="00ccff"/>
                </a:solidFill>
                <a:latin typeface="Arial"/>
              </a:rPr>
              <a:t>ее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всех, завед</a:t>
            </a:r>
            <a:r>
              <a:rPr b="1" lang="ru-RU" sz="3600" spc="-1" strike="noStrike">
                <a:solidFill>
                  <a:srgbClr val="00ccff"/>
                </a:solidFill>
                <a:latin typeface="Arial"/>
              </a:rPr>
              <a:t>ую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,в шест</a:t>
            </a:r>
            <a:r>
              <a:rPr b="1" lang="ru-RU" sz="3600" spc="-1" strike="noStrike">
                <a:solidFill>
                  <a:srgbClr val="00ccff"/>
                </a:solidFill>
                <a:latin typeface="Arial"/>
              </a:rPr>
              <a:t>и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тах метрах ,в пол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у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ор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а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часах ез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15:20:00Z</dcterms:created>
  <dc:creator> </dc:creator>
  <dc:description/>
  <dc:language>en-US</dc:language>
  <cp:lastModifiedBy>Admin</cp:lastModifiedBy>
  <dcterms:modified xsi:type="dcterms:W3CDTF">2012-01-27T18:19:25Z</dcterms:modified>
  <cp:revision>12</cp:revision>
  <dc:subject/>
  <dc:title>УРОКИ  26-27</dc:title>
</cp:coreProperties>
</file>