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8.jpeg" ContentType="image/jpeg"/>
  <Override PartName="/ppt/media/image22.gif" ContentType="image/gif"/>
  <Override PartName="/ppt/media/image2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7.gif" ContentType="image/gif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745-5889-4F16-B801-C3DF728E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531-913A-409D-BA07-136E0A47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1F8-E153-41CB-AB75-2C5B7A84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CBD-3C3C-4231-9B9C-6C7DCA65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3647-4CA9-4741-B21C-77D0F5E9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A5F2-F042-4759-80F8-7F7B6EFD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FCC9-F082-4F83-AF6B-B28D86E7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F3CC-DF22-441E-B971-1DFFB409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4ACA-C4D4-4CE9-84B1-5D8D2AC5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8250-EF9F-46FC-A640-AF6BD2FB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EFC1-8CA7-4F11-A857-5A332596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C79-75A7-4469-821A-2FC5D358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7298-8684-4646-99B9-4CDE824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E1CB-A94D-46A2-B6B6-23EC59EA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B727-6BD7-424C-B74E-6545D24F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5B6F-0447-40CA-ADF7-79A15F49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42BA-B29F-453B-A1E0-E7617DD2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948-A0AD-4785-872F-B0B367F2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E29-B53E-4CF6-885C-EB7EE61B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8EB-9D32-46FA-AC54-1760EDB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EA5-382A-47B3-8CD7-A28D6043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78C-5671-4B31-929D-63DC6370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ABA-4FB1-4409-84D9-1E84D76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0FD-3D58-47CA-9350-C223A0C2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cc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46FE-9E97-4ABD-A7E6-81CAC76D1562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9E5F-C3C4-48D9-8BD0-C1A7FBA891E6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iga-luna.ucoz.ru/_fr/2/4242839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778800" cy="568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ДОУ «Детский  сад № 8 комбинированного  вида» г. Емвы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Составитель: Зухович Э.С.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мва, 2011г.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771640" y="4437000"/>
            <a:ext cx="51912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7" descr="IMG_6169"/>
          <p:cNvPicPr/>
          <p:nvPr/>
        </p:nvPicPr>
        <p:blipFill>
          <a:blip r:embed="rId1"/>
          <a:stretch/>
        </p:blipFill>
        <p:spPr>
          <a:xfrm>
            <a:off x="3564000" y="907920"/>
            <a:ext cx="335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а  резцами  следуют  клыки. Они  помогают  разрывать  волокна  мяса. У  животных  обычно  крупные, сильные  клыки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93" name="Picture 7" descr="26780[1]"/>
          <p:cNvPicPr/>
          <p:nvPr/>
        </p:nvPicPr>
        <p:blipFill>
          <a:blip r:embed="rId1"/>
          <a:stretch/>
        </p:blipFill>
        <p:spPr>
          <a:xfrm>
            <a:off x="5219640" y="2276640"/>
            <a:ext cx="2376720" cy="27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22386946_4215244782[1]"/>
          <p:cNvPicPr/>
          <p:nvPr/>
        </p:nvPicPr>
        <p:blipFill>
          <a:blip r:embed="rId2"/>
          <a:stretch/>
        </p:blipFill>
        <p:spPr>
          <a:xfrm>
            <a:off x="1258920" y="2565360"/>
            <a:ext cx="2133720" cy="3240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2str1"/>
          <p:cNvPicPr/>
          <p:nvPr/>
        </p:nvPicPr>
        <p:blipFill>
          <a:blip r:embed="rId3"/>
          <a:stretch/>
        </p:blipFill>
        <p:spPr>
          <a:xfrm rot="21138000">
            <a:off x="1450800" y="4251240"/>
            <a:ext cx="5018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Человек  рождается  беззубым, к  трём  годам  вырастает  20  молочных  зубов.  А  в  5-6  лет  они  впадают, их  сменяют  постоянные  коренные  зубы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97" name="Picture 8" descr="1221377398_15240[1]"/>
          <p:cNvPicPr/>
          <p:nvPr/>
        </p:nvPicPr>
        <p:blipFill>
          <a:blip r:embed="rId1"/>
          <a:stretch/>
        </p:blipFill>
        <p:spPr>
          <a:xfrm>
            <a:off x="1332000" y="2708280"/>
            <a:ext cx="2851200" cy="194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h_iGr1SLOuQyTfhm6F5RCWJtjog9VD03Hk_[1]"/>
          <p:cNvPicPr/>
          <p:nvPr/>
        </p:nvPicPr>
        <p:blipFill>
          <a:blip r:embed="rId2"/>
          <a:stretch/>
        </p:blipFill>
        <p:spPr>
          <a:xfrm>
            <a:off x="5508720" y="1916280"/>
            <a:ext cx="2927160" cy="1807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17[1]"/>
          <p:cNvPicPr/>
          <p:nvPr/>
        </p:nvPicPr>
        <p:blipFill>
          <a:blip r:embed="rId3"/>
          <a:stretch/>
        </p:blipFill>
        <p:spPr>
          <a:xfrm>
            <a:off x="6227640" y="4292640"/>
            <a:ext cx="172908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8900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У  взрослого  человека  32  постоянных  зуба.</a:t>
            </a:r>
            <a:r>
              <a:rPr b="1" lang="ru-RU" sz="2400" spc="-1" strike="noStrike">
                <a:solidFill>
                  <a:srgbClr val="ff33cc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1" name="Picture 7" descr="Картинка 3 из 56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492280"/>
            <a:ext cx="3471840" cy="2594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зубастик"/>
          <p:cNvPicPr/>
          <p:nvPr/>
        </p:nvPicPr>
        <p:blipFill>
          <a:blip r:embed="rId3"/>
          <a:stretch/>
        </p:blipFill>
        <p:spPr>
          <a:xfrm>
            <a:off x="7956720" y="1341360"/>
            <a:ext cx="9046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25916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Наши  зубы  покрывает  белое  вещество – это  эмаль. Она  защищает   зубки.  Если  она  треснет, на  зубе  появляются  дырочки.  Зуб  начинает  портиться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4" name="Picture 4" descr="images_10[1]"/>
          <p:cNvPicPr/>
          <p:nvPr/>
        </p:nvPicPr>
        <p:blipFill>
          <a:blip r:embed="rId1"/>
          <a:stretch/>
        </p:blipFill>
        <p:spPr>
          <a:xfrm>
            <a:off x="250920" y="1197000"/>
            <a:ext cx="3773520" cy="5121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orig_lechenie_zubov_2357[1]"/>
          <p:cNvPicPr/>
          <p:nvPr/>
        </p:nvPicPr>
        <p:blipFill>
          <a:blip r:embed="rId2"/>
          <a:stretch/>
        </p:blipFill>
        <p:spPr>
          <a:xfrm>
            <a:off x="4356000" y="333360"/>
            <a:ext cx="45370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После  еды  остатки  пищи  застревают  между  зубами  и  начинают  размножаться  микробы, которые  разрушают  эмаль  зубов. Вот  что  происходит  с  зубами, если  их  не  чистить  каждый  день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7" name="Picture 4" descr="Smile[1]"/>
          <p:cNvPicPr/>
          <p:nvPr/>
        </p:nvPicPr>
        <p:blipFill>
          <a:blip r:embed="rId1"/>
          <a:stretch/>
        </p:blipFill>
        <p:spPr>
          <a:xfrm>
            <a:off x="1042920" y="2781360"/>
            <a:ext cx="2087640" cy="26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dental_caries_000002[1]"/>
          <p:cNvPicPr/>
          <p:nvPr/>
        </p:nvPicPr>
        <p:blipFill>
          <a:blip r:embed="rId2"/>
          <a:stretch/>
        </p:blipFill>
        <p:spPr>
          <a:xfrm>
            <a:off x="5292720" y="2924280"/>
            <a:ext cx="2449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Каждое  утро  и  вечером  перед  сном  нужно  чистить  зубки  щёткой  и  зубной  пастой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10" name="Picture 4" descr="bld053187[1]"/>
          <p:cNvPicPr/>
          <p:nvPr/>
        </p:nvPicPr>
        <p:blipFill>
          <a:blip r:embed="rId1"/>
          <a:stretch/>
        </p:blipFill>
        <p:spPr>
          <a:xfrm>
            <a:off x="4140360" y="2205000"/>
            <a:ext cx="2776320" cy="2873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appytooth[1]"/>
          <p:cNvPicPr/>
          <p:nvPr/>
        </p:nvPicPr>
        <p:blipFill>
          <a:blip r:embed="rId2"/>
          <a:stretch/>
        </p:blipFill>
        <p:spPr>
          <a:xfrm>
            <a:off x="1476360" y="1844640"/>
            <a:ext cx="10080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убы  нужно  чистить  правильно, тщательно  удалять  щёткой  остатки  пищи.  Делать  это  необходимо  не  менее  трёх  минут. 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13" name="Picture 4" descr="profi_for_you[1]"/>
          <p:cNvPicPr/>
          <p:nvPr/>
        </p:nvPicPr>
        <p:blipFill>
          <a:blip r:embed="rId1"/>
          <a:stretch/>
        </p:blipFill>
        <p:spPr>
          <a:xfrm>
            <a:off x="3419640" y="2924280"/>
            <a:ext cx="30225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Передние  зубы  чистят  по  направлению  вверх-вниз, затем  задние  зубы.  Зубы  всегда  нужно  чистить  круговыми  движениями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15" name="Picture 4" descr="1264420235_2[1]"/>
          <p:cNvPicPr/>
          <p:nvPr/>
        </p:nvPicPr>
        <p:blipFill>
          <a:blip r:embed="rId1"/>
          <a:stretch/>
        </p:blipFill>
        <p:spPr>
          <a:xfrm>
            <a:off x="1763640" y="4292640"/>
            <a:ext cx="1731960" cy="1728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4600[1]"/>
          <p:cNvPicPr/>
          <p:nvPr/>
        </p:nvPicPr>
        <p:blipFill>
          <a:blip r:embed="rId2"/>
          <a:stretch/>
        </p:blipFill>
        <p:spPr>
          <a:xfrm>
            <a:off x="4788000" y="2133720"/>
            <a:ext cx="2552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Чтобы  зубки  не  болели, нужно  ходить  к  врачу- стоматологу.  Если  он  обнаружит  дырочку  в  зубе, поставит  пломбу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18" name="Picture 4" descr="cat29imgb[1]"/>
          <p:cNvPicPr/>
          <p:nvPr/>
        </p:nvPicPr>
        <p:blipFill>
          <a:blip r:embed="rId1"/>
          <a:stretch/>
        </p:blipFill>
        <p:spPr>
          <a:xfrm>
            <a:off x="3276720" y="2781360"/>
            <a:ext cx="30240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Ухаживайте  за  своими  зубами  ежедневно  и  тогда  ваши  зубки  будут  крепкими, а  улыбка  белоснежной!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20" name="Picture 4" descr="photo_25[1]"/>
          <p:cNvPicPr/>
          <p:nvPr/>
        </p:nvPicPr>
        <p:blipFill>
          <a:blip r:embed="rId1"/>
          <a:stretch/>
        </p:blipFill>
        <p:spPr>
          <a:xfrm>
            <a:off x="3492360" y="2924280"/>
            <a:ext cx="2206800" cy="165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1278167007_mr-tooth[1]"/>
          <p:cNvPicPr/>
          <p:nvPr/>
        </p:nvPicPr>
        <p:blipFill>
          <a:blip r:embed="rId2"/>
          <a:stretch/>
        </p:blipFill>
        <p:spPr>
          <a:xfrm>
            <a:off x="1117440" y="515772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ozdravlenie_s_dnem_stomatologa_otkritka[1]"/>
          <p:cNvPicPr/>
          <p:nvPr/>
        </p:nvPicPr>
        <p:blipFill>
          <a:blip r:embed="rId3"/>
          <a:stretch/>
        </p:blipFill>
        <p:spPr>
          <a:xfrm>
            <a:off x="7164360" y="1700280"/>
            <a:ext cx="12366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ImageHandler[1]"/>
          <p:cNvPicPr/>
          <p:nvPr/>
        </p:nvPicPr>
        <p:blipFill>
          <a:blip r:embed="rId1"/>
          <a:stretch/>
        </p:blipFill>
        <p:spPr>
          <a:xfrm>
            <a:off x="4067280" y="907920"/>
            <a:ext cx="1368360" cy="1643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835280" y="3462480"/>
            <a:ext cx="6913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Verdana"/>
              </a:rPr>
              <a:t>Познакомимся  с  </a:t>
            </a: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Verdana"/>
              </a:rPr>
              <a:t>нашими</a:t>
            </a: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2" name="WordArt 6"/>
          <p:cNvSpPr txBox="1"/>
          <p:nvPr/>
        </p:nvSpPr>
        <p:spPr>
          <a:xfrm>
            <a:off x="2771640" y="4437000"/>
            <a:ext cx="51912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 у б а м и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47628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Красивая  улыбка  не  только  привлекает  наше  внимание, но  и  говорит  о  том, что  у  вас  крепкие, здоровые  зубы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74" name="Picture 6" descr="24c[1]"/>
          <p:cNvPicPr/>
          <p:nvPr/>
        </p:nvPicPr>
        <p:blipFill>
          <a:blip r:embed="rId1"/>
          <a:stretch/>
        </p:blipFill>
        <p:spPr>
          <a:xfrm>
            <a:off x="1258920" y="3789360"/>
            <a:ext cx="3051000" cy="2289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97136593516916[1]"/>
          <p:cNvPicPr/>
          <p:nvPr/>
        </p:nvPicPr>
        <p:blipFill>
          <a:blip r:embed="rId2"/>
          <a:stretch/>
        </p:blipFill>
        <p:spPr>
          <a:xfrm>
            <a:off x="5724360" y="2276640"/>
            <a:ext cx="19591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4345200" cy="21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ачем  зубы  животным? Чтобы  защищаться, цепляться  за  льдины, перетаскивать  тяжести, откусывать  и пережёвывать  пищу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77" name="Picture 4" descr="001[1]"/>
          <p:cNvPicPr/>
          <p:nvPr/>
        </p:nvPicPr>
        <p:blipFill>
          <a:blip r:embed="rId1"/>
          <a:stretch/>
        </p:blipFill>
        <p:spPr>
          <a:xfrm>
            <a:off x="1476360" y="350028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2175[1]"/>
          <p:cNvPicPr/>
          <p:nvPr/>
        </p:nvPicPr>
        <p:blipFill>
          <a:blip r:embed="rId2"/>
          <a:stretch/>
        </p:blipFill>
        <p:spPr>
          <a:xfrm>
            <a:off x="6227640" y="836640"/>
            <a:ext cx="2229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404280"/>
            <a:ext cx="8244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убы- самые  твёрдые  части  нашего организма.  Они  нужны  нам, чтобы откусывать  и пережёвывать  пищу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0" name="Picture 10" descr="teeth[1]"/>
          <p:cNvPicPr/>
          <p:nvPr/>
        </p:nvPicPr>
        <p:blipFill>
          <a:blip r:embed="rId1"/>
          <a:stretch/>
        </p:blipFill>
        <p:spPr>
          <a:xfrm>
            <a:off x="971640" y="2133720"/>
            <a:ext cx="2878200" cy="187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zub5[1]"/>
          <p:cNvPicPr/>
          <p:nvPr/>
        </p:nvPicPr>
        <p:blipFill>
          <a:blip r:embed="rId2"/>
          <a:stretch/>
        </p:blipFill>
        <p:spPr>
          <a:xfrm>
            <a:off x="4643280" y="3500280"/>
            <a:ext cx="2544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убы  укреплены в  кости (челюсти), покрыта  кость  десной – мягкой  тканью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3" name="Picture 8" descr="88cbe53fb423f390-main[1]"/>
          <p:cNvPicPr/>
          <p:nvPr/>
        </p:nvPicPr>
        <p:blipFill>
          <a:blip r:embed="rId1"/>
          <a:stretch/>
        </p:blipFill>
        <p:spPr>
          <a:xfrm>
            <a:off x="5364000" y="3141720"/>
            <a:ext cx="2737080" cy="290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3998D559A9404E2DB06433AFC87E695B[1]"/>
          <p:cNvPicPr/>
          <p:nvPr/>
        </p:nvPicPr>
        <p:blipFill>
          <a:blip r:embed="rId2"/>
          <a:stretch/>
        </p:blipFill>
        <p:spPr>
          <a:xfrm>
            <a:off x="1476360" y="1773360"/>
            <a:ext cx="24415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Если грызть  что-то  очень  твёрдое  или  сильно  ударить  по  зубу  можно его сломать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6" name="Picture 4" descr="est1[1]"/>
          <p:cNvPicPr/>
          <p:nvPr/>
        </p:nvPicPr>
        <p:blipFill>
          <a:blip r:embed="rId1"/>
          <a:stretch/>
        </p:blipFill>
        <p:spPr>
          <a:xfrm>
            <a:off x="971640" y="1773360"/>
            <a:ext cx="71992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Откусываем, как  бы  отрезаем  пищу    мы   резцами. Это  четыре  нижних  и  четыре  верхних  зуба, они  заострённые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8" name="Picture 7" descr="graze415[1]"/>
          <p:cNvPicPr/>
          <p:nvPr/>
        </p:nvPicPr>
        <p:blipFill>
          <a:blip r:embed="rId1"/>
          <a:stretch/>
        </p:blipFill>
        <p:spPr>
          <a:xfrm>
            <a:off x="179280" y="2565360"/>
            <a:ext cx="4824360" cy="3954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288E4EF79587452CB07984E335F9AB0B[1]"/>
          <p:cNvPicPr/>
          <p:nvPr/>
        </p:nvPicPr>
        <p:blipFill>
          <a:blip r:embed="rId2"/>
          <a:stretch/>
        </p:blipFill>
        <p:spPr>
          <a:xfrm>
            <a:off x="4427640" y="162864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Verdana"/>
              </a:rPr>
              <a:t>За  клыками  находятся  жевательные  зубы.  Они  помогают  перемалывать  пищу  до  малюсеньких  кусочков.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91" name="Picture 6" descr="A17MZLGCANN78PNCAVJT3B6CA05YXEYCAJGYB90CAXQ1CZWCAT9V1HACA108120CAD2GJP1CAHJP3Z9CAP6WQ7JCAKXSL9YCAY64VMQCA1K61D6CAA76RT5CAA1EKZ4CA1WS74JCAJVIMAUCA74UTG8"/>
          <p:cNvPicPr/>
          <p:nvPr/>
        </p:nvPicPr>
        <p:blipFill>
          <a:blip r:embed="rId1"/>
          <a:stretch/>
        </p:blipFill>
        <p:spPr>
          <a:xfrm>
            <a:off x="3348000" y="2852640"/>
            <a:ext cx="3251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4:46:10Z</dcterms:created>
  <dc:creator>User</dc:creator>
  <dc:description/>
  <dc:language>en-US</dc:language>
  <cp:lastModifiedBy>Николай</cp:lastModifiedBy>
  <dcterms:modified xsi:type="dcterms:W3CDTF">2012-01-27T16:02:53Z</dcterms:modified>
  <cp:revision>8</cp:revision>
  <dc:subject/>
  <dc:title>Слайд 1</dc:title>
</cp:coreProperties>
</file>