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2261-F493-4F7A-8E44-6E38C5BF7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29AC-3D8C-45F6-B264-AAB025CE1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ария Ирина Владимировна  СОШ № 34 г. Енакиево Донец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3B53-65D6-43FF-9B2D-DA7B10EBC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  200 м  756 мм   720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132D-299B-48DA-8C08-313229718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  200 м  756 мм   720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F810-823E-4D83-B7AB-528666376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ое АД       Высокое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2EC3-B4BF-4098-A2E6-426174FBD9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кий пояс       умеренный пояс           холодный пояс    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36B4-B400-46ED-9241-0768E9A59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76CD-E5C0-4094-9BBF-8A864B9E8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  200 м  756 мм   720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B331-F3C1-411E-B339-676127496B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7DDA-11F2-46BB-A79E-F18F2E570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226-6C36-4CB3-9E4B-9C0CCDDB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D4A-40E7-4E93-8D6C-659C263F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490-A6B3-49A9-BF19-8D24945B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A3F-0014-4A30-A71A-F93CF389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ECA-E68C-4B41-B0FA-CEEFDBAE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C12-89D7-4B91-B9B3-80A1B6FE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F4F-0B3A-4F5B-AB54-74ECCB42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1A2-626A-4A28-8417-289C9BAC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B44-125B-428C-AAA0-8A44C017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6B2-06EB-4067-B397-8A2E2F3C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9D3-D3B4-42A2-B8C6-8A98930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6FE-19C9-406E-80BC-E3A2A265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AA4F-845A-4288-B506-A63163F0A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videoru.ru/UserFiles/Image/Zdorovie/RST07360.jpg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lass-fizika.ru/7_class/7_davlatm/07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htiandry.by.ru/images/7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ramki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5219640" y="5157720"/>
            <a:ext cx="331308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йт Еле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ОШ № 6» г. Влади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1071720" y="642960"/>
            <a:ext cx="692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олько весит возду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тмосферное давле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400" y="785520"/>
            <a:ext cx="84294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 воздуха создает давление. Воздух давит на все ваше тело со всех сторон, подобно воде, если вы находитесь на дне моря. Огромная масса воздуха очень сильно давит на Землю, и давление при этом составляет примерно один килограмм на квадратный сантимет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илограмм — это вес колонны воздуха с площадью основания 1 квадратный сантиметр и высотой, равной высоте атмосфе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66600" y="281160"/>
            <a:ext cx="8510760" cy="1077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-360" y="1213920"/>
            <a:ext cx="5357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мосферное да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гидростатическое давление атмосферы на все находящиеся в ней предметы и земную поверхность. Атмосферное давление создаётся гравитационным притяжением воздуха к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х имеет массу и вес и оказывает давление на соприкасающуюся с ним поверхность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а, с которой воздух давит на Землю, называется атмосферным давл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6" descr="http://gazeta.aif.ru/data/mags/kids/113/pics/de05_02_00.jpg"/>
          <p:cNvPicPr/>
          <p:nvPr/>
        </p:nvPicPr>
        <p:blipFill>
          <a:blip r:embed="rId2"/>
          <a:stretch/>
        </p:blipFill>
        <p:spPr>
          <a:xfrm>
            <a:off x="5357880" y="1428840"/>
            <a:ext cx="378612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 1847 году первый барометр анероид был сконструирован итальянцем Люсьеном Види. «Анероид» означает без жид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lip_image002_0008"/>
          <p:cNvPicPr/>
          <p:nvPr/>
        </p:nvPicPr>
        <p:blipFill>
          <a:blip r:embed="rId1"/>
          <a:stretch/>
        </p:blipFill>
        <p:spPr>
          <a:xfrm>
            <a:off x="5456160" y="3114720"/>
            <a:ext cx="3687840" cy="374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lip_image004_0003"/>
          <p:cNvPicPr/>
          <p:nvPr/>
        </p:nvPicPr>
        <p:blipFill>
          <a:blip r:embed="rId2"/>
          <a:stretch/>
        </p:blipFill>
        <p:spPr>
          <a:xfrm>
            <a:off x="0" y="2500200"/>
            <a:ext cx="5756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6121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час появились электронные барометры разных размеров и точности. Одни из них работают по принципу обычного анероида, другие используют иной принцип, измеряя давление воздуха на чувствительный кристал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164360" y="-185040"/>
            <a:ext cx="16923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lip_image006_0003"/>
          <p:cNvPicPr/>
          <p:nvPr/>
        </p:nvPicPr>
        <p:blipFill>
          <a:blip r:embed="rId1"/>
          <a:stretch/>
        </p:blipFill>
        <p:spPr>
          <a:xfrm>
            <a:off x="3203640" y="189000"/>
            <a:ext cx="3995640" cy="3187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Картинка 1 из 1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360" y="0"/>
            <a:ext cx="3046680" cy="340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lip_image008_0002"/>
          <p:cNvPicPr/>
          <p:nvPr/>
        </p:nvPicPr>
        <p:blipFill>
          <a:blip r:embed="rId4"/>
          <a:stretch/>
        </p:blipFill>
        <p:spPr>
          <a:xfrm>
            <a:off x="6084720" y="3068640"/>
            <a:ext cx="2584440" cy="2637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6374880" y="57340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фровой ба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4076280"/>
            <a:ext cx="885816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5f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5fa1a"/>
                </a:solidFill>
                <a:latin typeface="Arial"/>
              </a:rPr>
              <a:t>Первые воздухоплаватели обнаружили, что при подъеме вверх становится трудно дышать. То же самое происходит и при подъеме в горы. Почему это происход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ramki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Line 4"/>
          <p:cNvSpPr/>
          <p:nvPr/>
        </p:nvSpPr>
        <p:spPr>
          <a:xfrm>
            <a:off x="755640" y="32846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755640" y="3284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9"/>
          <p:cNvSpPr/>
          <p:nvPr/>
        </p:nvSpPr>
        <p:spPr>
          <a:xfrm>
            <a:off x="826920" y="1197000"/>
            <a:ext cx="6696360" cy="2531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97164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900000" y="3357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161928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826920" y="3573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1116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40328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258920" y="3716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1187280" y="342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3348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7382520" y="234936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1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829080" y="2781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6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7667640" y="292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7382520" y="162864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2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"/>
          <p:cNvSpPr/>
          <p:nvPr/>
        </p:nvSpPr>
        <p:spPr>
          <a:xfrm>
            <a:off x="2629080" y="227664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5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>
            <a:off x="8604360" y="476280"/>
            <a:ext cx="0" cy="28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6"/>
          <p:cNvSpPr/>
          <p:nvPr/>
        </p:nvSpPr>
        <p:spPr>
          <a:xfrm flipH="1">
            <a:off x="8459280" y="126828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7"/>
          <p:cNvSpPr/>
          <p:nvPr/>
        </p:nvSpPr>
        <p:spPr>
          <a:xfrm flipH="1">
            <a:off x="8459280" y="26370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8"/>
          <p:cNvSpPr/>
          <p:nvPr/>
        </p:nvSpPr>
        <p:spPr>
          <a:xfrm flipH="1">
            <a:off x="8459280" y="1916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7453800" y="90792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3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1"/>
          <p:cNvSpPr/>
          <p:nvPr/>
        </p:nvSpPr>
        <p:spPr>
          <a:xfrm>
            <a:off x="3637080" y="1557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4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2"/>
          <p:cNvSpPr/>
          <p:nvPr/>
        </p:nvSpPr>
        <p:spPr>
          <a:xfrm>
            <a:off x="4429440" y="6922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3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3"/>
          <p:cNvSpPr/>
          <p:nvPr/>
        </p:nvSpPr>
        <p:spPr>
          <a:xfrm>
            <a:off x="826920" y="386064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Какую закономерность в изменении атмосферного давления вы замет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4"/>
          <p:cNvSpPr/>
          <p:nvPr/>
        </p:nvSpPr>
        <p:spPr>
          <a:xfrm>
            <a:off x="539640" y="5877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ка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5"/>
          <p:cNvSpPr/>
          <p:nvPr/>
        </p:nvSpPr>
        <p:spPr>
          <a:xfrm>
            <a:off x="2124000" y="6165720"/>
            <a:ext cx="50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6"/>
          <p:cNvSpPr/>
          <p:nvPr/>
        </p:nvSpPr>
        <p:spPr>
          <a:xfrm>
            <a:off x="2627280" y="5877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тм.давл. на каждые 10 м изменяется на 1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1"/>
          <p:cNvSpPr/>
          <p:nvPr/>
        </p:nvSpPr>
        <p:spPr>
          <a:xfrm>
            <a:off x="684360" y="501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На каждые 100 м давление изменилось на 10мм рт. 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14"/>
          <p:cNvSpPr/>
          <p:nvPr/>
        </p:nvSpPr>
        <p:spPr>
          <a:xfrm>
            <a:off x="3348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5"/>
          <p:cNvSpPr/>
          <p:nvPr/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чик поднялся на высоту 2 км. Каково атмосферное давление воздуха на этой высоте, еслиу поверхности земли оно равнялось 750 мм рт.ст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( 2000:10=200 – величина изменения атм.дав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   </a:t>
            </a: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750-200=550 мм рт.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читайте атмосферное давление в  г. Екатеринбурге, если известно, что абсолютная высота города 260м, а атмосферное давление на высоте 0м составляет 760мм рт.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(  260:10=26;        760-26=734 мм рт.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Шахтер спустился в шахту на глубину 300 м . На поверхности атмосферное давлении составило 742 мм рт.ст. Определите атмосферное давление в шах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(260:10=26;        472+26=768 мм.рт.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5"/>
          <p:cNvSpPr/>
          <p:nvPr/>
        </p:nvSpPr>
        <p:spPr>
          <a:xfrm>
            <a:off x="2195640" y="206064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7885080" y="184464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10"/>
          <p:cNvSpPr/>
          <p:nvPr/>
        </p:nvSpPr>
        <p:spPr>
          <a:xfrm rot="5400000">
            <a:off x="4212360" y="-2367720"/>
            <a:ext cx="719280" cy="9144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0" y="0"/>
            <a:ext cx="2843280" cy="314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5796000" y="0"/>
            <a:ext cx="3348000" cy="335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556000" y="155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6191280" y="119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Екатерин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0" y="14842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56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с.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2050920" y="306864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635120" y="2924280"/>
            <a:ext cx="12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1042920" y="3645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752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6659640" y="3573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734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042920" y="2565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 абс.=256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6516720" y="256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 абс.=256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324000" y="47973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что обратили вним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179280" y="53737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Характер поверхности влияет на температуру воздуха, а значит и на плотность воздуха. Холодный воздух более плотный, а теплый более ле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1042920" y="299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24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588000" y="29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17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8" descr="ramki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ag00433_"/>
          <p:cNvPicPr/>
          <p:nvPr/>
        </p:nvPicPr>
        <p:blipFill>
          <a:blip r:embed="rId2"/>
          <a:stretch/>
        </p:blipFill>
        <p:spPr>
          <a:xfrm>
            <a:off x="6659640" y="765000"/>
            <a:ext cx="1722240" cy="129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ag00434_"/>
          <p:cNvPicPr/>
          <p:nvPr/>
        </p:nvPicPr>
        <p:blipFill>
          <a:blip r:embed="rId3"/>
          <a:stretch/>
        </p:blipFill>
        <p:spPr>
          <a:xfrm>
            <a:off x="755640" y="765000"/>
            <a:ext cx="1584360" cy="1582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611280" y="4221000"/>
            <a:ext cx="7993080" cy="1800360"/>
          </a:xfrm>
          <a:prstGeom prst="rect">
            <a:avLst/>
          </a:prstGeom>
          <a:solidFill>
            <a:srgbClr val="fbfda1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мосферное давление с выс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ижается на каждые 1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ъема на 10 мм рт.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1402560" y="306864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Низкое 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5076360" y="3068640"/>
            <a:ext cx="26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ысокое 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 flipV="1">
            <a:off x="2123640" y="2565000"/>
            <a:ext cx="57636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V="1">
            <a:off x="6084720" y="2491920"/>
            <a:ext cx="57492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1" descr="ramki1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яса атмосферного давления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SDC12124(1)"/>
          <p:cNvPicPr/>
          <p:nvPr/>
        </p:nvPicPr>
        <p:blipFill>
          <a:blip r:embed="rId2"/>
          <a:stretch/>
        </p:blipFill>
        <p:spPr>
          <a:xfrm>
            <a:off x="539640" y="1700280"/>
            <a:ext cx="8137800" cy="408132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sp>
        <p:nvSpPr>
          <p:cNvPr id="188" name="Rectangle 10"/>
          <p:cNvSpPr/>
          <p:nvPr/>
        </p:nvSpPr>
        <p:spPr>
          <a:xfrm>
            <a:off x="2557440" y="155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157800" y="155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630216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262872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6229080" y="29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622908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55744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2557440" y="29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255744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255744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2557440" y="231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622908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6227640" y="3429000"/>
            <a:ext cx="3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6229080" y="231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6" descr="ramki1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дача № 1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температуру воздуха на высоте 2 км. Если на уровне моря она равна  +1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473400" y="2781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404000" y="278136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1626840" y="566100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16◦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469440" y="45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755640" y="6237360"/>
            <a:ext cx="230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V="1">
            <a:off x="900000" y="3428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8" descr="ramki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Задача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подножия горы на высоте 200 м над уровнем моря АД равно 756 мм рт. ст. На вершине оно составляет 720 мм рт. ст. Определите относительную и абсолютную высоту 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11280" y="5516640"/>
            <a:ext cx="446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539640" y="551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500364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 flipV="1">
            <a:off x="2268360" y="494136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2268360" y="494172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2"/>
          <p:cNvSpPr/>
          <p:nvPr/>
        </p:nvSpPr>
        <p:spPr>
          <a:xfrm>
            <a:off x="539640" y="3500280"/>
            <a:ext cx="4432320" cy="2532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0"/>
          <p:cNvSpPr/>
          <p:nvPr/>
        </p:nvSpPr>
        <p:spPr>
          <a:xfrm>
            <a:off x="826920" y="56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971640" y="5589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3"/>
          <p:cNvSpPr/>
          <p:nvPr/>
        </p:nvSpPr>
        <p:spPr>
          <a:xfrm>
            <a:off x="611280" y="573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4"/>
          <p:cNvSpPr/>
          <p:nvPr/>
        </p:nvSpPr>
        <p:spPr>
          <a:xfrm>
            <a:off x="75564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5"/>
          <p:cNvSpPr/>
          <p:nvPr/>
        </p:nvSpPr>
        <p:spPr>
          <a:xfrm>
            <a:off x="684360" y="58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6"/>
          <p:cNvSpPr/>
          <p:nvPr/>
        </p:nvSpPr>
        <p:spPr>
          <a:xfrm>
            <a:off x="684360" y="5877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7"/>
          <p:cNvSpPr/>
          <p:nvPr/>
        </p:nvSpPr>
        <p:spPr>
          <a:xfrm>
            <a:off x="82692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8"/>
          <p:cNvSpPr/>
          <p:nvPr/>
        </p:nvSpPr>
        <p:spPr>
          <a:xfrm>
            <a:off x="3348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1"/>
          <p:cNvSpPr/>
          <p:nvPr/>
        </p:nvSpPr>
        <p:spPr>
          <a:xfrm flipV="1">
            <a:off x="3564000" y="3500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2"/>
          <p:cNvSpPr/>
          <p:nvPr/>
        </p:nvSpPr>
        <p:spPr>
          <a:xfrm flipV="1">
            <a:off x="3708360" y="349992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3"/>
          <p:cNvSpPr/>
          <p:nvPr/>
        </p:nvSpPr>
        <p:spPr>
          <a:xfrm>
            <a:off x="3205080" y="4003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4"/>
          <p:cNvSpPr/>
          <p:nvPr/>
        </p:nvSpPr>
        <p:spPr>
          <a:xfrm>
            <a:off x="3781440" y="4435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5"/>
          <p:cNvSpPr/>
          <p:nvPr/>
        </p:nvSpPr>
        <p:spPr>
          <a:xfrm>
            <a:off x="2270520" y="501156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2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6"/>
          <p:cNvSpPr/>
          <p:nvPr/>
        </p:nvSpPr>
        <p:spPr>
          <a:xfrm>
            <a:off x="1260720" y="450864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56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7"/>
          <p:cNvSpPr/>
          <p:nvPr/>
        </p:nvSpPr>
        <p:spPr>
          <a:xfrm>
            <a:off x="3278520" y="2995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2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граф 20, рабочая тетрадь тема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6" descr="ramki1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дача № 2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температуру воздуха на высоте 3 км. Если на уровне моря она равна  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73400" y="2781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1404000" y="278136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1624320" y="5661000"/>
            <a:ext cx="9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◦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69440" y="45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755640" y="6237360"/>
            <a:ext cx="230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V="1">
            <a:off x="900000" y="3428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6" descr="ramki1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дача № 3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температуру воздуха на высоте 4 км. Если на уровне моря она равна  +1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73400" y="2781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1404000" y="278136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626840" y="566100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12◦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69440" y="45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755640" y="6237360"/>
            <a:ext cx="230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V="1">
            <a:off x="900000" y="3428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 воздух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840" y="2071800"/>
            <a:ext cx="8215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8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инство из нас считают, что воздух — это «ничто», но воздух — это явное «что-то», если он состоит из определенных газов. Газ не имеет определенных размеров или формы, но он занимает простран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5840" y="164304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43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ванжелиста Торричел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л, что воздух имеет вес. Совместно с В. Вивиани, Торричелли провёл первый опыт по измерению атмосферного давления, изобрет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убку Торричел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ервый ртутный барометр), — стеклянную трубку, в которой нет воздуха. В такой трубке ртуть поднимается на высоту около 760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643720" y="1714680"/>
            <a:ext cx="3500280" cy="47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29"/>
          <p:cNvSpPr/>
          <p:nvPr/>
        </p:nvSpPr>
        <p:spPr>
          <a:xfrm>
            <a:off x="611280" y="981000"/>
            <a:ext cx="8510400" cy="529272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6948360" y="1773360"/>
            <a:ext cx="1440000" cy="936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7596360" y="-27000"/>
            <a:ext cx="215640" cy="27352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735280"/>
              <a:gd name="textAreaBottom" fmla="*/ 2724840 h 2735280"/>
            </a:gdLst>
            <a:ahLst/>
            <a:rect l="textAreaLeft" t="textAreaTop" r="textAreaRight" b="textAreaBottom"/>
            <a:pathLst>
              <a:path w="21600" h="273564">
                <a:moveTo>
                  <a:pt x="3600" y="0"/>
                </a:moveTo>
                <a:arcTo wR="3600" hR="3600" stAng="16200000" swAng="-5400000"/>
                <a:lnTo>
                  <a:pt x="0" y="269964"/>
                </a:lnTo>
                <a:arcTo wR="3600" hR="3600" stAng="10800000" swAng="-5400000"/>
                <a:lnTo>
                  <a:pt x="18000" y="273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5"/>
          <p:cNvSpPr/>
          <p:nvPr/>
        </p:nvSpPr>
        <p:spPr>
          <a:xfrm>
            <a:off x="2771640" y="1268280"/>
            <a:ext cx="216000" cy="2735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735280"/>
              <a:gd name="textAreaBottom" fmla="*/ 2724840 h 2735280"/>
            </a:gdLst>
            <a:ahLst/>
            <a:rect l="textAreaLeft" t="textAreaTop" r="textAreaRight" b="textAreaBottom"/>
            <a:pathLst>
              <a:path w="21600" h="273109">
                <a:moveTo>
                  <a:pt x="3600" y="0"/>
                </a:moveTo>
                <a:arcTo wR="3600" hR="3600" stAng="16200000" swAng="-5400000"/>
                <a:lnTo>
                  <a:pt x="0" y="269509"/>
                </a:lnTo>
                <a:arcTo wR="3600" hR="3600" stAng="10800000" swAng="-5400000"/>
                <a:lnTo>
                  <a:pt x="18000" y="27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250920" y="5157720"/>
            <a:ext cx="1439640" cy="936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4920" y="59500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826920" y="3357720"/>
            <a:ext cx="216000" cy="2735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735280"/>
              <a:gd name="textAreaBottom" fmla="*/ 2724840 h 2735280"/>
            </a:gdLst>
            <a:ahLst/>
            <a:rect l="textAreaLeft" t="textAreaTop" r="textAreaRight" b="textAreaBottom"/>
            <a:pathLst>
              <a:path w="21600" h="273109">
                <a:moveTo>
                  <a:pt x="3600" y="0"/>
                </a:moveTo>
                <a:arcTo wR="3600" hR="3600" stAng="16200000" swAng="-5400000"/>
                <a:lnTo>
                  <a:pt x="0" y="269509"/>
                </a:lnTo>
                <a:arcTo wR="3600" hR="3600" stAng="10800000" swAng="-5400000"/>
                <a:lnTo>
                  <a:pt x="18000" y="27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826920" y="4005360"/>
            <a:ext cx="216000" cy="20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087640"/>
              <a:gd name="textAreaBottom" fmla="*/ 2077200 h 2087640"/>
            </a:gdLst>
            <a:ahLst/>
            <a:rect l="textAreaLeft" t="textAreaTop" r="textAreaRight" b="textAreaBottom"/>
            <a:pathLst>
              <a:path w="21600" h="208453">
                <a:moveTo>
                  <a:pt x="3600" y="0"/>
                </a:moveTo>
                <a:arcTo wR="3600" hR="3600" stAng="16200000" swAng="-5400000"/>
                <a:lnTo>
                  <a:pt x="0" y="204853"/>
                </a:lnTo>
                <a:arcTo wR="3600" hR="3600" stAng="10800000" swAng="-5400000"/>
                <a:lnTo>
                  <a:pt x="18000" y="208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692360" y="35733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2124000" y="3068640"/>
            <a:ext cx="1440000" cy="936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2771640" y="2852640"/>
            <a:ext cx="216000" cy="1150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1150920"/>
              <a:gd name="textAreaBottom" fmla="*/ 1140480 h 1150920"/>
            </a:gdLst>
            <a:ahLst/>
            <a:rect l="textAreaLeft" t="textAreaTop" r="textAreaRight" b="textAreaBottom"/>
            <a:pathLst>
              <a:path w="21600" h="114936">
                <a:moveTo>
                  <a:pt x="3600" y="0"/>
                </a:moveTo>
                <a:arcTo wR="3600" hR="3600" stAng="16200000" swAng="-5400000"/>
                <a:lnTo>
                  <a:pt x="0" y="111336"/>
                </a:lnTo>
                <a:arcTo wR="3600" hR="3600" stAng="10800000" swAng="-5400000"/>
                <a:lnTo>
                  <a:pt x="18000" y="114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9"/>
          <p:cNvSpPr/>
          <p:nvPr/>
        </p:nvSpPr>
        <p:spPr>
          <a:xfrm>
            <a:off x="4427640" y="3573360"/>
            <a:ext cx="1439640" cy="936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5076720" y="1773360"/>
            <a:ext cx="216000" cy="2735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735280"/>
              <a:gd name="textAreaBottom" fmla="*/ 2724840 h 2735280"/>
            </a:gdLst>
            <a:ahLst/>
            <a:rect l="textAreaLeft" t="textAreaTop" r="textAreaRight" b="textAreaBottom"/>
            <a:pathLst>
              <a:path w="21600" h="273109">
                <a:moveTo>
                  <a:pt x="3600" y="0"/>
                </a:moveTo>
                <a:arcTo wR="3600" hR="3600" stAng="16200000" swAng="-5400000"/>
                <a:lnTo>
                  <a:pt x="0" y="269509"/>
                </a:lnTo>
                <a:arcTo wR="3600" hR="3600" stAng="10800000" swAng="-5400000"/>
                <a:lnTo>
                  <a:pt x="18000" y="27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1"/>
          <p:cNvSpPr/>
          <p:nvPr/>
        </p:nvSpPr>
        <p:spPr>
          <a:xfrm>
            <a:off x="7596360" y="2276640"/>
            <a:ext cx="215640" cy="4330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433080"/>
              <a:gd name="textAreaBottom" fmla="*/ 422640 h 433080"/>
            </a:gdLst>
            <a:ahLst/>
            <a:rect l="textAreaLeft" t="textAreaTop" r="textAreaRight" b="textAreaBottom"/>
            <a:pathLst>
              <a:path w="21600" h="43344">
                <a:moveTo>
                  <a:pt x="3600" y="0"/>
                </a:moveTo>
                <a:arcTo wR="3600" hR="3600" stAng="16200000" swAng="-5400000"/>
                <a:lnTo>
                  <a:pt x="0" y="39744"/>
                </a:lnTo>
                <a:arcTo wR="3600" hR="3600" stAng="10800000" swAng="-5400000"/>
                <a:lnTo>
                  <a:pt x="18000" y="433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5076720" y="2997360"/>
            <a:ext cx="216000" cy="1511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1511280"/>
              <a:gd name="textAreaBottom" fmla="*/ 1500840 h 1511280"/>
            </a:gdLst>
            <a:ahLst/>
            <a:rect l="textAreaLeft" t="textAreaTop" r="textAreaRight" b="textAreaBottom"/>
            <a:pathLst>
              <a:path w="21600" h="150912">
                <a:moveTo>
                  <a:pt x="3600" y="0"/>
                </a:moveTo>
                <a:arcTo wR="3600" hR="3600" stAng="16200000" swAng="-5400000"/>
                <a:lnTo>
                  <a:pt x="0" y="147312"/>
                </a:lnTo>
                <a:arcTo wR="3600" hR="3600" stAng="10800000" swAng="-5400000"/>
                <a:lnTo>
                  <a:pt x="18000" y="1509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4"/>
          <p:cNvSpPr/>
          <p:nvPr/>
        </p:nvSpPr>
        <p:spPr>
          <a:xfrm>
            <a:off x="7164360" y="2349360"/>
            <a:ext cx="576360" cy="3603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5"/>
          <p:cNvSpPr/>
          <p:nvPr/>
        </p:nvSpPr>
        <p:spPr>
          <a:xfrm>
            <a:off x="7596360" y="2349360"/>
            <a:ext cx="576000" cy="36036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8317080" y="1916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4284720" y="4437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2"/>
          <p:cNvSpPr/>
          <p:nvPr/>
        </p:nvSpPr>
        <p:spPr>
          <a:xfrm>
            <a:off x="8820000" y="1268280"/>
            <a:ext cx="289080" cy="216000"/>
          </a:xfrm>
          <a:prstGeom prst="pie">
            <a:avLst/>
          </a:prstGeom>
          <a:noFill/>
          <a:ln w="88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1908000" y="5445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здух имеет массу и эта масса оказывает давление на земную поверхность и все предметы, находящиеся на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7"/>
          <p:cNvSpPr/>
          <p:nvPr/>
        </p:nvSpPr>
        <p:spPr>
          <a:xfrm>
            <a:off x="2411280" y="442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Еванджелиста Торриче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856908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4470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ричелли обнаружил, что высота столба ртути в его опыте не зависит ни от формы трубки, ни от ее наклона. На уровне моря высота ртутного столба всегда была около 760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оэтому нормальным давлением ст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читать давление стр.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ртутный барометр был изобре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ангелиста Торричелли в 1643 го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clip_image001_0008"/>
          <p:cNvPicPr/>
          <p:nvPr/>
        </p:nvPicPr>
        <p:blipFill>
          <a:blip r:embed="rId1"/>
          <a:stretch/>
        </p:blipFill>
        <p:spPr>
          <a:xfrm>
            <a:off x="7524720" y="2997360"/>
            <a:ext cx="1425600" cy="352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Картинка 50 из 1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628640"/>
            <a:ext cx="2041560" cy="3225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Картинка 38 из 12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1700280"/>
            <a:ext cx="4895640" cy="31208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0" y="4797360"/>
            <a:ext cx="730872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льное атмосферное давление при температуре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не моря на широте 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 760 мм рт.ст.= 1310 г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3:31:43Z</dcterms:created>
  <dc:creator>Рома</dc:creator>
  <dc:description/>
  <dc:language>en-US</dc:language>
  <cp:lastModifiedBy>Admin</cp:lastModifiedBy>
  <dcterms:modified xsi:type="dcterms:W3CDTF">2012-01-22T09:07:17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40000000000010243100207f6000400038000</vt:lpwstr>
  </property>
</Properties>
</file>